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5213" cy="42803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808-3672-4A2E-BC5C-BA1D85B0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2CE-1042-495B-A1E1-D335B6B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8EC-363C-4C83-B1F0-27EC3004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713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672560" y="1236456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01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713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672560" y="25779240"/>
            <a:ext cx="82864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7DA-FA9E-410F-A197-8589408C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B50-47DD-4C1D-840F-F72935AD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25D-2B97-4C92-9181-5940340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3CF-1303-4913-A850-884B0ABC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8D3-F8C0-4271-84FD-FC05767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0160" y="3804840"/>
            <a:ext cx="2573496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865-EE3A-4080-A38B-8741D1EB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03F-9BE0-4C29-9B73-6F83C47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6960" y="2577924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2E6-1A54-4371-B56B-97BDFAF0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01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6960" y="12364560"/>
            <a:ext cx="1255860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0160" y="25779240"/>
            <a:ext cx="2573496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9C8-7FDF-43B4-B3DD-74CCBF3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496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0160" y="12364560"/>
            <a:ext cx="25734960" cy="256827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Times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Times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19640" indent="-1044360">
              <a:spcBef>
                <a:spcPts val="3651"/>
              </a:spcBef>
              <a:buClr>
                <a:srgbClr val="000000"/>
              </a:buClr>
              <a:buFont typeface="Times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07280" indent="-1042920">
              <a:spcBef>
                <a:spcPts val="3651"/>
              </a:spcBef>
              <a:buClr>
                <a:srgbClr val="000000"/>
              </a:buClr>
              <a:buFont typeface="Times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396360" indent="-104436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396360" indent="-104436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396360" indent="-104436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016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4240" y="38998080"/>
            <a:ext cx="95868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7920" y="38998080"/>
            <a:ext cx="6307200" cy="2854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BA9569EE-2FBE-41DE-859E-C90D78711631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75280" cy="51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990720"/>
            <a:ext cx="1859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ew Corporate Identity Poster Desig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2209680"/>
            <a:ext cx="16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rba Choudhury and Sarah Guth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3200400"/>
            <a:ext cx="1737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L Development and Corporate Communications Office, UC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 Tottenham Court Road, London, W1T 9HE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019920"/>
            <a:ext cx="13868640" cy="3375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4720" y="4053852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 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697080" y="6019920"/>
            <a:ext cx="13868640" cy="3375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0385880"/>
            <a:ext cx="2895624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990720"/>
            <a:ext cx="35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3:37:23Z</dcterms:created>
  <dc:creator>Media Resources</dc:creator>
  <dc:description/>
  <dc:language>en-US</dc:language>
  <cp:lastModifiedBy>Media Resources</cp:lastModifiedBy>
  <dcterms:modified xsi:type="dcterms:W3CDTF">2005-07-27T08:47:20Z</dcterms:modified>
  <cp:revision>3</cp:revision>
  <dc:subject/>
  <dc:title>PowerPoint Presentation</dc:title>
</cp:coreProperties>
</file>