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803763" cy="30275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111-05E6-4973-A5E3-3D8D9702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3638412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9400" y="18233640"/>
            <a:ext cx="3638412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171-329C-4819-9376-6FE042D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852720" y="874512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9400" y="1823364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852720" y="1823364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3C4-7B54-4620-82DD-69032C38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1171548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10960" y="8745120"/>
            <a:ext cx="1171548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812520" y="8745120"/>
            <a:ext cx="1171548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9400" y="18233640"/>
            <a:ext cx="1171548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10960" y="18233640"/>
            <a:ext cx="1171548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812520" y="18233640"/>
            <a:ext cx="1171548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397-1716-45A1-9EEF-E9E7D254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9400" y="8745120"/>
            <a:ext cx="36384120" cy="181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422-775D-485E-85DA-4D6D4C7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36384120" cy="1816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58D-918E-41FC-88D5-FD944CF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17755200" cy="1816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852720" y="8745120"/>
            <a:ext cx="17755200" cy="1816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34F-7D8A-45D8-9019-6B8F3593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43F-6C9C-4B3C-B4B6-392EE1A8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09400" y="2690280"/>
            <a:ext cx="36384120" cy="233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BEC-DD50-4477-97AD-96F5CA1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852720" y="8745120"/>
            <a:ext cx="17755200" cy="1816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9400" y="1823364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80C-D947-44D5-AF17-142B6D83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17755200" cy="1816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852720" y="874512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52720" y="1823364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794-DE1C-4075-95CB-8BA1FCA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9400" y="874512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852720" y="8745120"/>
            <a:ext cx="1775520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9400" y="18233640"/>
            <a:ext cx="36384120" cy="8664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254-9134-4B7F-9055-A0DFDEAE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09400" y="2690280"/>
            <a:ext cx="36384120" cy="50468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09400" y="8745120"/>
            <a:ext cx="36384120" cy="1816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 fontScale="96000"/>
          </a:bodyPr>
          <a:p>
            <a:pPr marL="1502640" indent="-1502640">
              <a:spcBef>
                <a:spcPts val="3651"/>
              </a:spcBef>
              <a:buClr>
                <a:srgbClr val="000000"/>
              </a:buClr>
              <a:buFont typeface="Times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256920" indent="-1252800">
              <a:spcBef>
                <a:spcPts val="3651"/>
              </a:spcBef>
              <a:buClr>
                <a:srgbClr val="000000"/>
              </a:buClr>
              <a:buFont typeface="Times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010840" indent="-1002240">
              <a:spcBef>
                <a:spcPts val="3651"/>
              </a:spcBef>
              <a:buClr>
                <a:srgbClr val="000000"/>
              </a:buClr>
              <a:buFont typeface="Times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014960" indent="-1001160">
              <a:spcBef>
                <a:spcPts val="3651"/>
              </a:spcBef>
              <a:buClr>
                <a:srgbClr val="000000"/>
              </a:buClr>
              <a:buFont typeface="Times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020160" indent="-1002240">
              <a:spcBef>
                <a:spcPts val="3651"/>
              </a:spcBef>
              <a:buClr>
                <a:srgbClr val="000000"/>
              </a:buClr>
              <a:buFont typeface="Times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020160" indent="-1002240">
              <a:spcBef>
                <a:spcPts val="3651"/>
              </a:spcBef>
              <a:buClr>
                <a:srgbClr val="000000"/>
              </a:buClr>
              <a:buFont typeface="Times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020160" indent="-1002240">
              <a:spcBef>
                <a:spcPts val="3651"/>
              </a:spcBef>
              <a:buClr>
                <a:srgbClr val="000000"/>
              </a:buClr>
              <a:buFont typeface="Times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09760" y="27583920"/>
            <a:ext cx="8918640" cy="2017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623560" y="27583920"/>
            <a:ext cx="13555800" cy="2017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675240" y="27583920"/>
            <a:ext cx="8918640" cy="20178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D79D6CCB-955C-4631-A2A2-07AD66783B4A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72211" r="0" b="0"/>
          <a:stretch/>
        </p:blipFill>
        <p:spPr>
          <a:xfrm>
            <a:off x="0" y="0"/>
            <a:ext cx="42803640" cy="484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15920" y="442800"/>
            <a:ext cx="2637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New Corporate Identity Poster Desig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15920" y="2259000"/>
            <a:ext cx="194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ba Choudhury and Sarah Guth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5920" y="3718080"/>
            <a:ext cx="207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L Development and Corporate Communications Office, UCL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 Tottenham Court Road, London, W1T 9H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5920" y="5440320"/>
            <a:ext cx="12558960" cy="2267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69960" y="5440320"/>
            <a:ext cx="12558960" cy="2267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17880" y="5440320"/>
            <a:ext cx="12558600" cy="2267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5920" y="28413000"/>
            <a:ext cx="40676760" cy="141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3800" y="2872260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 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1:31:19Z</dcterms:created>
  <dc:creator>Media Resources</dc:creator>
  <dc:description/>
  <dc:language>en-US</dc:language>
  <cp:lastModifiedBy>Media Resources</cp:lastModifiedBy>
  <dcterms:modified xsi:type="dcterms:W3CDTF">2005-07-22T10:32:55Z</dcterms:modified>
  <cp:revision>3</cp:revision>
  <dc:subject/>
  <dc:title>PowerPoint Presentation</dc:title>
</cp:coreProperties>
</file>