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484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016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484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016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FDE0-0A84-4D33-8F8B-5986E3AE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041CB-F59D-4379-AB4E-5866170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60AE-3675-4CBC-A79D-BC997E06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EB7F6-E350-4838-A770-D5B9FD68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C34F6-B2D9-4291-BEFD-F45119C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9880" y="761760"/>
            <a:ext cx="85028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6FEB0-97F6-4ECB-8130-1CF22F7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C72B6-5F32-43AE-9EF9-AB4EC58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21D7F-C90D-4F88-B6BA-F270D3C9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769A8-DA96-4E69-8028-4229E5D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A04F4-5BE1-400E-887D-9973F31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5E92A-F99E-44CD-BA87-547DFF17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484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1016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988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484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1016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555D-5523-4697-BD94-79E33C7A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9880" y="761760"/>
            <a:ext cx="85028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59880" y="6248520"/>
            <a:ext cx="850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0240" y="3049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LAS SCT Off-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7058160" y="373104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urice Goodrick @ Univ of Cambri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48240" y="304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C1: Back Of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-803160" y="2574720"/>
            <a:ext cx="2514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OC1_RunThru of </a:t>
            </a:r>
            <a:fld id="{4299B007-4F62-4EFA-8C8F-67BD5498482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34560" y="5622840"/>
            <a:ext cx="8384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9A19ED-273F-4EC9-B7F5-A591250BC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D25-07D2-436E-894F-AD67EB80E3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A3D-6BD2-4B0E-9AE1-E0F0F2A8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851520" y="762120"/>
            <a:ext cx="20638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1905120"/>
            <a:ext cx="8502840" cy="319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h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CB Loc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h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for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h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Telephone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h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h3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9880" y="1905120"/>
            <a:ext cx="8502840" cy="4038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C1 is the pre-production prototyp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2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production compatible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2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move seamlessly into 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6851520" y="762120"/>
            <a:ext cx="1898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C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59880" y="1523520"/>
            <a:ext cx="8502840" cy="4953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(remarkably small) number of PCB 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duce PCB depth to 220mm (was 240m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Power Monitor and Power-up Re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ock Circuit chan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il-safe provision (PLL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plement a couple of BOC0 patched mod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uble range of fine clock delay to 5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reduce short-term ji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guarantee mark-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ve to New Opto and ASICs: see next sl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e laser interlock provi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36000" rIns="36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C1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762120"/>
            <a:ext cx="28321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59880" y="1447560"/>
            <a:ext cx="8502840" cy="5105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PM12 is major rework of BPM4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2 streams rather than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rives common cathode la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other improv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w Plug-In Opto Modules by Academica Sinica of Taiwa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 x OpTX .. BPM12, VCSEL12 &amp; 2x MDACs (Laser Curren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 x OpRX .. DRX12, PIN12 &amp; 2x MDACs (Thresho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ze: 21x30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OpTX replaces 3x BPM4s, 3x Mitel VCSEL4s, 12 current mirrors &amp; 1.5 MDA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OpTX replaces 1x DRX12, 1x Mitel PIN12 &amp; 1.5 MDA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DAC mapping more difficul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anges to control circui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36000" rIns="36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C1 :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762120"/>
            <a:ext cx="41277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 Opto ..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w O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ademica Sinica OpRX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6370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33920" y="32083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264360" y="4664160"/>
            <a:ext cx="2727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55600" y="1600200"/>
            <a:ext cx="7346520" cy="4981680"/>
            <a:chOff x="1155600" y="1600200"/>
            <a:chExt cx="7346520" cy="4981680"/>
          </a:xfrm>
        </p:grpSpPr>
        <p:grpSp>
          <p:nvGrpSpPr>
            <p:cNvPr id="129" name=""/>
            <p:cNvGrpSpPr/>
            <p:nvPr/>
          </p:nvGrpSpPr>
          <p:grpSpPr>
            <a:xfrm>
              <a:off x="1155600" y="1600200"/>
              <a:ext cx="7346520" cy="4981680"/>
              <a:chOff x="1155600" y="1600200"/>
              <a:chExt cx="7346520" cy="49816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rcRect l="24986" t="4124" r="7841" b="7449"/>
              <a:stretch/>
            </p:blipFill>
            <p:spPr>
              <a:xfrm>
                <a:off x="1155600" y="1600200"/>
                <a:ext cx="7346520" cy="49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 txBox="1"/>
              <p:nvPr/>
            </p:nvSpPr>
            <p:spPr>
              <a:xfrm>
                <a:off x="1155600" y="1600200"/>
                <a:ext cx="7346520" cy="498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201"/>
                  </a:spcBef>
                  <a:buClr>
                    <a:srgbClr val="0000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971720" y="1930320"/>
              <a:ext cx="7862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cc"/>
                  </a:solidFill>
                  <a:latin typeface="Times New Roman"/>
                </a:rPr>
                <a:t>Interloc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0240" y="1600200"/>
            <a:ext cx="8483760" cy="5029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        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762120"/>
            <a:ext cx="51055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lock Diag. Unchang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3680" y="3886200"/>
            <a:ext cx="910800" cy="4374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ith Opt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0MS/s - 2x40MS/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e-Mux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562720" y="3200040"/>
            <a:ext cx="7617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04cr" descr=""/>
          <p:cNvPicPr/>
          <p:nvPr/>
        </p:nvPicPr>
        <p:blipFill>
          <a:blip r:embed="rId1"/>
          <a:stretch/>
        </p:blipFill>
        <p:spPr>
          <a:xfrm>
            <a:off x="3054240" y="1447920"/>
            <a:ext cx="3794400" cy="5181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99200" y="144792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SEL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108480" y="2438280"/>
            <a:ext cx="99036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56160" y="1752480"/>
            <a:ext cx="742680" cy="5335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200" y="297180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P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200560" y="3124080"/>
            <a:ext cx="189864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613120" y="3276720"/>
            <a:ext cx="1485720" cy="1522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0240" y="1447920"/>
            <a:ext cx="198144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ser Current - DACs+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9200" y="228600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i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73360" y="1752480"/>
            <a:ext cx="825480" cy="2286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943600" y="2438280"/>
            <a:ext cx="115560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99200" y="579132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273360" y="5943240"/>
            <a:ext cx="825480" cy="1522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273360" y="6095880"/>
            <a:ext cx="825480" cy="763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99200" y="480060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X amp/discr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860800" y="5105520"/>
            <a:ext cx="1238040" cy="3045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0800" y="4572000"/>
            <a:ext cx="1238040" cy="5335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1680" y="1752480"/>
            <a:ext cx="148572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0240" y="3962520"/>
            <a:ext cx="198144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xel Compa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24120" y="4267080"/>
            <a:ext cx="132084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1680" y="4267080"/>
            <a:ext cx="1568520" cy="6858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240" y="480060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elay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1680" y="5105520"/>
            <a:ext cx="198108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41680" y="5105520"/>
            <a:ext cx="2476440" cy="3045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9200" y="396252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/Hold DA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13120" y="4267080"/>
            <a:ext cx="148572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191280" y="4267080"/>
            <a:ext cx="907920" cy="6858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562720"/>
            <a:ext cx="198144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641680" y="5638680"/>
            <a:ext cx="1155600" cy="763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680" y="5715000"/>
            <a:ext cx="1733400" cy="3049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240" y="2895480"/>
            <a:ext cx="198144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41680" y="3124080"/>
            <a:ext cx="1238040" cy="9144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778360" y="762120"/>
            <a:ext cx="33022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0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429000"/>
            <a:ext cx="198108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-Link Sourc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8080" y="3697200"/>
            <a:ext cx="1859040" cy="951120"/>
          </a:xfrm>
          <a:prstGeom prst="rect">
            <a:avLst/>
          </a:prstGeom>
          <a:noFill/>
          <a:ln w="381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76760" y="3657600"/>
            <a:ext cx="609480" cy="2286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OC1_All_1d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165480" cy="4956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5790960" y="2438280"/>
            <a:ext cx="1307880" cy="2286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9200" y="2286000"/>
            <a:ext cx="19814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TX Plug-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790960" y="1752120"/>
            <a:ext cx="1307880" cy="6858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91320" y="4191120"/>
            <a:ext cx="1295280" cy="759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791320" y="3962160"/>
            <a:ext cx="1295280" cy="2286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724280"/>
            <a:ext cx="2133720" cy="6771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tream CPLDs (80MS/s - 40MS/s      De-Mux cap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5181480"/>
            <a:ext cx="1295280" cy="7621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105520"/>
            <a:ext cx="1295280" cy="3045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5410080"/>
            <a:ext cx="198108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elay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5638680"/>
            <a:ext cx="213372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6019920"/>
            <a:ext cx="198108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VDS Re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181480" y="6095880"/>
            <a:ext cx="1905120" cy="763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54520" y="6172200"/>
            <a:ext cx="2332080" cy="921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343400"/>
            <a:ext cx="213372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778360" y="762120"/>
            <a:ext cx="33022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1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2895480"/>
            <a:ext cx="198108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-Link Sourc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15000" y="3048120"/>
            <a:ext cx="137160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4038480"/>
            <a:ext cx="198108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RX Plug-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1640" y="5638680"/>
            <a:ext cx="25146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523880"/>
            <a:ext cx="213372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 Stream CMOS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1752480"/>
            <a:ext cx="213336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6019920"/>
            <a:ext cx="18288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o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715000"/>
            <a:ext cx="18288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From 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038480"/>
            <a:ext cx="18288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-Up Bus from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733920"/>
            <a:ext cx="18288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from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429000"/>
            <a:ext cx="18288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from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791320" y="4191120"/>
            <a:ext cx="1295280" cy="10666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91320" y="2057400"/>
            <a:ext cx="129528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05520" y="1447920"/>
            <a:ext cx="3504960" cy="5181480"/>
          </a:xfrm>
          <a:prstGeom prst="rect">
            <a:avLst/>
          </a:prstGeom>
          <a:solidFill>
            <a:srgbClr val="459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BOC1_All_1d" descr=""/>
          <p:cNvPicPr/>
          <p:nvPr/>
        </p:nvPicPr>
        <p:blipFill>
          <a:blip r:embed="rId1"/>
          <a:stretch/>
        </p:blipFill>
        <p:spPr>
          <a:xfrm>
            <a:off x="5292720" y="1523880"/>
            <a:ext cx="3165480" cy="4956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762120"/>
            <a:ext cx="458496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0 v BOC1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Image04cr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3794400" cy="5181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155680" y="3832200"/>
            <a:ext cx="358920" cy="3589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4191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4145040"/>
            <a:ext cx="2667240" cy="2255760"/>
          </a:xfrm>
          <a:custGeom>
            <a:avLst/>
            <a:gdLst/>
            <a:ahLst/>
            <a:rect l="l" t="t" r="r" b="b"/>
            <a:pathLst>
              <a:path w="1680" h="1421">
                <a:moveTo>
                  <a:pt x="1440" y="0"/>
                </a:moveTo>
                <a:lnTo>
                  <a:pt x="1537" y="365"/>
                </a:lnTo>
                <a:lnTo>
                  <a:pt x="1680" y="365"/>
                </a:lnTo>
                <a:lnTo>
                  <a:pt x="1680" y="1325"/>
                </a:lnTo>
                <a:lnTo>
                  <a:pt x="1440" y="1325"/>
                </a:lnTo>
                <a:lnTo>
                  <a:pt x="1412" y="1373"/>
                </a:lnTo>
                <a:lnTo>
                  <a:pt x="0" y="1421"/>
                </a:lnTo>
                <a:lnTo>
                  <a:pt x="0" y="605"/>
                </a:lnTo>
                <a:lnTo>
                  <a:pt x="96" y="605"/>
                </a:lnTo>
                <a:lnTo>
                  <a:pt x="96" y="269"/>
                </a:lnTo>
                <a:lnTo>
                  <a:pt x="506" y="267"/>
                </a:lnTo>
                <a:lnTo>
                  <a:pt x="509" y="0"/>
                </a:lnTo>
                <a:lnTo>
                  <a:pt x="144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3886200"/>
            <a:ext cx="685800" cy="1197000"/>
          </a:xfrm>
          <a:custGeom>
            <a:avLst/>
            <a:gdLst/>
            <a:ahLst/>
            <a:rect l="l" t="t" r="r" b="b"/>
            <a:pathLst>
              <a:path w="432" h="754">
                <a:moveTo>
                  <a:pt x="0" y="0"/>
                </a:moveTo>
                <a:lnTo>
                  <a:pt x="288" y="0"/>
                </a:lnTo>
                <a:lnTo>
                  <a:pt x="288" y="240"/>
                </a:lnTo>
                <a:lnTo>
                  <a:pt x="432" y="240"/>
                </a:lnTo>
                <a:lnTo>
                  <a:pt x="430" y="420"/>
                </a:lnTo>
                <a:lnTo>
                  <a:pt x="180" y="422"/>
                </a:lnTo>
                <a:lnTo>
                  <a:pt x="178" y="751"/>
                </a:lnTo>
                <a:lnTo>
                  <a:pt x="2" y="75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0880" y="1692360"/>
            <a:ext cx="2598840" cy="1965240"/>
          </a:xfrm>
          <a:custGeom>
            <a:avLst/>
            <a:gdLst/>
            <a:ahLst/>
            <a:rect l="l" t="t" r="r" b="b"/>
            <a:pathLst>
              <a:path w="1637" h="1238">
                <a:moveTo>
                  <a:pt x="5" y="0"/>
                </a:moveTo>
                <a:lnTo>
                  <a:pt x="786" y="35"/>
                </a:lnTo>
                <a:lnTo>
                  <a:pt x="789" y="96"/>
                </a:lnTo>
                <a:lnTo>
                  <a:pt x="1637" y="134"/>
                </a:lnTo>
                <a:lnTo>
                  <a:pt x="1637" y="1190"/>
                </a:lnTo>
                <a:lnTo>
                  <a:pt x="821" y="1190"/>
                </a:lnTo>
                <a:lnTo>
                  <a:pt x="821" y="1238"/>
                </a:lnTo>
                <a:lnTo>
                  <a:pt x="82" y="1238"/>
                </a:lnTo>
                <a:lnTo>
                  <a:pt x="82" y="1125"/>
                </a:lnTo>
                <a:lnTo>
                  <a:pt x="0" y="1123"/>
                </a:lnTo>
                <a:lnTo>
                  <a:pt x="5" y="0"/>
                </a:lnTo>
                <a:close/>
              </a:path>
            </a:pathLst>
          </a:custGeom>
          <a:solidFill>
            <a:srgbClr val="ec2064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695760"/>
            <a:ext cx="1758960" cy="9586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10800000">
            <a:off x="3458880" y="5098680"/>
            <a:ext cx="194040" cy="87588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Data RX 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598760" y="4195800"/>
            <a:ext cx="44604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07520" y="3814560"/>
            <a:ext cx="38268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t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P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504240" y="3814560"/>
            <a:ext cx="446040" cy="31572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-Li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rot="10800000">
            <a:off x="3281400" y="2152800"/>
            <a:ext cx="315720" cy="1112040"/>
          </a:xfrm>
          <a:prstGeom prst="rect">
            <a:avLst/>
          </a:prstGeom>
          <a:solidFill>
            <a:srgbClr val="ffff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Clock and 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0800000">
            <a:off x="976680" y="2675520"/>
            <a:ext cx="346680" cy="67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XEL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xel_BOC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69276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XEL BOC .. Layers B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XEL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XEL BOC .. Layers 2 and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xel_BOC_2nD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7086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2209680"/>
            <a:ext cx="8502840" cy="4191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s the interface between ROD and Detector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s the interface between ROD and R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eives Clock from TIM via backplane, provides copy for R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 provides ancillary timing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60240" y="1447920"/>
            <a:ext cx="8502840" cy="68580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BOC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1520" y="762120"/>
            <a:ext cx="1898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XEL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XEL BOC .. 80MS/s - 2x 40MS/s De-Mu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62320" y="2075040"/>
            <a:ext cx="6095880" cy="4429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219320" y="2057400"/>
            <a:ext cx="12189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41360" y="2114640"/>
            <a:ext cx="1096920" cy="3879720"/>
            <a:chOff x="1341360" y="2114640"/>
            <a:chExt cx="1096920" cy="3879720"/>
          </a:xfrm>
        </p:grpSpPr>
        <p:sp>
          <p:nvSpPr>
            <p:cNvPr id="240" name=""/>
            <p:cNvSpPr/>
            <p:nvPr/>
          </p:nvSpPr>
          <p:spPr>
            <a:xfrm>
              <a:off x="1422720" y="3448440"/>
              <a:ext cx="70992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/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(80MS/s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41360" y="2114640"/>
              <a:ext cx="1096920" cy="3879720"/>
            </a:xfrm>
            <a:custGeom>
              <a:avLst/>
              <a:gdLst/>
              <a:ahLst/>
              <a:rect l="l" t="t" r="r" b="b"/>
              <a:pathLst>
                <a:path w="691" h="2444">
                  <a:moveTo>
                    <a:pt x="691" y="6"/>
                  </a:moveTo>
                  <a:lnTo>
                    <a:pt x="0" y="0"/>
                  </a:lnTo>
                  <a:lnTo>
                    <a:pt x="0" y="2444"/>
                  </a:lnTo>
                  <a:lnTo>
                    <a:pt x="691" y="24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1640" y="38862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2286000" y="3124080"/>
            <a:ext cx="99072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429000"/>
            <a:ext cx="9446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-24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XEL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XEL BOC .. 80MS/s - 2x 40MS/s De-Mu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49160" y="2090880"/>
            <a:ext cx="8315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XEL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XEL BOC .. 80MS/s - 2x 40MS/s De-Mu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8315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0240" y="1905120"/>
            <a:ext cx="848376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1447920"/>
            <a:ext cx="84837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ull set of BOC1 Schematics can be found in BOC1_Drg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905120"/>
            <a:ext cx="4191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2 &amp; J3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wer Mon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PIN regulator for PIN Bias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ock Generation Circuitry and Fan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CP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allback Crystal Osc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ock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cator LE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-Up Bus Buff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MOS Buffers for BPM Control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-Link Wi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adow RAM for Readback of Ser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1981080"/>
            <a:ext cx="4191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s 5-6: Clock an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pTX Module Connections and Buff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s 7-10: Data Receiver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pRX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VDS Data Rece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OS4 Data Delay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ta Stream CP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VDS Clock Rece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DAC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LD In-System Programming Conn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t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ta Stream Buffers for ROD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BOC1_Sections" descr=""/>
          <p:cNvPicPr/>
          <p:nvPr/>
        </p:nvPicPr>
        <p:blipFill>
          <a:blip r:embed="rId1"/>
          <a:stretch/>
        </p:blipFill>
        <p:spPr>
          <a:xfrm>
            <a:off x="1292400" y="1544760"/>
            <a:ext cx="73180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BOC1_Clock_Dist" descr=""/>
          <p:cNvPicPr/>
          <p:nvPr/>
        </p:nvPicPr>
        <p:blipFill>
          <a:blip r:embed="rId1"/>
          <a:stretch/>
        </p:blipFill>
        <p:spPr>
          <a:xfrm>
            <a:off x="1292400" y="1555920"/>
            <a:ext cx="73180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762120"/>
            <a:ext cx="35942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ock Det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BOC1_Clock_Detail" descr=""/>
          <p:cNvPicPr/>
          <p:nvPr/>
        </p:nvPicPr>
        <p:blipFill>
          <a:blip r:embed="rId1"/>
          <a:stretch/>
        </p:blipFill>
        <p:spPr>
          <a:xfrm>
            <a:off x="1292400" y="1579680"/>
            <a:ext cx="73180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762120"/>
            <a:ext cx="412776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ock &amp; Com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BOC1_Clock_n_Command" descr=""/>
          <p:cNvPicPr/>
          <p:nvPr/>
        </p:nvPicPr>
        <p:blipFill>
          <a:blip r:embed="rId1"/>
          <a:stretch/>
        </p:blipFill>
        <p:spPr>
          <a:xfrm>
            <a:off x="2436840" y="1579680"/>
            <a:ext cx="5032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3720" y="762120"/>
            <a:ext cx="39769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ta RX 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BOC1_RX_Section" descr=""/>
          <p:cNvPicPr/>
          <p:nvPr/>
        </p:nvPicPr>
        <p:blipFill>
          <a:blip r:embed="rId1"/>
          <a:stretch/>
        </p:blipFill>
        <p:spPr>
          <a:xfrm>
            <a:off x="2470320" y="1562040"/>
            <a:ext cx="4960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502840" cy="5029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D &lt;-&gt; Module interfa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ock and Command streams to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ock-control encoding and timing tri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al to fibre-optic conve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ta streams from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bre-optic to electrical conve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ta sync and timing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D &lt;-&gt; ROB interfa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ical to Opto with error detection and correction plus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851520" y="762120"/>
            <a:ext cx="1898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523520"/>
            <a:ext cx="8502840" cy="449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0 was the proof-of-principle 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ll scale (48 command, 96 data strea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ailable components (opto &amp; ASI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PM4 &amp; Current Mirrors &amp; Quad VC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st bench for some circu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ll function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inc. Some Pixel 80MHz stream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851520" y="762120"/>
            <a:ext cx="14544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 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523520"/>
            <a:ext cx="8502840" cy="487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s VME access to BOC via Set-Up Bus - @ front of crate in place of R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ows SLOG to drive all 48 command streams (fanned out from 1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lects 12 of the 96 data streams for Must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s specialised test facili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NAPshot of the 12 selected stre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OPE M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tion of 80MHz Pixel test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603840" y="762120"/>
            <a:ext cx="24768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-R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es all v1 do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vides 12 un-encoded command streams in optical form to give 12 SLOG-derived opto signals for BOC data stream tes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80MHz Pixel data mode should work for 6 of these stre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ard Manufactured, but not fully tes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OC-RIGs key to BOC1 t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1 Run Thru:          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5861160" y="762120"/>
            <a:ext cx="3219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C-RIG v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C0 Test Results: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502840" cy="495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t-Up Bus operations work fin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ad and write to BOC registers generally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nufacturer # top bit sometimes wrong: hole in ROD or BOC logic code .. Fix very unlikely to need schematic ch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BPM4 registers OK (BPM4 read-back known not to 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laser current DACs OK (serial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data threshold DACs OK (serial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data delay chips OK (I2C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clock delay (fine and coarse)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to clock control ccts OK … but will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108840" y="762120"/>
            <a:ext cx="29718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t-Up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8502480" cy="495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rong pin-out for PIN array means streams reach ROD in wrong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worth fixing on BOC0 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mply fixed on BOC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ye-pattern looks very go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reshold scans not completely clean: probably due to laser defici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lay scans show timing jitter on looped-back data of well less than 1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reams implemented in CPLDs 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-Muxing from 80MS/s to 40MS/s is g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0 Test Results: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613480" y="762120"/>
            <a:ext cx="34671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ta St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36000" rIns="36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C0 Testing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ck the S-Lin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-Link components still not complete (awaiting the ODIN Link Source Ca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rolling module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low command data from modul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. Eg. Front-end regi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ta from Modules ?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.. real and calib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stem set-up oper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signing and refining proced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e the provisions good enough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762120"/>
            <a:ext cx="22222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t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9:12:38Z</dcterms:created>
  <dc:creator>goodrick</dc:creator>
  <dc:description/>
  <dc:language>en-US</dc:language>
  <cp:lastModifiedBy>goodrick</cp:lastModifiedBy>
  <cp:lastPrinted>2001-11-15T10:48:15Z</cp:lastPrinted>
  <dcterms:modified xsi:type="dcterms:W3CDTF">2001-11-15T11:58:22Z</dcterms:modified>
  <cp:revision>67</cp:revision>
  <dc:subject/>
  <dc:title>No Slide Title</dc:title>
</cp:coreProperties>
</file>