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907588" cy="6858000"/>
  <p:notesSz cx="9907588" cy="678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8502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992040"/>
            <a:ext cx="8502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696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99204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6960" y="399204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4840" y="152388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10160" y="152388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99204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4840" y="399204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10160" y="399204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B00BB-F655-48A1-B36A-4FC7EAAD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59880" y="1523880"/>
            <a:ext cx="8502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1CFCE-EBE5-4B82-9220-1E837586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8502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3C6B3-AE86-4179-9317-B1217113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4149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16960" y="1523880"/>
            <a:ext cx="4149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95731-7A55-4170-BE10-4150146E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D0E1F-9E04-486C-B7D9-48600275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59880" y="761760"/>
            <a:ext cx="85028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6E07A-7020-488C-A63C-753C92BB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6960" y="1523880"/>
            <a:ext cx="4149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9880" y="399204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4A689-7F0B-44E9-B24D-2E654A81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523880"/>
            <a:ext cx="8502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4149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696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16960" y="399204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6820D-38E8-4E10-AB8F-19CA5461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696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9880" y="3992040"/>
            <a:ext cx="8502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F1E50-961F-48F4-BF45-9FF11904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8502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59880" y="3992040"/>
            <a:ext cx="8502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A53F1-4895-432E-BD92-57436EF4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696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9880" y="399204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16960" y="399204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BB78D-C99C-403F-8F5B-9600BDED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4840" y="152388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10160" y="152388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59880" y="399204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4840" y="399204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10160" y="3992040"/>
            <a:ext cx="2737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83F00-BAAC-4501-8FA3-70258DF6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8502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4149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6960" y="1523880"/>
            <a:ext cx="4149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9880" y="761760"/>
            <a:ext cx="85028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6960" y="1523880"/>
            <a:ext cx="4149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99204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4149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696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6960" y="399204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9880" y="745200"/>
            <a:ext cx="8502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6960" y="1523880"/>
            <a:ext cx="4149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992040"/>
            <a:ext cx="8502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9880" y="1523880"/>
            <a:ext cx="8502840" cy="4724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59880" y="6248520"/>
            <a:ext cx="850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0240" y="30492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LAS SCT Off-Detector 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7058160" y="373104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aurice Goodrick @ Univ of Cambri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448240" y="30492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C1: Back Of C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-993960" y="2765520"/>
            <a:ext cx="28958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OC1_RunThru_Part2 of </a:t>
            </a:r>
            <a:fld id="{DD982AD4-BE78-4DC6-9CE6-9617B27C2B5E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34560" y="5622840"/>
            <a:ext cx="8384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FCB9D49-A62F-4C65-8272-91DD6BEE0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9C03-B149-4B16-BA63-224EAB44822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39B3-FC3D-4C02-9854-4DEEA5044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C1 Run Thru:                 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5487840" y="762120"/>
            <a:ext cx="35928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y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0240" y="1447920"/>
            <a:ext cx="8483760" cy="5181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OC1_Clock_Dist" descr=""/>
          <p:cNvPicPr/>
          <p:nvPr/>
        </p:nvPicPr>
        <p:blipFill>
          <a:blip r:embed="rId1"/>
          <a:stretch/>
        </p:blipFill>
        <p:spPr>
          <a:xfrm>
            <a:off x="1293840" y="1555920"/>
            <a:ext cx="731664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C1 Run Thru:                 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5487840" y="762120"/>
            <a:ext cx="35928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ock Det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0240" y="1447920"/>
            <a:ext cx="8483760" cy="5181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OC1_Clock_Detail" descr=""/>
          <p:cNvPicPr/>
          <p:nvPr/>
        </p:nvPicPr>
        <p:blipFill>
          <a:blip r:embed="rId1"/>
          <a:stretch/>
        </p:blipFill>
        <p:spPr>
          <a:xfrm>
            <a:off x="1293840" y="1579680"/>
            <a:ext cx="731664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C1 Run Thru:                     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5103720" y="762120"/>
            <a:ext cx="397692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ock &amp; Comm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0240" y="1447920"/>
            <a:ext cx="8483760" cy="5181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BOC1_Clock_n_Command" descr=""/>
          <p:cNvPicPr/>
          <p:nvPr/>
        </p:nvPicPr>
        <p:blipFill>
          <a:blip r:embed="rId1"/>
          <a:stretch/>
        </p:blipFill>
        <p:spPr>
          <a:xfrm>
            <a:off x="2436840" y="1579680"/>
            <a:ext cx="503244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9880" y="761760"/>
            <a:ext cx="8502840" cy="609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C1 Run Thru:                     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5103720" y="762120"/>
            <a:ext cx="397692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ata RX S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0240" y="1447920"/>
            <a:ext cx="8483760" cy="5181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C1_RX_Section" descr=""/>
          <p:cNvPicPr/>
          <p:nvPr/>
        </p:nvPicPr>
        <p:blipFill>
          <a:blip r:embed="rId1"/>
          <a:stretch/>
        </p:blipFill>
        <p:spPr>
          <a:xfrm>
            <a:off x="2470320" y="1562040"/>
            <a:ext cx="49608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09:12:38Z</dcterms:created>
  <dc:creator>goodrick</dc:creator>
  <dc:description/>
  <dc:language>en-US</dc:language>
  <cp:lastModifiedBy>goodrick</cp:lastModifiedBy>
  <cp:lastPrinted>2001-11-14T10:41:38Z</cp:lastPrinted>
  <dcterms:modified xsi:type="dcterms:W3CDTF">2001-11-15T11:58:19Z</dcterms:modified>
  <cp:revision>72</cp:revision>
  <dc:subject/>
  <dc:title>No Slide Title</dc:title>
</cp:coreProperties>
</file>