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70485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FB6A-17E7-403A-A44C-090B97AF9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6BD2-7C41-4015-8F02-035F9AECA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3468-1B15-4B5E-A78F-F24335F1C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2228-27DB-4233-97B7-2D5864AC7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0D8F-1DB3-4C2E-862B-173225B1D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2D14-5628-4FE4-A88A-7CAAAFAE9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013C-0AF1-44CE-B927-034AB6A5F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1CD5-A2BA-46D3-B34A-1D90D0DDF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7382-79F9-44AC-912E-FFFA407D1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8C2A-BDCA-4913-9108-F8A201E8A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36AF-97F6-44D5-8A1E-AB3213851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724C-66C1-4791-960F-5A60F7B06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3BB77-FF02-423C-810D-8E736FF04B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857160" y="1090440"/>
          <a:ext cx="7431120" cy="467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7160" y="1090440"/>
                    <a:ext cx="7431120" cy="467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857160" y="1090440"/>
          <a:ext cx="7431120" cy="467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7160" y="1090440"/>
                    <a:ext cx="7431120" cy="467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857160" y="1090440"/>
          <a:ext cx="7431120" cy="467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7160" y="1090440"/>
                    <a:ext cx="7431120" cy="467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843120" y="1090440"/>
          <a:ext cx="7459560" cy="467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3120" y="1090440"/>
                    <a:ext cx="7459560" cy="467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857160" y="1090440"/>
          <a:ext cx="7431120" cy="467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7160" y="1090440"/>
                    <a:ext cx="7431120" cy="467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09:07:46Z</dcterms:created>
  <dc:creator>Richard Jared</dc:creator>
  <dc:description/>
  <dc:language>en-US</dc:language>
  <cp:lastModifiedBy>rjared</cp:lastModifiedBy>
  <cp:lastPrinted>2000-10-23T18:56:00Z</cp:lastPrinted>
  <dcterms:modified xsi:type="dcterms:W3CDTF">2000-10-23T18:56:08Z</dcterms:modified>
  <cp:revision>14</cp:revision>
  <dc:subject/>
  <dc:title>No Slide Title</dc:title>
</cp:coreProperties>
</file>