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CB3-9070-4AE7-B431-7F5B3150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397-516D-4527-9C86-59C2C8B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221-FF56-403E-81B7-9FE4BD9B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856-76C3-4491-9994-1C515E0A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F9B-92A2-4BC1-AC0E-F4036B3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2D5-2C98-415F-8276-35441BB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30E-F167-4D5A-AD22-F8F9D8CE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B86-D043-4A0B-B420-9B8C265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030-CA87-435E-A36E-F10796E2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043-F1B7-4FCF-8E20-B18B182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6A9-66CB-4FAB-AF95-3A60E8B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96D-AA55-4B6B-8C94-B37E26C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2EA1-44B6-4C4D-B3AA-95D553453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DCD7-C6C0-4836-B983-B0664263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 (BOC)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81536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1 is the pre-production proto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sing production compatibl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hould move seamlessly int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Connectors for the optical components will be change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ductiion PCB manufactured (11 ea.) -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(commercial delivered (for 11 BO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CB manufactured (11 ea.) -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ave receipt of 2 TX &amp; 3 RX Opto Plug-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pe to have more Opto Plug-Ins by June (Limited by lack of ASIC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sting has BOC1 has started with reading and writing of regis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sting is expected to be completed in 6 wee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 specific concern for the ROD FD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AFB7-2B89-4A00-B18D-B3107B20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1932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 upd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is operational for user evaluation nee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sign and fabricate production TIM (CPLDs are obsolet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ne for the FDR of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x more TIMs (iteration of prototype) to be manufactured soon for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3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BB2A-E8BF-4677-AB5C-877BA709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760" y="4525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78360" y="861840"/>
            <a:ext cx="6379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78360" y="3605040"/>
            <a:ext cx="63792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45000" y="861840"/>
            <a:ext cx="954360" cy="418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861840"/>
            <a:ext cx="609840" cy="517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7240" y="413856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7240" y="345276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7240" y="276696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7240" y="208116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2320" y="5129280"/>
            <a:ext cx="1676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8840" y="4138560"/>
            <a:ext cx="60948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8840" y="3452760"/>
            <a:ext cx="60948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08840" y="2766960"/>
            <a:ext cx="60948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08840" y="2081160"/>
            <a:ext cx="60948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8320" y="12430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5120" y="2004840"/>
            <a:ext cx="557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92560" y="4976640"/>
            <a:ext cx="1560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24560" y="429084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24560" y="154764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5120" y="1547640"/>
            <a:ext cx="0" cy="347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56760" y="1319040"/>
            <a:ext cx="685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160" y="10144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160" y="8618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0DATA 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7160" y="1319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160" y="11667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160" y="17762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6160" y="16239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160" y="208116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6160" y="1928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253836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5800" y="238608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4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7160" y="2843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160" y="2690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5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160" y="33004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160" y="31478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6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160" y="3605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160" y="34527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7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7160" y="40622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5800" y="390996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8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160" y="436716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160" y="4214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59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482436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6160" y="46720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60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160" y="5129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160" y="4976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0200" y="10810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8320" y="20048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0560" y="1843200"/>
            <a:ext cx="493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276696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0200" y="26049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68320" y="35290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0200" y="33670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8320" y="42908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0200" y="41292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68320" y="505296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8909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00480" y="1547640"/>
            <a:ext cx="6778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4480" y="138600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09840" y="4290840"/>
            <a:ext cx="6685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4480" y="412920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2320" y="4815000"/>
            <a:ext cx="797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      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der/Trai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7800" y="184320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399360" y="1243080"/>
            <a:ext cx="761760" cy="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9080" y="109044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99360" y="239544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18360" y="223344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99360" y="308124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8360" y="291924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9360" y="384336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8360" y="368136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99360" y="445284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360" y="429084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5320" y="1157400"/>
            <a:ext cx="6220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LINK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18320" y="23860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04120" y="23860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08840" y="5129280"/>
            <a:ext cx="12952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5433840"/>
            <a:ext cx="1484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6520" y="5272200"/>
            <a:ext cx="121536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EventDATA   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09840" y="5433840"/>
            <a:ext cx="6098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008480" y="6167520"/>
            <a:ext cx="19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8680" y="6167520"/>
            <a:ext cx="1204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TriggerDATA    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37680" y="222408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8320" y="30718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37680" y="290988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18320" y="37576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37680" y="359568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18320" y="44434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7680" y="428148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8840" y="54817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5520" y="12430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42908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25520" y="124308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25520" y="2004840"/>
            <a:ext cx="1800" cy="16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25520" y="429084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1120" y="1014480"/>
            <a:ext cx="7621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 Fi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bx4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3240" y="1014480"/>
            <a:ext cx="6094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160" y="55864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160" y="54338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7160" y="5891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160" y="57387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7160" y="63482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6160" y="61959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4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160" y="665316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800" y="650088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951DATA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8320" y="58150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0200" y="56530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68320" y="65768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0200" y="64152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225520" y="5052960"/>
            <a:ext cx="1800" cy="16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5240" y="8618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5240" y="16239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5240" y="23860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5240" y="31478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5240" y="39099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5240" y="46720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5240" y="54338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5240" y="61959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399360" y="141444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18720" y="1252440"/>
            <a:ext cx="7452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Valid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8840" y="5938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4640" y="5786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ME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6920" y="540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798800" y="6243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440" y="6091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 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0920" y="5557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B046-EB03-411E-8787-8C5912233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21932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RODs (4 ea.) have been fabric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bugging was complete on four cards.  The new memory test primitive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covered SDRAM errors on Slaves 1 and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has one production model ROD for system tes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F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 the Formatter, Event Fragment Builder,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 Slave DSP is wor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ation is work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 is wor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A from router to slave DSP is being upgra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A from slave DSP to Host   (RCC) is wor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E (A32, D32) read/write to the ROD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nning primitives in the Master/Slave DSP wor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ler FPGA is  wor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ing of front end modules is being upgraded with coun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BCO etc.) and registers (event typ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of front end modules is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120-F389-4CBF-AF4C-0BF60895D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15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rdware upgrades requi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to enable trapping of module configuration return data (pix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to provide ROD based counters of BCOs, Triggers and regis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vent type related data for stand alone op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for recognition of fast command on the serial data streams 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 DSP via the controller to the front end mod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HDL for new Router Trapping algorithms and DMA frame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990-92D9-4F87-872D-835908EB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295280"/>
            <a:ext cx="81536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Stand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will be used for the early tests at Cambridge. Wi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and this for early user evaluation.  The primitive tran_serial_data will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anded to configure modules with user supplied serial strea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is about 85%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emaining software is for the production test 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P Software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SP primitive software will allow for Module/ROD/BOC configur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ing of modules and read out of events to the crate process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rupts are working with  BIOS work under Texas Instruments (T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rary 1.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 grad to TI library 2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ote TI libraries 1.0, 1.2 and 2.0 are not compat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0B8-B503-4540-AF16-A3B25D8E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3716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P Software Upgrade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rove the DSP processing of event data so it has event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number of word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histogram packages in the slave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send data (Programmed I/O and DMA based) (slave to h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calibration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DMA handling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e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RODs (4 ea.) have been fabr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 far these 4 RODs will be part of the production RODs (100 ea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s and PC boards are in hand to fabricate 9 more R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evaluation from 2/02 till 5/02 is needed to have FDR of R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brication of 9 RODs will follow F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R should be 8/02 for fabrication of RODs (total of 1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s 8ea. will be purchased when CERN has the purchase order in plac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41444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evaluation is needed for the ROD to proceed to production.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s to be much activity in the next 2 months to keep to the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the reason for external memory errors with slaves 1 and 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AQ effort is of part time personnel.  This makes the prediction of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R in the 8th month doubtful.  In my opinion this must be changed i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AQ has any hope of being ready before the end of the fiscal y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may have to use the test stand to continue the user evalu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orts are underway to define what is needed to show that the ROD mee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evaluation needs of the FDR (permision to build 9 more ROD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72E-27A6-4FDC-97B3-672EF671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April  3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06668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definition of evaluation needs by P. Phillips and R. Jared are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figuration uses primitives read_Write_Register to configure BOC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D and tran_Serial_Data to configure front end modu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existing primitives with software and VHDL being develop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triggers, then send data to host (user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Calibration to histogram in the slave DSPs. Demonstration is need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 time used to histogram modules connected to a R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one or more module will be us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the input FIFOs to generate events at 100kHz to the S-Link. Use log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zer and event trapping of events in slave DSP to check event qua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eeting (P. Phillips, R. Jared and J. Hill) will be held at Abingdon 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 May 6th to refine the definitions above.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1048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BE2-4C11-4905-A978-6F5BDE91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6:28:47Z</dcterms:created>
  <dc:creator>LBNL</dc:creator>
  <dc:description/>
  <dc:language>en-US</dc:language>
  <cp:lastModifiedBy>LBNL</cp:lastModifiedBy>
  <cp:lastPrinted>2002-04-29T16:23:07Z</cp:lastPrinted>
  <dcterms:modified xsi:type="dcterms:W3CDTF">2002-04-29T16:41:07Z</dcterms:modified>
  <cp:revision>5</cp:revision>
  <dc:subject/>
  <dc:title>No Slide Title</dc:title>
</cp:coreProperties>
</file>