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700246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081188-ED51-4276-833E-CD63D99A7E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37B6F-4F25-4DE5-96CF-60532B9ED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2246B3-8014-4695-969F-106BACBD56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8E0FD8-C9CB-4510-9586-4DDAB7832C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B51E6-A55B-4481-BD0A-53AB59F7F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C5407-B21F-4E67-92ED-0EF139A7D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D9905-5AAB-4286-A287-8267B2CF7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2D9F7-0A5E-430C-94DC-4E5B8293C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2E293-E020-421C-AD44-55A419CCE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78CD9-09B6-468B-B81C-063DF3BE4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8C789-C5F4-48BE-9A39-C706DF4F9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B6FFC-ABCC-4327-9FD3-10503FBCA3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1A4F2-12E2-4699-9992-FAEB731AB8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LAS</a:t>
            </a:r>
            <a:br>
              <a:rPr sz="4400"/>
            </a:br>
            <a:r>
              <a:rPr b="0" lang="en-US" sz="4400" spc="-1" strike="noStrike">
                <a:solidFill>
                  <a:srgbClr val="000000"/>
                </a:solidFill>
                <a:latin typeface="Times New Roman"/>
              </a:rPr>
              <a:t>Pre-Production ROD Status</a:t>
            </a:r>
            <a:br>
              <a:rPr sz="4400"/>
            </a:br>
            <a:r>
              <a:rPr b="0" lang="en-US" sz="4400" spc="-1" strike="noStrike">
                <a:solidFill>
                  <a:srgbClr val="000000"/>
                </a:solidFill>
                <a:latin typeface="Times New Roman"/>
              </a:rPr>
              <a:t>SCT Version</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4724280"/>
            <a:ext cx="6400800" cy="914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ril 30, 200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151920"/>
            <a:ext cx="853416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 Overview: SCT version (Simplified Block Diagram)</a:t>
            </a:r>
            <a:endParaRPr b="0" lang="en-US" sz="2400" spc="-1" strike="noStrike">
              <a:solidFill>
                <a:srgbClr val="000000"/>
              </a:solidFill>
              <a:latin typeface="Times New Roman"/>
            </a:endParaRPr>
          </a:p>
        </p:txBody>
      </p:sp>
      <p:sp>
        <p:nvSpPr>
          <p:cNvPr id="44" name=""/>
          <p:cNvSpPr/>
          <p:nvPr/>
        </p:nvSpPr>
        <p:spPr>
          <a:xfrm>
            <a:off x="2295360" y="2174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5" name=""/>
          <p:cNvSpPr/>
          <p:nvPr/>
        </p:nvSpPr>
        <p:spPr>
          <a:xfrm>
            <a:off x="0" y="60948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7848720" y="914400"/>
            <a:ext cx="60948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7825320" y="939960"/>
            <a:ext cx="6562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NK</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O</a:t>
            </a:r>
            <a:endParaRPr b="0" lang="en-US" sz="1200" spc="-1" strike="noStrike">
              <a:solidFill>
                <a:srgbClr val="000000"/>
              </a:solidFill>
              <a:latin typeface="Times New Roman"/>
            </a:endParaRPr>
          </a:p>
        </p:txBody>
      </p:sp>
      <p:sp>
        <p:nvSpPr>
          <p:cNvPr id="48" name=""/>
          <p:cNvSpPr/>
          <p:nvPr/>
        </p:nvSpPr>
        <p:spPr>
          <a:xfrm>
            <a:off x="8051760" y="5553000"/>
            <a:ext cx="63504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2M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DRAM</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9" name=""/>
          <p:cNvSpPr/>
          <p:nvPr/>
        </p:nvSpPr>
        <p:spPr>
          <a:xfrm>
            <a:off x="7848720" y="1965240"/>
            <a:ext cx="99036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7867800" y="1965240"/>
            <a:ext cx="973080" cy="45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SP0</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MS320C6701</a:t>
            </a:r>
            <a:endParaRPr b="0" lang="en-US" sz="1000" spc="-1" strike="noStrike">
              <a:solidFill>
                <a:srgbClr val="000000"/>
              </a:solidFill>
              <a:latin typeface="Times New Roman"/>
            </a:endParaRPr>
          </a:p>
        </p:txBody>
      </p:sp>
      <p:sp>
        <p:nvSpPr>
          <p:cNvPr id="51" name=""/>
          <p:cNvSpPr/>
          <p:nvPr/>
        </p:nvSpPr>
        <p:spPr>
          <a:xfrm>
            <a:off x="8051760" y="2346480"/>
            <a:ext cx="63504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2M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DRAM</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2" name=""/>
          <p:cNvSpPr/>
          <p:nvPr/>
        </p:nvSpPr>
        <p:spPr>
          <a:xfrm>
            <a:off x="7832880" y="3032280"/>
            <a:ext cx="100620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853400" y="3032280"/>
            <a:ext cx="973080" cy="611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SP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MS320C6701</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4" name=""/>
          <p:cNvSpPr/>
          <p:nvPr/>
        </p:nvSpPr>
        <p:spPr>
          <a:xfrm>
            <a:off x="8035920" y="3413160"/>
            <a:ext cx="63504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2M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DRAM</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5" name=""/>
          <p:cNvSpPr/>
          <p:nvPr/>
        </p:nvSpPr>
        <p:spPr>
          <a:xfrm>
            <a:off x="7848720" y="4098960"/>
            <a:ext cx="99036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7869240" y="4098960"/>
            <a:ext cx="973080" cy="611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SP2</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MS320C6701</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7" name=""/>
          <p:cNvSpPr/>
          <p:nvPr/>
        </p:nvSpPr>
        <p:spPr>
          <a:xfrm>
            <a:off x="8051760" y="4479840"/>
            <a:ext cx="63504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2M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DRAM</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 name=""/>
          <p:cNvSpPr/>
          <p:nvPr/>
        </p:nvSpPr>
        <p:spPr>
          <a:xfrm>
            <a:off x="7848720" y="5241960"/>
            <a:ext cx="99036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893000" y="5241960"/>
            <a:ext cx="973080" cy="611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SP3</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MS320C6701</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0" name=""/>
          <p:cNvSpPr/>
          <p:nvPr/>
        </p:nvSpPr>
        <p:spPr>
          <a:xfrm>
            <a:off x="2158920" y="882720"/>
            <a:ext cx="1117800" cy="488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169720" y="838080"/>
            <a:ext cx="1107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matter 0</a:t>
            </a:r>
            <a:endParaRPr b="0" lang="en-US" sz="1400" spc="-1" strike="noStrike">
              <a:solidFill>
                <a:srgbClr val="000000"/>
              </a:solidFill>
              <a:latin typeface="Times New Roman"/>
            </a:endParaRPr>
          </a:p>
        </p:txBody>
      </p:sp>
      <p:sp>
        <p:nvSpPr>
          <p:cNvPr id="62" name=""/>
          <p:cNvSpPr/>
          <p:nvPr/>
        </p:nvSpPr>
        <p:spPr>
          <a:xfrm>
            <a:off x="2133720" y="1050840"/>
            <a:ext cx="1218960" cy="38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nks 0 - 11</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XCV400E-6FG676</a:t>
            </a:r>
            <a:endParaRPr b="0" lang="en-US" sz="900" spc="-1" strike="noStrike">
              <a:solidFill>
                <a:srgbClr val="000000"/>
              </a:solidFill>
              <a:latin typeface="Times New Roman"/>
            </a:endParaRPr>
          </a:p>
        </p:txBody>
      </p:sp>
      <p:sp>
        <p:nvSpPr>
          <p:cNvPr id="63" name=""/>
          <p:cNvSpPr/>
          <p:nvPr/>
        </p:nvSpPr>
        <p:spPr>
          <a:xfrm>
            <a:off x="2158920" y="1415880"/>
            <a:ext cx="1117800" cy="489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169720" y="1371600"/>
            <a:ext cx="1107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matter 1</a:t>
            </a:r>
            <a:endParaRPr b="0" lang="en-US" sz="1400" spc="-1" strike="noStrike">
              <a:solidFill>
                <a:srgbClr val="000000"/>
              </a:solidFill>
              <a:latin typeface="Times New Roman"/>
            </a:endParaRPr>
          </a:p>
        </p:txBody>
      </p:sp>
      <p:sp>
        <p:nvSpPr>
          <p:cNvPr id="65" name=""/>
          <p:cNvSpPr/>
          <p:nvPr/>
        </p:nvSpPr>
        <p:spPr>
          <a:xfrm>
            <a:off x="2158920" y="1949400"/>
            <a:ext cx="1117800" cy="488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169720" y="1905120"/>
            <a:ext cx="1107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matter 2</a:t>
            </a:r>
            <a:endParaRPr b="0" lang="en-US" sz="1400" spc="-1" strike="noStrike">
              <a:solidFill>
                <a:srgbClr val="000000"/>
              </a:solidFill>
              <a:latin typeface="Times New Roman"/>
            </a:endParaRPr>
          </a:p>
        </p:txBody>
      </p:sp>
      <p:sp>
        <p:nvSpPr>
          <p:cNvPr id="67" name=""/>
          <p:cNvSpPr/>
          <p:nvPr/>
        </p:nvSpPr>
        <p:spPr>
          <a:xfrm>
            <a:off x="2158920" y="2482920"/>
            <a:ext cx="1117800" cy="488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169720" y="2438280"/>
            <a:ext cx="1107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matter 3</a:t>
            </a:r>
            <a:endParaRPr b="0" lang="en-US" sz="1400" spc="-1" strike="noStrike">
              <a:solidFill>
                <a:srgbClr val="000000"/>
              </a:solidFill>
              <a:latin typeface="Times New Roman"/>
            </a:endParaRPr>
          </a:p>
        </p:txBody>
      </p:sp>
      <p:sp>
        <p:nvSpPr>
          <p:cNvPr id="69" name=""/>
          <p:cNvSpPr/>
          <p:nvPr/>
        </p:nvSpPr>
        <p:spPr>
          <a:xfrm>
            <a:off x="2295360" y="4308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0" name=""/>
          <p:cNvSpPr/>
          <p:nvPr/>
        </p:nvSpPr>
        <p:spPr>
          <a:xfrm>
            <a:off x="2158920" y="3016080"/>
            <a:ext cx="1117800" cy="489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169720" y="2971800"/>
            <a:ext cx="1107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matter 4</a:t>
            </a:r>
            <a:endParaRPr b="0" lang="en-US" sz="1400" spc="-1" strike="noStrike">
              <a:solidFill>
                <a:srgbClr val="000000"/>
              </a:solidFill>
              <a:latin typeface="Times New Roman"/>
            </a:endParaRPr>
          </a:p>
        </p:txBody>
      </p:sp>
      <p:sp>
        <p:nvSpPr>
          <p:cNvPr id="72" name=""/>
          <p:cNvSpPr/>
          <p:nvPr/>
        </p:nvSpPr>
        <p:spPr>
          <a:xfrm>
            <a:off x="2158920" y="3549600"/>
            <a:ext cx="1117800" cy="488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169720" y="3505320"/>
            <a:ext cx="1107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matter 5</a:t>
            </a:r>
            <a:endParaRPr b="0" lang="en-US" sz="1400" spc="-1" strike="noStrike">
              <a:solidFill>
                <a:srgbClr val="000000"/>
              </a:solidFill>
              <a:latin typeface="Times New Roman"/>
            </a:endParaRPr>
          </a:p>
        </p:txBody>
      </p:sp>
      <p:sp>
        <p:nvSpPr>
          <p:cNvPr id="74" name=""/>
          <p:cNvSpPr/>
          <p:nvPr/>
        </p:nvSpPr>
        <p:spPr>
          <a:xfrm>
            <a:off x="2158920" y="4083120"/>
            <a:ext cx="1117800" cy="488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169720" y="4038480"/>
            <a:ext cx="1107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matter 6</a:t>
            </a:r>
            <a:endParaRPr b="0" lang="en-US" sz="1400" spc="-1" strike="noStrike">
              <a:solidFill>
                <a:srgbClr val="000000"/>
              </a:solidFill>
              <a:latin typeface="Times New Roman"/>
            </a:endParaRPr>
          </a:p>
        </p:txBody>
      </p:sp>
      <p:sp>
        <p:nvSpPr>
          <p:cNvPr id="76" name=""/>
          <p:cNvSpPr/>
          <p:nvPr/>
        </p:nvSpPr>
        <p:spPr>
          <a:xfrm>
            <a:off x="2158920" y="4616280"/>
            <a:ext cx="1117800" cy="489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169720" y="4572000"/>
            <a:ext cx="1107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matter 7</a:t>
            </a:r>
            <a:endParaRPr b="0" lang="en-US" sz="1400" spc="-1" strike="noStrike">
              <a:solidFill>
                <a:srgbClr val="000000"/>
              </a:solidFill>
              <a:latin typeface="Times New Roman"/>
            </a:endParaRPr>
          </a:p>
        </p:txBody>
      </p:sp>
      <p:sp>
        <p:nvSpPr>
          <p:cNvPr id="78" name=""/>
          <p:cNvSpPr/>
          <p:nvPr/>
        </p:nvSpPr>
        <p:spPr>
          <a:xfrm>
            <a:off x="4952880" y="914400"/>
            <a:ext cx="1067040" cy="4191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952880" y="914400"/>
            <a:ext cx="1024200" cy="1342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ven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ragmen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ild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CV400E-6FG676</a:t>
            </a:r>
            <a:endParaRPr b="0" lang="en-US" sz="1000" spc="-1" strike="noStrike">
              <a:solidFill>
                <a:srgbClr val="000000"/>
              </a:solidFill>
              <a:latin typeface="Times New Roman"/>
            </a:endParaRPr>
          </a:p>
        </p:txBody>
      </p:sp>
      <p:sp>
        <p:nvSpPr>
          <p:cNvPr id="80" name=""/>
          <p:cNvSpPr/>
          <p:nvPr/>
        </p:nvSpPr>
        <p:spPr>
          <a:xfrm>
            <a:off x="6477120" y="914400"/>
            <a:ext cx="838080" cy="5257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477120" y="914400"/>
            <a:ext cx="838080" cy="112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out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CV300E-6FG456</a:t>
            </a:r>
            <a:endParaRPr b="0" lang="en-US" sz="1000" spc="-1" strike="noStrike">
              <a:solidFill>
                <a:srgbClr val="000000"/>
              </a:solidFill>
              <a:latin typeface="Times New Roman"/>
            </a:endParaRPr>
          </a:p>
        </p:txBody>
      </p:sp>
      <p:sp>
        <p:nvSpPr>
          <p:cNvPr id="82" name=""/>
          <p:cNvSpPr/>
          <p:nvPr/>
        </p:nvSpPr>
        <p:spPr>
          <a:xfrm>
            <a:off x="914400" y="914400"/>
            <a:ext cx="914400" cy="1981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914400" y="914400"/>
            <a:ext cx="914400" cy="1798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pu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bug FIFO Bank 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a Path Mux</a:t>
            </a:r>
            <a:endParaRPr b="0" lang="en-US" sz="1400" spc="-1" strike="noStrike">
              <a:solidFill>
                <a:srgbClr val="000000"/>
              </a:solidFill>
              <a:latin typeface="Times New Roman"/>
            </a:endParaRPr>
          </a:p>
        </p:txBody>
      </p:sp>
      <p:sp>
        <p:nvSpPr>
          <p:cNvPr id="84" name=""/>
          <p:cNvSpPr/>
          <p:nvPr/>
        </p:nvSpPr>
        <p:spPr>
          <a:xfrm>
            <a:off x="914400" y="3124080"/>
            <a:ext cx="914400" cy="1981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914400" y="3124080"/>
            <a:ext cx="914400" cy="201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pu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bug FIFO Bank 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a Path Mux</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6" name=""/>
          <p:cNvSpPr/>
          <p:nvPr/>
        </p:nvSpPr>
        <p:spPr>
          <a:xfrm>
            <a:off x="3591000" y="914400"/>
            <a:ext cx="914400" cy="1981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591000" y="914400"/>
            <a:ext cx="914400" cy="1798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pu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bug FIFO Bank 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a Path Mux</a:t>
            </a:r>
            <a:endParaRPr b="0" lang="en-US" sz="1400" spc="-1" strike="noStrike">
              <a:solidFill>
                <a:srgbClr val="000000"/>
              </a:solidFill>
              <a:latin typeface="Times New Roman"/>
            </a:endParaRPr>
          </a:p>
        </p:txBody>
      </p:sp>
      <p:sp>
        <p:nvSpPr>
          <p:cNvPr id="88" name=""/>
          <p:cNvSpPr/>
          <p:nvPr/>
        </p:nvSpPr>
        <p:spPr>
          <a:xfrm>
            <a:off x="3591000" y="3124080"/>
            <a:ext cx="914400" cy="1981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591000" y="3124080"/>
            <a:ext cx="914400" cy="201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pu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bug FIFO Bank 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a Path Mux</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 name=""/>
          <p:cNvSpPr/>
          <p:nvPr/>
        </p:nvSpPr>
        <p:spPr>
          <a:xfrm>
            <a:off x="1828800" y="6095880"/>
            <a:ext cx="160020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828800" y="6095880"/>
            <a:ext cx="1600200" cy="61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ster DSP</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I - TMS320C6201</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MB SDRAM</a:t>
            </a:r>
            <a:endParaRPr b="0" lang="en-US" sz="1000" spc="-1" strike="noStrike">
              <a:solidFill>
                <a:srgbClr val="000000"/>
              </a:solidFill>
              <a:latin typeface="Times New Roman"/>
            </a:endParaRPr>
          </a:p>
        </p:txBody>
      </p:sp>
      <p:sp>
        <p:nvSpPr>
          <p:cNvPr id="92" name=""/>
          <p:cNvSpPr/>
          <p:nvPr/>
        </p:nvSpPr>
        <p:spPr>
          <a:xfrm>
            <a:off x="3657600" y="5410080"/>
            <a:ext cx="1600200" cy="1295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04920" y="5334120"/>
            <a:ext cx="1371600" cy="1447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49200" y="5410080"/>
            <a:ext cx="1251000" cy="1342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ME Interfac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ypress CY7C960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Y7C964</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hip set</a:t>
            </a:r>
            <a:endParaRPr b="0" lang="en-US" sz="1000" spc="-1" strike="noStrike">
              <a:solidFill>
                <a:srgbClr val="000000"/>
              </a:solidFill>
              <a:latin typeface="Times New Roman"/>
            </a:endParaRPr>
          </a:p>
        </p:txBody>
      </p:sp>
      <p:sp>
        <p:nvSpPr>
          <p:cNvPr id="95" name=""/>
          <p:cNvSpPr/>
          <p:nvPr/>
        </p:nvSpPr>
        <p:spPr>
          <a:xfrm>
            <a:off x="1828800" y="5334120"/>
            <a:ext cx="160020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828800" y="5276880"/>
            <a:ext cx="1600200" cy="48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PGA </a:t>
            </a:r>
            <a:r>
              <a:rPr b="1" lang="en-US" sz="1200" spc="-1" strike="noStrike">
                <a:solidFill>
                  <a:srgbClr val="000000"/>
                </a:solidFill>
                <a:latin typeface="Times New Roman"/>
              </a:rPr>
              <a:t>Program Reset Manager</a:t>
            </a:r>
            <a:endParaRPr b="0" lang="en-US" sz="1200" spc="-1" strike="noStrike">
              <a:solidFill>
                <a:srgbClr val="000000"/>
              </a:solidFill>
              <a:latin typeface="Times New Roman"/>
            </a:endParaRPr>
          </a:p>
        </p:txBody>
      </p:sp>
      <p:sp>
        <p:nvSpPr>
          <p:cNvPr id="97" name=""/>
          <p:cNvSpPr/>
          <p:nvPr/>
        </p:nvSpPr>
        <p:spPr>
          <a:xfrm>
            <a:off x="3657600" y="5715000"/>
            <a:ext cx="1600200" cy="824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OD Controll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ilinx</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CV600E-6FG676</a:t>
            </a:r>
            <a:endParaRPr b="0" lang="en-US" sz="1000" spc="-1" strike="noStrike">
              <a:solidFill>
                <a:srgbClr val="000000"/>
              </a:solidFill>
              <a:latin typeface="Times New Roman"/>
            </a:endParaRPr>
          </a:p>
        </p:txBody>
      </p:sp>
      <p:sp>
        <p:nvSpPr>
          <p:cNvPr id="98" name=""/>
          <p:cNvSpPr/>
          <p:nvPr/>
        </p:nvSpPr>
        <p:spPr>
          <a:xfrm>
            <a:off x="2209680" y="1660680"/>
            <a:ext cx="10670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nks 12 - 23</a:t>
            </a:r>
            <a:endParaRPr b="0" lang="en-US" sz="1000" spc="-1" strike="noStrike">
              <a:solidFill>
                <a:srgbClr val="000000"/>
              </a:solidFill>
              <a:latin typeface="Times New Roman"/>
            </a:endParaRPr>
          </a:p>
        </p:txBody>
      </p:sp>
      <p:sp>
        <p:nvSpPr>
          <p:cNvPr id="99" name=""/>
          <p:cNvSpPr/>
          <p:nvPr/>
        </p:nvSpPr>
        <p:spPr>
          <a:xfrm>
            <a:off x="2209680" y="2193840"/>
            <a:ext cx="10670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nks 24 - 35</a:t>
            </a:r>
            <a:endParaRPr b="0" lang="en-US" sz="1000" spc="-1" strike="noStrike">
              <a:solidFill>
                <a:srgbClr val="000000"/>
              </a:solidFill>
              <a:latin typeface="Times New Roman"/>
            </a:endParaRPr>
          </a:p>
        </p:txBody>
      </p:sp>
      <p:sp>
        <p:nvSpPr>
          <p:cNvPr id="100" name=""/>
          <p:cNvSpPr/>
          <p:nvPr/>
        </p:nvSpPr>
        <p:spPr>
          <a:xfrm>
            <a:off x="2209680" y="2727360"/>
            <a:ext cx="10670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nks 36 - 47</a:t>
            </a:r>
            <a:endParaRPr b="0" lang="en-US" sz="1000" spc="-1" strike="noStrike">
              <a:solidFill>
                <a:srgbClr val="000000"/>
              </a:solidFill>
              <a:latin typeface="Times New Roman"/>
            </a:endParaRPr>
          </a:p>
        </p:txBody>
      </p:sp>
      <p:sp>
        <p:nvSpPr>
          <p:cNvPr id="101" name=""/>
          <p:cNvSpPr/>
          <p:nvPr/>
        </p:nvSpPr>
        <p:spPr>
          <a:xfrm>
            <a:off x="2209680" y="3260880"/>
            <a:ext cx="10670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nks 48 - 59</a:t>
            </a:r>
            <a:endParaRPr b="0" lang="en-US" sz="1000" spc="-1" strike="noStrike">
              <a:solidFill>
                <a:srgbClr val="000000"/>
              </a:solidFill>
              <a:latin typeface="Times New Roman"/>
            </a:endParaRPr>
          </a:p>
        </p:txBody>
      </p:sp>
      <p:sp>
        <p:nvSpPr>
          <p:cNvPr id="102" name=""/>
          <p:cNvSpPr/>
          <p:nvPr/>
        </p:nvSpPr>
        <p:spPr>
          <a:xfrm>
            <a:off x="2209680" y="3794040"/>
            <a:ext cx="10670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nks 60 - 71</a:t>
            </a:r>
            <a:endParaRPr b="0" lang="en-US" sz="1000" spc="-1" strike="noStrike">
              <a:solidFill>
                <a:srgbClr val="000000"/>
              </a:solidFill>
              <a:latin typeface="Times New Roman"/>
            </a:endParaRPr>
          </a:p>
        </p:txBody>
      </p:sp>
      <p:sp>
        <p:nvSpPr>
          <p:cNvPr id="103" name=""/>
          <p:cNvSpPr/>
          <p:nvPr/>
        </p:nvSpPr>
        <p:spPr>
          <a:xfrm>
            <a:off x="2209680" y="4327560"/>
            <a:ext cx="10670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nks 72 - 83</a:t>
            </a:r>
            <a:endParaRPr b="0" lang="en-US" sz="1000" spc="-1" strike="noStrike">
              <a:solidFill>
                <a:srgbClr val="000000"/>
              </a:solidFill>
              <a:latin typeface="Times New Roman"/>
            </a:endParaRPr>
          </a:p>
        </p:txBody>
      </p:sp>
      <p:sp>
        <p:nvSpPr>
          <p:cNvPr id="104" name=""/>
          <p:cNvSpPr/>
          <p:nvPr/>
        </p:nvSpPr>
        <p:spPr>
          <a:xfrm>
            <a:off x="2209680" y="4861080"/>
            <a:ext cx="10670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nks 84 - 95</a:t>
            </a:r>
            <a:endParaRPr b="0" lang="en-US" sz="1000" spc="-1" strike="noStrike">
              <a:solidFill>
                <a:srgbClr val="000000"/>
              </a:solidFill>
              <a:latin typeface="Times New Roman"/>
            </a:endParaRPr>
          </a:p>
        </p:txBody>
      </p:sp>
      <p:sp>
        <p:nvSpPr>
          <p:cNvPr id="105" name=""/>
          <p:cNvSpPr/>
          <p:nvPr/>
        </p:nvSpPr>
        <p:spPr>
          <a:xfrm>
            <a:off x="1838160" y="569592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XCV200E-6FG456</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2MB FLASH</a:t>
            </a:r>
            <a:endParaRPr b="0" lang="en-US" sz="900" spc="-1" strike="noStrike">
              <a:solidFill>
                <a:srgbClr val="000000"/>
              </a:solidFill>
              <a:latin typeface="Times New Roman"/>
            </a:endParaRPr>
          </a:p>
        </p:txBody>
      </p:sp>
      <p:sp>
        <p:nvSpPr>
          <p:cNvPr id="106" name=""/>
          <p:cNvSpPr/>
          <p:nvPr/>
        </p:nvSpPr>
        <p:spPr>
          <a:xfrm>
            <a:off x="1676520" y="5715000"/>
            <a:ext cx="152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676520" y="6400800"/>
            <a:ext cx="152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429000" y="571500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429000" y="6400800"/>
            <a:ext cx="228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828800" y="1143000"/>
            <a:ext cx="32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832040" y="1663560"/>
            <a:ext cx="323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832040" y="2193840"/>
            <a:ext cx="323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835280" y="2714760"/>
            <a:ext cx="323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276720" y="1143000"/>
            <a:ext cx="323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274920" y="1663560"/>
            <a:ext cx="162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274920" y="219384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273480" y="2714760"/>
            <a:ext cx="142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838160" y="3276720"/>
            <a:ext cx="32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836720" y="3797280"/>
            <a:ext cx="32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836720" y="4327560"/>
            <a:ext cx="32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839960" y="4848120"/>
            <a:ext cx="323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276720" y="3276720"/>
            <a:ext cx="323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274920" y="3797280"/>
            <a:ext cx="171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274920" y="4327560"/>
            <a:ext cx="142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273480" y="4848120"/>
            <a:ext cx="1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505400" y="2695680"/>
            <a:ext cx="447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505400" y="4848120"/>
            <a:ext cx="447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019920" y="353376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315200" y="139068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315200" y="244800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7305840" y="351468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315200" y="457200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315200" y="565776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257800" y="6419880"/>
            <a:ext cx="2905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8163000" y="6152760"/>
            <a:ext cx="0" cy="266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V="1">
            <a:off x="5819760" y="5105520"/>
            <a:ext cx="0" cy="1304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819760" y="5543640"/>
            <a:ext cx="657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a:off x="1409760" y="5248440"/>
            <a:ext cx="4410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V="1">
            <a:off x="1409760" y="5105160"/>
            <a:ext cx="0" cy="142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V="1">
            <a:off x="2438280" y="5105160"/>
            <a:ext cx="0" cy="142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V="1">
            <a:off x="3781440" y="5105160"/>
            <a:ext cx="0" cy="142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924280" y="510552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3543480" y="5314680"/>
            <a:ext cx="0" cy="390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543480" y="5315040"/>
            <a:ext cx="2933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V="1">
            <a:off x="5286240" y="5095440"/>
            <a:ext cx="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V="1">
            <a:off x="3429000" y="1133640"/>
            <a:ext cx="0" cy="1581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V="1">
            <a:off x="3438360" y="3257640"/>
            <a:ext cx="0" cy="1581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76320"/>
            <a:ext cx="91440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D Test Status : Slave DSPs</a:t>
            </a:r>
            <a:endParaRPr b="0" lang="en-US" sz="2400" spc="-1" strike="noStrike">
              <a:solidFill>
                <a:srgbClr val="000000"/>
              </a:solidFill>
              <a:latin typeface="Times New Roman"/>
            </a:endParaRPr>
          </a:p>
        </p:txBody>
      </p:sp>
      <p:sp>
        <p:nvSpPr>
          <p:cNvPr id="149" name=""/>
          <p:cNvSpPr/>
          <p:nvPr/>
        </p:nvSpPr>
        <p:spPr>
          <a:xfrm>
            <a:off x="0" y="60948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0" y="762120"/>
            <a:ext cx="9115560" cy="4240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maining Basic Functionality Test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lave DSP: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Slave DSP boot and data transfer OK.</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DRAM memory tests OK on Slave DSP 0.</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DRAM errors on Slave DSPs 1, 2 and 3 on all boards.</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xact problem has not yet been identified.  We need to determine if the errors occur on reads or writes, and if they are due to the ROD Controller FPGA which is used to transfer data to and from the Slaves, or by noise on the output enable signal used on the Router to transfer the Event Data to the DSP, or by some other hardware mechanism.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0" y="60948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8440" y="830160"/>
            <a:ext cx="9068040" cy="5581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ME Host to ROD Communication:</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Converted the VME to DSP HPI access to D32.  This access was D16 previous to the modific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gram Reset Controller FPGA:</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Added code to allow D32 access from the VME host to the Master DSP Host Port Interface.</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odified FLASH R/W algorithm to minimize VME cycles required.  DMA is not allowed on the ROD Flash memorie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ster DSP (TMS320C6201):</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Changed 6201 core voltage to match TI’s revised specification.  All core type devices on ROD are now at 1.85V.  (The FPGAs and Master DSP require 1.8V, and the Slave DSPs require 1.9V.  Because we have 1 core supply, we must split the difference.)  </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3"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D Development Status : Hardware Chang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0" y="60948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28600" y="685800"/>
            <a:ext cx="8763120" cy="6130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OD Controller FPGA:</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Re-organized the memory map to simplify ROD Configuration.  </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dded a test mode to allow the Input Memory FIFOs and the Internal TIM FIFO to retransmit 4K of Event Data up to 65535 times.</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odified VHDL to allow 32 bit access from the Master DSP to all of the Slave DSP HPI ports.  (The DSP HPI is a 16 bit bus).  This change allowed DMA from the VME host to the Slave DSP internal and external memorie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vent Fragment Builder FPGA:</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Removed Formatter Masking algorithm from the VHDL.  This was originally required because of a bug in the Formatter VHDL which was fixed before the last review.</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outer FPGA:</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Fixed Frame Transfer Interrupt bug in VHD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lave DSP (TMS320C6701):</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Increased SDRAM size from 16MB to 32MB.</a:t>
            </a:r>
            <a:endParaRPr b="0" lang="en-US" sz="2000" spc="-1" strike="noStrike">
              <a:solidFill>
                <a:srgbClr val="000000"/>
              </a:solidFill>
              <a:latin typeface="Times New Roman"/>
            </a:endParaRPr>
          </a:p>
        </p:txBody>
      </p:sp>
      <p:sp>
        <p:nvSpPr>
          <p:cNvPr id="156"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D Development Status : Hardware Changes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0" y="60948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0" y="685800"/>
            <a:ext cx="9067680" cy="5642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ix the Slave DSP SDRAM Memory Bug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dify VHDL to incorporate all proposed ROD Modes.</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OD Controller FPGA:</a:t>
            </a:r>
            <a:endParaRPr b="0" lang="en-US" sz="24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dd required logic to allow stand alone calibration and advanced testing of modules.  The additions will be in the form of counters, registers, and other miscellaneous circuits required by the final algorithm.  This should be about 2 to 4 weeks of writing, building, and debugging.</a:t>
            </a:r>
            <a:endParaRPr b="0" lang="en-US" sz="20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dd ECRID Counter to the Event ID Data Encoder Block when required.  (Some changes will also need to be made to the EFB VHDL.)</a:t>
            </a:r>
            <a:endParaRPr b="0" lang="en-US" sz="20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dd logic required to trap Pixel register data into the InMem FIFOs.</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outer FPGA:</a:t>
            </a:r>
            <a:endParaRPr b="0" lang="en-US" sz="24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dd required logic to modify Router trapping algorithm to meet the requirements defined in the ROD Hardware and Software Upgrade document. This should be about 1 week of writing, building, and debugging.  </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9"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D Status : Things to 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0" y="60948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0" y="685800"/>
            <a:ext cx="9067680" cy="5948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iscellaneous:</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vestigate increasing the size of the Internal TIM FIFO from 4K to 8K to increase the number of events that can be played into the Formatters from the Input Memories. </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inalize implementation of ROD Controller Modes.</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ine tune, clean up, and modify the VHDL code for all of the ROD FPGA devices as requirements defined by the ATLAS Community change.</a:t>
            </a:r>
            <a:endParaRPr b="0" lang="en-US" sz="20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g. implementation of an ECRID Count in the L1ID word of the Event Header; modifications to the “Start of Event” wor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e writing the ROD Operating Manual to describe how the ROD function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e development of the Test Procedure Document that will be used to perform initial tests and as a trouble-shooting manu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e work on all changes required to accommodate the PIXEL front ends.</a:t>
            </a:r>
            <a:endParaRPr b="0" lang="en-US" sz="2000" spc="-1" strike="noStrike">
              <a:solidFill>
                <a:srgbClr val="000000"/>
              </a:solidFill>
              <a:latin typeface="Times New Roman"/>
            </a:endParaRPr>
          </a:p>
        </p:txBody>
      </p:sp>
      <p:sp>
        <p:nvSpPr>
          <p:cNvPr id="162"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D Status : Things to do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4T06:36:04Z</dcterms:created>
  <dc:creator>John Joseph</dc:creator>
  <dc:description/>
  <dc:language>en-US</dc:language>
  <cp:lastModifiedBy>Administrator</cp:lastModifiedBy>
  <dcterms:modified xsi:type="dcterms:W3CDTF">2002-04-29T22:13:16Z</dcterms:modified>
  <cp:revision>15</cp:revision>
  <dc:subject/>
  <dc:title>ATLAS Pre-Production ROD Status</dc:title>
</cp:coreProperties>
</file>