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968-5E8C-4570-976C-2C9FADF0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48E-D224-4938-A2C0-CBBC597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C7C-E5E3-4946-9EDD-34B9E7B3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10A-D4AB-4D3C-BC8C-FBEE7DA3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5EA-0AC2-4C6D-BD9D-F3EFDF56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144-86D2-4898-9F5F-BE259F0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F76-D336-498E-AF73-57ECBFA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1E6-509D-4903-900C-77C3E24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85F-DD05-4211-BE2B-F3956357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EC0-E28D-4AEF-8307-584068D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825-AFAE-4EE5-995B-D5DDA11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CC7-A8D8-4727-B53E-E1E0D9D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CFED-AF4C-4709-AAEE-33D640143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scheme developed in Feb 2002 workshop at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ATLAS DAQ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, but does not require, run-time configurability needed by S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ost computer runs Linux and provides interaction with users, ATLAS, and the ROD c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ingle Board Computer (SBC) running Linux is in each crate and  manages communication with the VME devices (ROD/BOCs, TIM) in its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assic distributed computing problem: host + 10 SBCs + 120 Master DSPs + 240 Slave D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verview4" descr=""/>
          <p:cNvPicPr/>
          <p:nvPr/>
        </p:nvPicPr>
        <p:blipFill>
          <a:blip r:embed="rId1"/>
          <a:stretch/>
        </p:blipFill>
        <p:spPr>
          <a:xfrm>
            <a:off x="4673520" y="1295280"/>
            <a:ext cx="375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oo much to do at once, proceed iterativ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ROD user evaluation, develop a single ROD/BOC, single VME crate, non-threaded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case: a host-controlled calibration of the pixel front-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runs on the same comp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oof of principle. Tests ROD driver, VME interface, Primitives, and DSP code in a real-world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 date for initial stage: Aug 15 to Oct 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hase1" descr=""/>
          <p:cNvPicPr/>
          <p:nvPr/>
        </p:nvPicPr>
        <p:blipFill>
          <a:blip r:embed="rId1"/>
          <a:stretch/>
        </p:blipFill>
        <p:spPr>
          <a:xfrm>
            <a:off x="4648320" y="1469880"/>
            <a:ext cx="380988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VME Interface: Protype provided by ATLAS, appears to work f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++ Wrapper: Completed by Paolo Morettini (Geno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 Driver: Under development by T. Meyer (Iowa State). Code 90% written, testing just beginning.  Access to SBC for debugging began 2 Apr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 layer: Design under way. Coding not expected to be diffic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Control: Part of DAQ-1 package provided by ATLAS On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and Display: Needs to be done. A PAW or Root based application will be the easiest to implement.  User input to design help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t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 Stage 1 by Aug 15 to Oct 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TIM dri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threads for better efficiency. (Introduces Posix threa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support for multiple RODs in the same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support for multiple crates. (Introduces COR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ize command layer to handle other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9:53:40Z</dcterms:created>
  <dc:creator>Thomas Meyer</dc:creator>
  <dc:description/>
  <dc:language>en-US</dc:language>
  <cp:lastModifiedBy>Thomas Meyer</cp:lastModifiedBy>
  <dcterms:modified xsi:type="dcterms:W3CDTF">2002-04-25T21:52:47Z</dcterms:modified>
  <cp:revision>3</cp:revision>
  <dc:subject/>
  <dc:title>The Big Picture</dc:title>
</cp:coreProperties>
</file>