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BE4-97A1-4B9A-B74F-C67DBBCDF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038-48D9-48B3-945E-7DC85EC0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4FAE-CF24-41EA-8355-27F65856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23A-D031-4889-8133-6371FC60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B0E-98CC-40D8-A52A-050BA9F2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EB1-6806-457B-B21D-1DB2F816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004-144F-4C74-B2F7-D0D40A62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7AB-4679-40FA-A662-73D17289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D457-F382-45D3-81B9-C2F2504A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FBF3-628A-4ED5-AA13-A9136B28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E94-CC26-4DF7-BF40-ADF9C15F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29F-45AD-4ABF-8C24-3FF159C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8E55-3A04-4469-A198-0491B7757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February 6, 20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752480"/>
            <a:ext cx="73645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have we done so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our prototype TIM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s in hand for 6 more T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 delivered to Cambridge in March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jitter at BOC input reduced to 100ps peak-to-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rrections/modifications submitted for drawing at 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work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ME access to all registers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and sequencer (i.e. Programmable pattern gener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, front-panel, standalone and ROD Busy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and backplane outp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7E2-7372-48EC-BA3C-1DA5DFB0A2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February 6, 20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066680"/>
            <a:ext cx="754380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tus upd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ll CPLDs si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CID offset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rx I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 interface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logic is operat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 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bugging &amp; Testing (ongo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ding of VME interrupts (ongo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arning curve for FPGA implementation (just start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ans an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x more TIMs (iteration of prototype) to be manufactured soon for 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design/implement TIM using new parts ("final" system) for Q3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A7A-81BC-491A-974B-B7C31D3D9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40:00Z</dcterms:created>
  <dc:creator>LBNL</dc:creator>
  <dc:description/>
  <dc:language>en-US</dc:language>
  <cp:lastModifiedBy>lane</cp:lastModifiedBy>
  <cp:lastPrinted>2001-02-12T17:36:05Z</cp:lastPrinted>
  <dcterms:modified xsi:type="dcterms:W3CDTF">2002-02-06T20:36:38Z</dcterms:modified>
  <cp:revision>42</cp:revision>
  <dc:subject/>
  <dc:title>No Slide Title</dc:title>
</cp:coreProperties>
</file>