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55C-0C1C-408F-B251-AAB8EFB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476-7F9D-419D-9FC2-6BB9B3BE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A12-B4EA-4E1E-84BA-A64EB459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411-12AB-46AA-B9B0-5F4816D5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DA0-FF7B-4050-AB37-4805989E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4C0-855B-4D6A-8986-881B4B5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8BB-BD3B-4F77-8343-8FD37771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0F2-4956-40F6-B158-D3D9A07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E51-78DA-4C0C-BCC4-D873984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7EC-A655-4D66-9E52-F32A305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A89-39B0-45FF-943E-6EC546A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F97-2457-4502-AE35-5C4FD53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9B2-799A-4DEE-B6A3-C2EEAFEA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838080"/>
            <a:ext cx="7696080" cy="52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:  Back Of Crate (BOC) card (optical interface) and SCT DAQ, Andy Parker, John Hill and Maurice Goodri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sconsin : 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hang Dao, Damon Fasching, Douglas Fergusson, Richard Jared, John Joseph, Mark Nagel, Sriram Sivasubramaniyan (Ohio State) and Lukas Tomasek and Jan Valenta (Institute of Physics AV CR, Pragu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ty College London: Timing Interface Module (TIM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n Butterworth, John Lane, Martin Postranecky and Matthew 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ford Crate Back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y Was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owa State Pixel DAQ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y McK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Meyer and Eli Rose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char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4D6-CC1A-4C20-A561-CB73C1CB57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57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04cr" descr=""/>
          <p:cNvPicPr/>
          <p:nvPr/>
        </p:nvPicPr>
        <p:blipFill>
          <a:blip r:embed="rId1"/>
          <a:stretch/>
        </p:blipFill>
        <p:spPr>
          <a:xfrm>
            <a:off x="276120" y="819000"/>
            <a:ext cx="418464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62280" y="3710160"/>
            <a:ext cx="395280" cy="38556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84480" y="4095720"/>
            <a:ext cx="159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3879720"/>
            <a:ext cx="2941560" cy="2425680"/>
          </a:xfrm>
          <a:custGeom>
            <a:avLst/>
            <a:gdLst/>
            <a:ahLst/>
            <a:rect l="l" t="t" r="r" b="b"/>
            <a:pathLst>
              <a:path w="1680" h="1421">
                <a:moveTo>
                  <a:pt x="1440" y="0"/>
                </a:moveTo>
                <a:lnTo>
                  <a:pt x="1537" y="365"/>
                </a:lnTo>
                <a:lnTo>
                  <a:pt x="1680" y="365"/>
                </a:lnTo>
                <a:lnTo>
                  <a:pt x="1680" y="1325"/>
                </a:lnTo>
                <a:lnTo>
                  <a:pt x="1440" y="1325"/>
                </a:lnTo>
                <a:lnTo>
                  <a:pt x="1412" y="1373"/>
                </a:lnTo>
                <a:lnTo>
                  <a:pt x="0" y="1421"/>
                </a:lnTo>
                <a:lnTo>
                  <a:pt x="0" y="605"/>
                </a:lnTo>
                <a:lnTo>
                  <a:pt x="96" y="605"/>
                </a:lnTo>
                <a:lnTo>
                  <a:pt x="96" y="269"/>
                </a:lnTo>
                <a:lnTo>
                  <a:pt x="506" y="267"/>
                </a:lnTo>
                <a:lnTo>
                  <a:pt x="509" y="0"/>
                </a:lnTo>
                <a:lnTo>
                  <a:pt x="144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3320" y="3700440"/>
            <a:ext cx="755640" cy="1287360"/>
          </a:xfrm>
          <a:custGeom>
            <a:avLst/>
            <a:gdLst/>
            <a:ahLst/>
            <a:rect l="l" t="t" r="r" b="b"/>
            <a:pathLst>
              <a:path w="432" h="754">
                <a:moveTo>
                  <a:pt x="0" y="0"/>
                </a:moveTo>
                <a:lnTo>
                  <a:pt x="288" y="0"/>
                </a:lnTo>
                <a:lnTo>
                  <a:pt x="288" y="240"/>
                </a:lnTo>
                <a:lnTo>
                  <a:pt x="432" y="240"/>
                </a:lnTo>
                <a:lnTo>
                  <a:pt x="430" y="420"/>
                </a:lnTo>
                <a:lnTo>
                  <a:pt x="180" y="422"/>
                </a:lnTo>
                <a:lnTo>
                  <a:pt x="178" y="751"/>
                </a:lnTo>
                <a:lnTo>
                  <a:pt x="2" y="75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1447920"/>
            <a:ext cx="2867040" cy="2114280"/>
          </a:xfrm>
          <a:custGeom>
            <a:avLst/>
            <a:gdLst/>
            <a:ahLst/>
            <a:rect l="l" t="t" r="r" b="b"/>
            <a:pathLst>
              <a:path w="1637" h="1238">
                <a:moveTo>
                  <a:pt x="5" y="0"/>
                </a:moveTo>
                <a:lnTo>
                  <a:pt x="786" y="35"/>
                </a:lnTo>
                <a:lnTo>
                  <a:pt x="789" y="96"/>
                </a:lnTo>
                <a:lnTo>
                  <a:pt x="1637" y="134"/>
                </a:lnTo>
                <a:lnTo>
                  <a:pt x="1637" y="1190"/>
                </a:lnTo>
                <a:lnTo>
                  <a:pt x="821" y="1190"/>
                </a:lnTo>
                <a:lnTo>
                  <a:pt x="821" y="1238"/>
                </a:lnTo>
                <a:lnTo>
                  <a:pt x="82" y="1238"/>
                </a:lnTo>
                <a:lnTo>
                  <a:pt x="82" y="1125"/>
                </a:lnTo>
                <a:lnTo>
                  <a:pt x="0" y="1123"/>
                </a:lnTo>
                <a:lnTo>
                  <a:pt x="5" y="0"/>
                </a:lnTo>
                <a:close/>
              </a:path>
            </a:pathLst>
          </a:custGeom>
          <a:solidFill>
            <a:srgbClr val="ec2064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52800" y="3529080"/>
            <a:ext cx="1939680" cy="103032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0800000">
            <a:off x="3189600" y="4964760"/>
            <a:ext cx="194040" cy="87588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Data RX 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16160" y="4087800"/>
            <a:ext cx="44604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7280" y="3706560"/>
            <a:ext cx="42228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t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P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21640" y="3706560"/>
            <a:ext cx="44604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-Li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rot="10800000">
            <a:off x="3006720" y="2014560"/>
            <a:ext cx="315720" cy="111204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lock and 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425880" y="2417040"/>
            <a:ext cx="346680" cy="67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42000" y="774720"/>
            <a:ext cx="3809880" cy="5715000"/>
          </a:xfrm>
          <a:prstGeom prst="rect">
            <a:avLst/>
          </a:prstGeom>
          <a:solidFill>
            <a:srgbClr val="459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OC1_All_1d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51468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071-4112-4F3D-8DC2-592E317E2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600200"/>
            <a:ext cx="76960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1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CB manufactured (11 ea.) -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delivered (for 11 BOCs) - end of Feb.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sembly of first 2 BOCs - early M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ceipt of 5 TX &amp; 5 RX Opto Plug-Ins - mid F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ceipt of 5 TX &amp; 5 RX Opto Plug-Ins - mid M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by lack of A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ious testing - thru to end 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IC supplies (BPM and DRX) - expected 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p to 11 BOCs for SCT &amp; Pixel community - this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ial population until new ASICs available for Opto Plug-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nal PCB changes - June/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C92-1CFD-4BAD-B7B2-EF41520E15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609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550200" cy="58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C2B-F785-4F84-97C9-5BF216598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457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9800" y="866880"/>
            <a:ext cx="6382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79800" y="3610080"/>
            <a:ext cx="638280" cy="11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46800" y="866880"/>
            <a:ext cx="954000" cy="41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84520" y="866880"/>
            <a:ext cx="609480" cy="517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14324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45744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77164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208584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5133960"/>
            <a:ext cx="16761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43240"/>
            <a:ext cx="60984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457440"/>
            <a:ext cx="60984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2771640"/>
            <a:ext cx="60984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085840"/>
            <a:ext cx="60984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70120" y="1247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009880"/>
            <a:ext cx="556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4000" y="4981680"/>
            <a:ext cx="1560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4295880"/>
            <a:ext cx="228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6000" y="1552680"/>
            <a:ext cx="228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552680"/>
            <a:ext cx="0" cy="34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13240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019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00" y="866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0DATA 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324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600" y="1171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781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00" y="1628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085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00" y="19335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543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240" y="239076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4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8479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00" y="26956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5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305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00" y="3152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6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610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00" y="3457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7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067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240" y="391464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8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371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00" y="42195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59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829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00" y="46767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60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1339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7600" y="49816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1640" y="1085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70120" y="2009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847880"/>
            <a:ext cx="493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70120" y="27716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1640" y="26100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0120" y="3533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1640" y="3371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0120" y="4295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1640" y="41338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0120" y="50576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1640" y="48960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01920" y="1552680"/>
            <a:ext cx="6778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65920" y="139068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11640" y="4295880"/>
            <a:ext cx="668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65920" y="413388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4120" y="4819680"/>
            <a:ext cx="797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      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der/Trai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9240" y="184788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00800" y="1247400"/>
            <a:ext cx="76212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0520" y="109548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4004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9800" y="22384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0862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19800" y="29242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84804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19800" y="368604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44578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19800" y="42958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6760" y="1162080"/>
            <a:ext cx="6220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LINK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23907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239076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009920" y="5133960"/>
            <a:ext cx="1295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438880"/>
            <a:ext cx="1484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07960" y="5276880"/>
            <a:ext cx="121536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EventDATA   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311280" y="54388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10280" y="6172200"/>
            <a:ext cx="198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0480" y="6172200"/>
            <a:ext cx="1204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TriggerDATA    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39120" y="22287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30765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39120" y="29145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7623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39120" y="36003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44481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39120" y="42861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27320" y="1247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4295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227320" y="1247760"/>
            <a:ext cx="144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27320" y="2009520"/>
            <a:ext cx="1440" cy="16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27320" y="4295880"/>
            <a:ext cx="144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019160"/>
            <a:ext cx="7617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 Fi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bx4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24680" y="1019160"/>
            <a:ext cx="6098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591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600" y="5438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5896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7600" y="5743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353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00" y="6200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4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657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240" y="650556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951DATA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70120" y="5819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1640" y="5657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70120" y="6581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1640" y="64198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27320" y="5057640"/>
            <a:ext cx="1440" cy="16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866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1628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3907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3152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3914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767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5438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6200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400800" y="141876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0160" y="1257480"/>
            <a:ext cx="7452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Valid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5791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ME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00600" y="624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6095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 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5562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61C-B258-4F1A-9A93-FDEDB1BAB0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1295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RODPhot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323120" cy="5214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2057400" y="1141920"/>
            <a:ext cx="3276720" cy="16002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819520"/>
            <a:ext cx="533160" cy="533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05120" y="4494960"/>
            <a:ext cx="4495680" cy="1676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971800" y="3504600"/>
            <a:ext cx="685800" cy="685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133720" y="3429000"/>
            <a:ext cx="761760" cy="83808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838080"/>
              <a:gd name="textAreaBottom" fmla="*/ 801000 h 838080"/>
            </a:gdLst>
            <a:ahLst/>
            <a:rect l="textAreaLeft" t="textAreaTop" r="textAreaRight" b="textAreaBottom"/>
            <a:pathLst>
              <a:path w="21600" h="23763">
                <a:moveTo>
                  <a:pt x="3600" y="0"/>
                </a:moveTo>
                <a:arcTo wR="3600" hR="3600" stAng="16200000" swAng="-5400000"/>
                <a:lnTo>
                  <a:pt x="0" y="20163"/>
                </a:lnTo>
                <a:arcTo wR="3600" hR="3600" stAng="10800000" swAng="-5400000"/>
                <a:lnTo>
                  <a:pt x="18000" y="23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343400" y="2818800"/>
            <a:ext cx="304920" cy="152388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523880"/>
              <a:gd name="textAreaBottom" fmla="*/ 1509120 h 1523880"/>
            </a:gdLst>
            <a:ahLst/>
            <a:rect l="textAreaLeft" t="textAreaTop" r="textAreaRight" b="textAreaBottom"/>
            <a:pathLst>
              <a:path w="21600" h="107847">
                <a:moveTo>
                  <a:pt x="3600" y="0"/>
                </a:moveTo>
                <a:arcTo wR="3600" hR="3600" stAng="16200000" swAng="-5400000"/>
                <a:lnTo>
                  <a:pt x="0" y="104247"/>
                </a:lnTo>
                <a:arcTo wR="3600" hR="3600" stAng="10800000" swAng="-5400000"/>
                <a:lnTo>
                  <a:pt x="18000" y="107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410080" y="1142280"/>
            <a:ext cx="762120" cy="152388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1523880"/>
              <a:gd name="textAreaBottom" fmla="*/ 1486800 h 152388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3962520"/>
            <a:ext cx="914400" cy="198108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81080"/>
              <a:gd name="textAreaBottom" fmla="*/ 1936440 h 1981080"/>
            </a:gdLst>
            <a:ahLst/>
            <a:rect l="textAreaLeft" t="textAreaTop" r="textAreaRight" b="textAreaBottom"/>
            <a:pathLst>
              <a:path w="21600" h="46787">
                <a:moveTo>
                  <a:pt x="3600" y="0"/>
                </a:moveTo>
                <a:arcTo wR="3600" hR="3600" stAng="16200000" swAng="-5400000"/>
                <a:lnTo>
                  <a:pt x="0" y="43187"/>
                </a:lnTo>
                <a:arcTo wR="3600" hR="3600" stAng="10800000" swAng="-5400000"/>
                <a:lnTo>
                  <a:pt x="18000" y="46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3200400"/>
            <a:ext cx="838080" cy="685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1219320"/>
            <a:ext cx="457200" cy="8380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838080"/>
              <a:gd name="textAreaBottom" fmla="*/ 815760 h 838080"/>
            </a:gdLst>
            <a:ahLst/>
            <a:rect l="textAreaLeft" t="textAreaTop" r="textAreaRight" b="textAreaBottom"/>
            <a:pathLst>
              <a:path w="21600" h="39580">
                <a:moveTo>
                  <a:pt x="3600" y="0"/>
                </a:moveTo>
                <a:arcTo wR="3600" hR="3600" stAng="16200000" swAng="-5400000"/>
                <a:lnTo>
                  <a:pt x="0" y="35980"/>
                </a:lnTo>
                <a:arcTo wR="3600" hR="3600" stAng="10800000" swAng="-5400000"/>
                <a:lnTo>
                  <a:pt x="18000" y="39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705720" y="18280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2819520"/>
            <a:ext cx="4267440" cy="3200400"/>
          </a:xfrm>
          <a:custGeom>
            <a:avLst/>
            <a:gdLst/>
            <a:ahLst/>
            <a:rect l="l" t="t" r="r" b="b"/>
            <a:pathLst>
              <a:path w="2688" h="2016">
                <a:moveTo>
                  <a:pt x="2688" y="2016"/>
                </a:moveTo>
                <a:lnTo>
                  <a:pt x="0" y="2016"/>
                </a:lnTo>
                <a:lnTo>
                  <a:pt x="144" y="0"/>
                </a:lnTo>
                <a:lnTo>
                  <a:pt x="1200" y="0"/>
                </a:lnTo>
                <a:lnTo>
                  <a:pt x="1200" y="960"/>
                </a:lnTo>
                <a:lnTo>
                  <a:pt x="2688" y="960"/>
                </a:lnTo>
                <a:lnTo>
                  <a:pt x="2688" y="2016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666160" y="4571280"/>
            <a:ext cx="304920" cy="304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6324480"/>
            <a:ext cx="163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ormatter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4160" y="6324480"/>
            <a:ext cx="14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4920" y="388620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ster 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&amp;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6360" y="28954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6320" y="1447920"/>
            <a:ext cx="59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7520" y="76212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gram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8160" y="6858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wer su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9080" y="68580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lave DSPs &amp; mem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920" y="2286000"/>
            <a:ext cx="65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0" y="2895480"/>
            <a:ext cx="65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0040" y="388620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ebug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erandom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em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00200" y="6095520"/>
            <a:ext cx="380880" cy="3049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257800" y="6019920"/>
            <a:ext cx="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467480" y="4267080"/>
            <a:ext cx="60984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238880" y="3124080"/>
            <a:ext cx="609840" cy="15264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010280" y="1676520"/>
            <a:ext cx="609840" cy="1522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552720" y="990720"/>
            <a:ext cx="22860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914400"/>
            <a:ext cx="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914400"/>
            <a:ext cx="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2590920"/>
            <a:ext cx="152424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3200400"/>
            <a:ext cx="167652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295280" y="4114800"/>
            <a:ext cx="838440" cy="763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191120"/>
            <a:ext cx="137160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4191120"/>
            <a:ext cx="3048120" cy="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5181480" y="2742480"/>
            <a:ext cx="990720" cy="1676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676520"/>
              <a:gd name="textAreaBottom" fmla="*/ 1628280 h 1676520"/>
            </a:gdLst>
            <a:ahLst/>
            <a:rect l="textAreaLeft" t="textAreaTop" r="textAreaRight" b="textAreaBottom"/>
            <a:pathLst>
              <a:path w="21600" h="36547">
                <a:moveTo>
                  <a:pt x="3600" y="0"/>
                </a:moveTo>
                <a:arcTo wR="3600" hR="3600" stAng="16200000" swAng="-5400000"/>
                <a:lnTo>
                  <a:pt x="0" y="32947"/>
                </a:lnTo>
                <a:arcTo wR="3600" hR="3600" stAng="10800000" swAng="-5400000"/>
                <a:lnTo>
                  <a:pt x="18000" y="365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27960" y="209376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OD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72200" y="2286000"/>
            <a:ext cx="1447920" cy="5335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17F-0499-4437-A710-24C490257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99072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RODs (4 ea.) have been fabric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bugging is complete on two card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has one production model ROD for system tes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hardware is work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 the Formatter, Event Fragment Builder and Router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ation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 to/from 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nning primitives in the Master/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E (A32,D16/D32) read/write to the ROD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/write to debugging 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/ write to Formatter, Event fragment Builder, Router FP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/write to the Controller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/write to the Back Of the Crate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ler FPGA is  wor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front end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ing of front end modu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B91-0940-44A1-9851-247296A3E0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752480"/>
            <a:ext cx="8153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rdware upgrades n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fted pin and VHDL to enable A32,D32 VME to Master DSP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Master DSP core voltage is changed (by TI) to 1.85V (wire jump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upgrades needed to enable DMA to Master and Slave DS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to enable trapping of module configuration return data (pix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to provide ROD based counters of BCOs, Triggers and regis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vent type related data for stand alone op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for recognition of fast command on the serial data streams 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 DSP via the controller to the front end mod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for changes to the hardware memory map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changes as needed for problems  or future new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2FF-B0AF-46E4-8CD3-18D931C3DF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295280"/>
            <a:ext cx="815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Stand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will be used for the early tests at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is about 85%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emaining software is for the production test 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P Softw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P Softwar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SP primitive software will allow for Module/ROD/BOC configur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ing of modules and read out of events to the crate process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P Software Upgrade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ing interrupts and BIOS work under Texas Instruments (TI) library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grading to TI library 2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ote TI libraries 1.0, 1.2 and 2.0 are not compat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rove the DSP processing of event data so it has event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number of word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vated histogram packages in the slave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e changes the user community needs as testing advan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799-BB6A-4E5C-9F8B-D8927C00A8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990720"/>
            <a:ext cx="815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e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RODs (4 ea.) have been fabr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 far these 4 RODs will be part of the production RODs (100 ea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s and PC boards are in hand to fabricate 9 more R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evaluation from 2/02 till 5/02 is needed to have FDR of R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brication of 9 RODs will follow F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R should be 8/02 for fabrication of RODs (total of 1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s 8ea. will be purchased when CERN has the purchase order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evaluation is needed for the ROD to proceed to production.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s to be much activity in the next 2 months to keep to the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OD is very complex.  It is not known how easy it will be to deb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ards.  There is also concern with the number of defects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ufactured card.  These effects are very manufacturer specif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ificant effort is being made to find good manufactur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B02-C7AB-4364-8C19-DC104D0FE3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79640" y="762120"/>
            <a:ext cx="52275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919-39FE-4A14-9D6F-4C50B48BEF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914400"/>
            <a:ext cx="7696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 Cove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 of Off 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 (B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91D-A5D9-4D59-BE26-9F91B4C31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533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95280"/>
            <a:ext cx="8412120" cy="4957920"/>
            <a:chOff x="228600" y="1295280"/>
            <a:chExt cx="8412120" cy="4957920"/>
          </a:xfrm>
        </p:grpSpPr>
        <p:pic>
          <p:nvPicPr>
            <p:cNvPr id="292" name="tim_cut_out" descr=""/>
            <p:cNvPicPr/>
            <p:nvPr/>
          </p:nvPicPr>
          <p:blipFill>
            <a:blip r:embed="rId1"/>
            <a:stretch/>
          </p:blipFill>
          <p:spPr>
            <a:xfrm>
              <a:off x="1600200" y="1295280"/>
              <a:ext cx="601992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981080" y="1752480"/>
              <a:ext cx="1143000" cy="195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7560" y="159948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" y="335196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 deMUX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generate &amp; FI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8880" y="33966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quen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6280" y="1626840"/>
              <a:ext cx="12232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 to R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(PECL driv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7360" y="43426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8880" y="415836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tand-alone Trig gen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8880" y="2480760"/>
              <a:ext cx="10209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8880" y="502848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NIM/ECL Aux TTC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5520" y="1828800"/>
              <a:ext cx="114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400800" y="3581280"/>
              <a:ext cx="838080" cy="119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5410080" y="4387320"/>
              <a:ext cx="1828800" cy="32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400800" y="4419720"/>
              <a:ext cx="83808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333760" y="2711520"/>
              <a:ext cx="1904760" cy="1141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5120" y="4495680"/>
              <a:ext cx="1523880" cy="349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981080" y="2940120"/>
              <a:ext cx="175284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981080" y="3015720"/>
              <a:ext cx="2514600" cy="489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981080" y="3473280"/>
              <a:ext cx="3200400" cy="184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981080" y="2436840"/>
              <a:ext cx="3353040" cy="154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714640" y="5257800"/>
              <a:ext cx="1523880" cy="652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790960" y="5181480"/>
              <a:ext cx="144756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26720" y="243756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RODBu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520" y="5180760"/>
              <a:ext cx="122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rx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905120" y="4876920"/>
              <a:ext cx="2590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171840" y="1828800"/>
              <a:ext cx="106668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5CA-9055-4258-B088-86E04D7949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752480"/>
            <a:ext cx="7364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our prototype TIM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in hand for 6 more T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100ps peak-to-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rections/modifications submitted for drawing at 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-panel, standalone and ROD Bus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and backplane out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134-E3A3-4011-BB71-E089CB1B0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1066680"/>
            <a:ext cx="75438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 upd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CPLDs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CID offset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is opera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 (ongo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x more TIMs (iteration of prototype) to be manufactured soon for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3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1F7-95F9-43F5-A112-7A52CECC3A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Back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67652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new Prototype backplanes have been fabric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backplanes have been shipped to various sites. (LBNL,UCL,CAM,NIKH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Wor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rections of slots order 5-9, addition of CLK-OK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5E9-6E8C-4A3B-B151-F8B1F3A1D8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 The pixel and SCT DAQ are expected to have much overlap of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cases have been studied to determine  ROD DSP code part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and Pixel DAQ workshop was held last we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 has written several primitives for the slave D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 has written a memory test prim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 has generated the Cambridge system test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 has written code to communicate to the T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Wor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f partitioning and function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stigating the use of DAQ-1 for macro assembly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AQ code is not writ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power is limi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231-E707-4E0E-AB4D-BC0F239248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371600"/>
            <a:ext cx="7467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ed 23 June - ROD prototype arrived at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otyp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the ROD tested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the  BOC tested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the TIM tested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CC was used to configure TIM and pattern genera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 data was played from pattern generators t &gt; electro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optical converters &gt; BOC  &gt; ROD &gt; personal computer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 configuration was not tested and there were work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nds  for probl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6A4-4417-4F3F-BDB0-72E9C30DD9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1676520"/>
            <a:ext cx="746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ROD Testing (arrived Cambridge  Feb. 4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ROD tested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CC was used to configure TIM and pattern genera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 data was played from pattern generators t &gt; electro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optical converters &gt; BOC  &gt; ROD &gt; personal computer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ext test will be of front end module module config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652-9392-4A16-9288-714D4ADD7E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67652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roduction ROD and BOCs will start when there is sufficient user evaluation to determine that they will perform the required func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is hoped that there will be sufficient  user evaluation to have a F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about 5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all numbers of RODs (total of 13) and BOCs (total of 11) can then be produced as need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 is hoped that the continued user evaluation will be adequate to have the FDR about 8-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of the BOC, ROD and TIM can then proce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D7D-0163-421A-BB7E-51BB40D1CB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828800"/>
            <a:ext cx="7696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onents of the Off 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 (BOC) card (optical interface),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, Wiscon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, University College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Backplane, Ox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,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, Iowa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499-E081-4B6C-903B-F91E4DA8A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90720"/>
            <a:ext cx="8736120" cy="964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5684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12C-FF5A-43D2-8C3F-26E01D317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7680" y="1600200"/>
            <a:ext cx="32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 (Timing Interface 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0" y="1981080"/>
            <a:ext cx="5321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clock and trigger information from the T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s clock and trigger information to the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busy information from the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s and passes on busy to the L1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stand alone under control of the R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4240" y="4114800"/>
            <a:ext cx="304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C (ROD Crate controll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9640" y="4495680"/>
            <a:ext cx="64656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configuration data from the ATLAS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s the TIM, ROD and B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operation of the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the crate during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eadout, control and configuration in stand alon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F98-9CB2-428C-AC2A-E22E9BB88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800" y="1523880"/>
            <a:ext cx="587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C (Back of Crate Card) (ROD optical fib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1680" y="1981080"/>
            <a:ext cx="7930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optical module data and formats data for the ROD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module control data from ROD and formats data for the optical 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individual fib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s the Slink interf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50532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(Read Out D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4840" y="3962520"/>
            <a:ext cx="3499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s inpu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latency 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s header and trailer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s header and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s err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or calibration of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ps and monitors ev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s data for Slink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F5E-8A5F-41C5-8FD3-891B92105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143000"/>
            <a:ext cx="769608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 prototype, (BOC-0 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-0 was the proof-of-princip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scale (48 command, 96 data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functionality  (inc. Some Pixel 80MHz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PM4 rather than BPM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ad VCSELs to match BP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-mirrors match BPM4 I-sink outputs to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thode  VCSEL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sting show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unications with ROD works f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X: Clock and Command stream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X: Data Stream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ye pattern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ing measurement procedure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-muxing of PIXELS 80 MS/s data demons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33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A3C-90E6-4D2A-BD88-745F2ED59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143000"/>
            <a:ext cx="769608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1 is the pre-production proto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sing production compatibl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hould move seamlessly int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anges from BOC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 (remarkably small) number of PCB f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uce PCB depth to 220 mm (was 240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d Power Monitor and Power-up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Circuit Changes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l with fail-safe provisions                 ??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crease range of fine clock delay to 10ns in 10ns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hould give reduced short-term jitter and guaranteed mar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ve to New Optical and ASICs: see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33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C35-CEBC-48AA-A19F-E35BC1D5D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143000"/>
            <a:ext cx="769608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w Opto and A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PM12 is major rework of BP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 streams rather tha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rives common cathode la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ny other impr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w Opto Plug-In Modules by Academica Sinica of Taiw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 x OpTX per BOC … BPM12, VCSEL12 &amp; 2 x MDAC (La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8 x OpRX per BOC … DRX!@, PIN12 &amp; 2 x MDACs (Thresho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ows better testing &amp; far easier r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ze:21 x 3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33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2865600" cy="17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967-B20F-40EB-932B-7F945ECAA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LBNL</cp:lastModifiedBy>
  <cp:lastPrinted>2001-02-12T17:36:05Z</cp:lastPrinted>
  <dcterms:modified xsi:type="dcterms:W3CDTF">2002-02-08T20:10:13Z</dcterms:modified>
  <cp:revision>44</cp:revision>
  <dc:subject/>
  <dc:title>No Slide Title</dc:title>
</cp:coreProperties>
</file>