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4B1-F2C6-438E-B324-A603A674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0CF-4AF5-4FC8-AD3C-37CC48A6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222-2D5B-4A78-8DE7-58F0D2A4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E56-4472-401A-A533-E8EC4B17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E8C-7F96-404D-BD26-CCB5161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D46-14FB-4A6E-8BA5-1976608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408-8005-4CBE-BF1F-4C3F1EE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035-9F85-4A77-B464-9C77733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668-4022-4E05-BD36-1F372896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FDE-AF42-4E0D-B8E4-19612727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C03-CEA8-4334-A1BF-B59EC2B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28D-8F41-4278-82B6-620CB2F1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568-622D-4B2E-8969-E7FB49CB0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838080"/>
            <a:ext cx="7696080" cy="52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:  Back Of Crate (BOC) card (optical interface) and SCT DAQ, Andy Parker, John Hill and Maurice Goodri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sconsin : 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hang Dao, Damon Fasching, Richard Jared, John Joseph, Mark Nagel, Sriram Sivasubramaniyan (Ohio State) and Lukas Tomasek (Institute of Physics AV CR, Pragu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versity College London: Timing Interface Module (TIM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n Butterworth, John Lane, Martin Postranecky and Matthew  War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ford Crate Back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y Was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owa State Pixel DAQ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y McK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Meyer and Eli Rose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char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8F7-F985-425F-9114-6CED120143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600200"/>
            <a:ext cx="7696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  Prototype, (BOC 0)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 cards loaded, population not complete (opto supp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 Command streams with BP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 un-encoded Command streams (for tes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 controlled DC Command streams (tes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36 Data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irst tests OK (CPLDs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st functions t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101-1630-44F5-8F3E-1C970FF01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219320"/>
            <a:ext cx="769644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C Tes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t Up Bus operations work f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d and write to BOC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rite to BPM4 registers (BPM4 read-back HW def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rite to laser current DACs OK (serial path (no read code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rite to data threshold DACs OK (serial path (no read code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rite to data delay chips OK (I2C path (no read code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rite to coarse clock delay  OK (no read co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d/Write to fine clock delay 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d/Write to clock control 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d ID information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ing/threshold Vari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ceiver threshold scans show 4 micro Watts for 1 to 0 tran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 transmission level of 60 micro Watts.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lay scans show timing jitter of less then 1 nano sec (60 micro W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gnal leve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B65-9AA8-4DB5-A2DC-CC7F8A12C8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60020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Model Changes (BOC 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CSEL are changing from modulo 4 to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mirrors that drive the VCSEL will not be nee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ser current amplifiers will not b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PMs are changing from modulo 4 to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Xs will be mounted on the front and back side of the card to minim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ath length from the Pin array to the D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or correction to the art work will  be made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2EE-A637-4D4D-A2D6-A797F35170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1676520"/>
            <a:ext cx="76960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cal components in hand are sufficient to load one produ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d and  partially ( 12 control and 12 data links) load 7 cards. Thi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barely meet the needs of initial systems for macro assembly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optical component selection and delivery is question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wo vendors are involved (Mitel and Taiw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el devices are currently in use, but they are not willing at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e to commit to production quantities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cademia Sinica of Taiw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as  provided a prototype laser de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BOC schedule needs to know the vendor by October 1, 2001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devices for 3 cards in hand by November 30, 2001 to mee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s of the macro assembly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early production schedule is very t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576-13A2-42D3-AFE1-AA2876AE88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066680"/>
            <a:ext cx="7696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chedule, BO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ly 15, 2001, Start Layout of BOC produ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ctober 1, 2001, complete layout of BOC produc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cember 31, 2001, 3 BOC cards fabr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nuary 30, 2001, 3 BOC production model cards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04F-AFAC-42C5-A45F-5AC7252975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609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550200" cy="58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D19-4CEE-4880-A98B-6C7150EFD6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79800" y="866880"/>
            <a:ext cx="6382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9800" y="3610080"/>
            <a:ext cx="638280" cy="11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46800" y="866880"/>
            <a:ext cx="954000" cy="41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84520" y="866880"/>
            <a:ext cx="609480" cy="517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4143240"/>
            <a:ext cx="76212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457440"/>
            <a:ext cx="76212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2771640"/>
            <a:ext cx="7621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085840"/>
            <a:ext cx="76212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/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5133960"/>
            <a:ext cx="16761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4143240"/>
            <a:ext cx="60984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3457440"/>
            <a:ext cx="609840" cy="657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2771640"/>
            <a:ext cx="60984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2085840"/>
            <a:ext cx="609840" cy="65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P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0120" y="1247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009880"/>
            <a:ext cx="556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94000" y="4981680"/>
            <a:ext cx="1560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26000" y="4295880"/>
            <a:ext cx="228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6000" y="1552680"/>
            <a:ext cx="228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552680"/>
            <a:ext cx="0" cy="34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58200" y="132408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019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7600" y="866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0DATA 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3240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00" y="11714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11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781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7600" y="16286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12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0858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600" y="19335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23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543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7240" y="239076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24DATA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8479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7600" y="26956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35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305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3152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36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6100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00" y="34574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47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067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240" y="391464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48DATA 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3718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7600" y="42195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59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48290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600" y="467676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60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1339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7600" y="49816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71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1640" y="10857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0120" y="2009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847880"/>
            <a:ext cx="493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0120" y="27716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1640" y="261000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0120" y="3533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1640" y="33717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0120" y="4295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1640" y="41338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0120" y="5057640"/>
            <a:ext cx="457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91640" y="489600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01920" y="1552680"/>
            <a:ext cx="6778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65920" y="1390680"/>
            <a:ext cx="7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ntFrgBl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1640" y="4295880"/>
            <a:ext cx="668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65920" y="4133880"/>
            <a:ext cx="7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ntFrgBl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64120" y="4819680"/>
            <a:ext cx="797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      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der/Trai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9240" y="1847880"/>
            <a:ext cx="6814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s 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400800" y="1247400"/>
            <a:ext cx="76212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0520" y="1095480"/>
            <a:ext cx="6814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vents 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24004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19800" y="223848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0862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9800" y="292428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3848040"/>
            <a:ext cx="6094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19800" y="368604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44578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19800" y="4295880"/>
            <a:ext cx="71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 32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56760" y="1162080"/>
            <a:ext cx="6220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LINK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23907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239076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09920" y="5133960"/>
            <a:ext cx="1295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5438880"/>
            <a:ext cx="1484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07960" y="5276880"/>
            <a:ext cx="121536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 EventDATA   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11280" y="543888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010280" y="6172200"/>
            <a:ext cx="198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80480" y="6172200"/>
            <a:ext cx="1204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 TriggerDATA    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om T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39120" y="22287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30765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39120" y="29145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37623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39120" y="36003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0120" y="4448160"/>
            <a:ext cx="685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39120" y="4286160"/>
            <a:ext cx="81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ed  1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7320" y="1247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27320" y="4295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227320" y="1247760"/>
            <a:ext cx="144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227320" y="2009520"/>
            <a:ext cx="1440" cy="16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227320" y="4295880"/>
            <a:ext cx="144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1019160"/>
            <a:ext cx="7617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ent Fi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bx4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4680" y="1019160"/>
            <a:ext cx="6098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559116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" y="543888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72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8960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600" y="57434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83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635328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7600" y="6200640"/>
            <a:ext cx="9558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84DATA 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6657840"/>
            <a:ext cx="838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240" y="6505560"/>
            <a:ext cx="98172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k 951DATA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70120" y="581976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1640" y="565776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70120" y="658188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1640" y="6419880"/>
            <a:ext cx="54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fo 4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27320" y="5057640"/>
            <a:ext cx="1440" cy="164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8668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6286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23907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528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9146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67676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438880"/>
            <a:ext cx="685800" cy="6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6200640"/>
            <a:ext cx="6858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o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00800" y="141876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0160" y="1257480"/>
            <a:ext cx="7452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aValid 1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57913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ME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5410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00600" y="6248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6095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 For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5562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1B1-9F97-4093-9AF2-411EADA42F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1295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RODPhot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32312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V="1">
            <a:off x="2057400" y="1141920"/>
            <a:ext cx="3276720" cy="16002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819520"/>
            <a:ext cx="533160" cy="533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905120" y="4494960"/>
            <a:ext cx="4495680" cy="1676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71800" y="3504600"/>
            <a:ext cx="685800" cy="685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133720" y="3429000"/>
            <a:ext cx="761760" cy="838080"/>
          </a:xfrm>
          <a:custGeom>
            <a:avLst/>
            <a:gdLst>
              <a:gd name="textAreaLeft" fmla="*/ 37080 w 761760"/>
              <a:gd name="textAreaRight" fmla="*/ 724680 w 761760"/>
              <a:gd name="textAreaTop" fmla="*/ 37080 h 838080"/>
              <a:gd name="textAreaBottom" fmla="*/ 801000 h 838080"/>
            </a:gdLst>
            <a:ahLst/>
            <a:rect l="textAreaLeft" t="textAreaTop" r="textAreaRight" b="textAreaBottom"/>
            <a:pathLst>
              <a:path w="21600" h="23763">
                <a:moveTo>
                  <a:pt x="3600" y="0"/>
                </a:moveTo>
                <a:arcTo wR="3600" hR="3600" stAng="16200000" swAng="-5400000"/>
                <a:lnTo>
                  <a:pt x="0" y="20163"/>
                </a:lnTo>
                <a:arcTo wR="3600" hR="3600" stAng="10800000" swAng="-5400000"/>
                <a:lnTo>
                  <a:pt x="18000" y="237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343400" y="2818800"/>
            <a:ext cx="304920" cy="152388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1523880"/>
              <a:gd name="textAreaBottom" fmla="*/ 1509120 h 1523880"/>
            </a:gdLst>
            <a:ahLst/>
            <a:rect l="textAreaLeft" t="textAreaTop" r="textAreaRight" b="textAreaBottom"/>
            <a:pathLst>
              <a:path w="21600" h="107847">
                <a:moveTo>
                  <a:pt x="3600" y="0"/>
                </a:moveTo>
                <a:arcTo wR="3600" hR="3600" stAng="16200000" swAng="-5400000"/>
                <a:lnTo>
                  <a:pt x="0" y="104247"/>
                </a:lnTo>
                <a:arcTo wR="3600" hR="3600" stAng="10800000" swAng="-5400000"/>
                <a:lnTo>
                  <a:pt x="18000" y="107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10080" y="1142280"/>
            <a:ext cx="762120" cy="152388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1523880"/>
              <a:gd name="textAreaBottom" fmla="*/ 1486800 h 152388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3962520"/>
            <a:ext cx="914400" cy="198108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981080"/>
              <a:gd name="textAreaBottom" fmla="*/ 1936440 h 1981080"/>
            </a:gdLst>
            <a:ahLst/>
            <a:rect l="textAreaLeft" t="textAreaTop" r="textAreaRight" b="textAreaBottom"/>
            <a:pathLst>
              <a:path w="21600" h="46787">
                <a:moveTo>
                  <a:pt x="3600" y="0"/>
                </a:moveTo>
                <a:arcTo wR="3600" hR="3600" stAng="16200000" swAng="-5400000"/>
                <a:lnTo>
                  <a:pt x="0" y="43187"/>
                </a:lnTo>
                <a:arcTo wR="3600" hR="3600" stAng="10800000" swAng="-5400000"/>
                <a:lnTo>
                  <a:pt x="18000" y="46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3200400"/>
            <a:ext cx="838080" cy="685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457200" cy="8380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838080"/>
              <a:gd name="textAreaBottom" fmla="*/ 815760 h 838080"/>
            </a:gdLst>
            <a:ahLst/>
            <a:rect l="textAreaLeft" t="textAreaTop" r="textAreaRight" b="textAreaBottom"/>
            <a:pathLst>
              <a:path w="21600" h="39580">
                <a:moveTo>
                  <a:pt x="3600" y="0"/>
                </a:moveTo>
                <a:arcTo wR="3600" hR="3600" stAng="16200000" swAng="-5400000"/>
                <a:lnTo>
                  <a:pt x="0" y="35980"/>
                </a:lnTo>
                <a:arcTo wR="3600" hR="3600" stAng="10800000" swAng="-5400000"/>
                <a:lnTo>
                  <a:pt x="18000" y="395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705720" y="18280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2819520"/>
            <a:ext cx="4267440" cy="3200400"/>
          </a:xfrm>
          <a:custGeom>
            <a:avLst/>
            <a:gdLst/>
            <a:ahLst/>
            <a:rect l="l" t="t" r="r" b="b"/>
            <a:pathLst>
              <a:path w="2688" h="2016">
                <a:moveTo>
                  <a:pt x="2688" y="2016"/>
                </a:moveTo>
                <a:lnTo>
                  <a:pt x="0" y="2016"/>
                </a:lnTo>
                <a:lnTo>
                  <a:pt x="144" y="0"/>
                </a:lnTo>
                <a:lnTo>
                  <a:pt x="1200" y="0"/>
                </a:lnTo>
                <a:lnTo>
                  <a:pt x="1200" y="960"/>
                </a:lnTo>
                <a:lnTo>
                  <a:pt x="2688" y="960"/>
                </a:lnTo>
                <a:lnTo>
                  <a:pt x="2688" y="2016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666160" y="4571280"/>
            <a:ext cx="304920" cy="304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2040" y="6324480"/>
            <a:ext cx="163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ormatter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4160" y="6324480"/>
            <a:ext cx="14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ata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4920" y="388620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ster 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&amp;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6360" y="28954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6320" y="1447920"/>
            <a:ext cx="59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7520" y="76212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gram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8160" y="6858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ower su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9080" y="68580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lave DSPs &amp; mem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3920" y="2286000"/>
            <a:ext cx="65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3200" y="2895480"/>
            <a:ext cx="65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0040" y="388620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ebug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erandom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em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600200" y="6095520"/>
            <a:ext cx="380880" cy="30492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257800" y="6019920"/>
            <a:ext cx="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467480" y="4267080"/>
            <a:ext cx="60984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238880" y="3124080"/>
            <a:ext cx="609840" cy="15264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010280" y="1676520"/>
            <a:ext cx="609840" cy="1522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552720" y="990720"/>
            <a:ext cx="22860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914400"/>
            <a:ext cx="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914400"/>
            <a:ext cx="0" cy="22860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2590920"/>
            <a:ext cx="152424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3200400"/>
            <a:ext cx="167652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295280" y="4114800"/>
            <a:ext cx="838440" cy="7632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4191120"/>
            <a:ext cx="1371600" cy="38088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4191120"/>
            <a:ext cx="3048120" cy="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5181480" y="2742480"/>
            <a:ext cx="990720" cy="16765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676520"/>
              <a:gd name="textAreaBottom" fmla="*/ 1628280 h 1676520"/>
            </a:gdLst>
            <a:ahLst/>
            <a:rect l="textAreaLeft" t="textAreaTop" r="textAreaRight" b="textAreaBottom"/>
            <a:pathLst>
              <a:path w="21600" h="36547">
                <a:moveTo>
                  <a:pt x="3600" y="0"/>
                </a:moveTo>
                <a:arcTo wR="3600" hR="3600" stAng="16200000" swAng="-5400000"/>
                <a:lnTo>
                  <a:pt x="0" y="32947"/>
                </a:lnTo>
                <a:arcTo wR="3600" hR="3600" stAng="10800000" swAng="-5400000"/>
                <a:lnTo>
                  <a:pt x="18000" y="365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27960" y="209376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OD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172200" y="2286000"/>
            <a:ext cx="1447920" cy="533520"/>
          </a:xfrm>
          <a:prstGeom prst="line">
            <a:avLst/>
          </a:prstGeom>
          <a:ln w="158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427-F509-4D08-AB77-03BE60292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815364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 the Formatter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 the Event Fragment Builder wor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ugh the Router work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Slave DSP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ation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cation to/from Slave DSP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nning primitives in the Master/Slave DSP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E read/write to the ROD 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ler FPGA is  working.  Some of the functionality has not b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ed.  It is expected that more bugs will be fo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are no other problems kn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A3F-3C37-4B1E-8C8D-BF17EB7B24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685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815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e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otype RODs (2 ea.) have been fabr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roduction model will be fabricated in July and August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rly fabrication of 10 RODs in October to December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of 100 RODS in first and second quarter of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s 8ea. will be purchased when CERN has the purchase order in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Stand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est stand software will be used for the early tests at Cambri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est stand software is about 85%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emaining software is for the production test 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OD is very complex.  It is not known how easy it will be to debu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ards.  There is also concern with the number of defects i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ufactured card.  These effects are very manufacturer specif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ificant effort is being made to find good manufactur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685-A8A1-4E31-AB2F-D6220947C7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914400"/>
            <a:ext cx="7696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 Cover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 of Off Detecto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 (B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System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59B-9C94-4014-B377-F922B6CCA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79640" y="762120"/>
            <a:ext cx="522756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354-5B42-4ACF-9826-0BC2FFA087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5335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1295280"/>
            <a:ext cx="8412120" cy="4957920"/>
            <a:chOff x="228600" y="1295280"/>
            <a:chExt cx="8412120" cy="4957920"/>
          </a:xfrm>
        </p:grpSpPr>
        <p:pic>
          <p:nvPicPr>
            <p:cNvPr id="314" name="tim_cut_out" descr=""/>
            <p:cNvPicPr/>
            <p:nvPr/>
          </p:nvPicPr>
          <p:blipFill>
            <a:blip r:embed="rId1"/>
            <a:stretch/>
          </p:blipFill>
          <p:spPr>
            <a:xfrm>
              <a:off x="1600200" y="1295280"/>
              <a:ext cx="6019920" cy="49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981080" y="1752480"/>
              <a:ext cx="1143000" cy="195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7560" y="159948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VME 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8600" y="335196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ID deMUX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generate &amp; FI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38880" y="33966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equen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16280" y="1626840"/>
              <a:ext cx="12232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TTC to RO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(PECL driv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7360" y="43426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VME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38880" y="4158360"/>
              <a:ext cx="140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tand-alone Trig gen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38880" y="2480760"/>
              <a:ext cx="102096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erial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5028480"/>
              <a:ext cx="140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NIM/ECL Aux TTC 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095520" y="1828800"/>
              <a:ext cx="114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400800" y="3581280"/>
              <a:ext cx="838080" cy="119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5410080" y="4387320"/>
              <a:ext cx="1828800" cy="32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0800" y="4419720"/>
              <a:ext cx="83808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333760" y="2711520"/>
              <a:ext cx="1904760" cy="1141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5120" y="4495680"/>
              <a:ext cx="1523880" cy="349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981080" y="2940120"/>
              <a:ext cx="175284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81080" y="3015720"/>
              <a:ext cx="2514600" cy="489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1080" y="3473280"/>
              <a:ext cx="3200400" cy="184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1981080" y="2436840"/>
              <a:ext cx="3353040" cy="154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714640" y="5257800"/>
              <a:ext cx="1523880" cy="652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5790960" y="5181480"/>
              <a:ext cx="144756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6720" y="243756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RODBus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7520" y="5180760"/>
              <a:ext cx="122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TTCrx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905120" y="4876920"/>
              <a:ext cx="2590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171840" y="1828800"/>
              <a:ext cx="106668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F99-197F-4D2F-A8AC-ACD4E84438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752480"/>
            <a:ext cx="73645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have we done so f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 prototype TIM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 in hand for 8 more T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Cambridge in 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jitter at BOC input reduced to 400ps p2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 corrections/modifications submitted for drawing @ 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wor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ME access to all registers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and sequencer (i.e. Programmable pattern gene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, front panel and standalone inpu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93C-0950-4DFD-B2A1-F958A498F8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1066680"/>
            <a:ext cx="75438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&amp; Testing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mulation of remaining CPLDs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BCID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TTCrx I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VME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/Problem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ly 4/10 CPLDs simulated so f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proceeds slow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logic needs atten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 more TIMs (iteration of prototype) to be manufactured so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for Q3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rther six can be made as requi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2 200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601-9267-476C-87C1-32589683D1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Back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167652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mplish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otype backplanes have been fabric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plane test boards have been fabr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plane mounted and tested in Cambridge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plane power loading t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Wor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rections of errors in ar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85A-F783-4788-B637-C399840121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mplish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: The pixel and SCT DAQ are expected to have much overlap of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cases have been studied to determine  ROD DSP code part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and Pixel DAQ workshop was held last we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DAQ has written several primitives for the slave D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DAQ has written a memory test prim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DAQ has generated the Cambridge system test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DAQ has written code to communicate to the TI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Wor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of partitioning and function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estigating the use of DAQ-1 for macro assembly s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er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AQ code is not writ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power is limi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AFB-323E-4AD5-8D95-1335848019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4920" y="60948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System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ed 23 June - ROD arrived at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 developed to check that the ROD/BOC/TIM/Backplane work together as adverti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ly, TIM will be used just to provide the 40MHz clock and communication between ROD&lt;==&gt;BOC will be tes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Hardware signals sent from one to the other  corr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Commands and responses propagate correctly on the setup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bit errors in the control and data paths have been detected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ore testing need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Software has been written and tested OK to perform Optical link delay sc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ftware will be written to perform optical link threshold sc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ce ROD&lt;==&gt;BOC communications are tested, TIM will be fully inclu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 the TTC signals transmit to the ROD correctly (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 progr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the ROD busy transmit to the TI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F2C-34A7-4580-9E92-1F3A4EFAC0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04920" y="609480"/>
            <a:ext cx="7467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bridge System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 move on to tests which use the hardware as a “system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chanisms for BOC timing adjustments (allowing for variations in fiber leng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 the redundancy routes work correctly (this includes both the backup control path, and the use of a single data fiber for both sides of a detector modu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d “real” data through the full readout chain (first with simulated, then real detector module). 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 progr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ck and control transmitted correct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ror handling (e.g. missing event on 1 channel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the S-link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the system operate at 100kH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events be read from the ROD in stand alone mode at 1kHz (or close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the ROD switch correctly into and out of “header-only” mod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78F-A043-4858-80A4-D5DA965F84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676520"/>
            <a:ext cx="7696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macro assembly locations (Oxford (Richard Nickerson), NIKHEF (Nigel Hessey), KEK (Nobu Unno), Sheffield (Craig Buttar), Liverpool (Neil Jackson) )were contacted to determine their need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 is expected that the schedule needs will be satisfi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chedule information below (through macro assembly) is the result of the surv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8BB-3CA2-4223-A1DC-AE6FF50CF6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1143000"/>
            <a:ext cx="7696080" cy="48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initial systems contain one of each type of hardware (TIM, BOC, ROD, National Instruments Lab Windows and interface module (may be replaced by single board computer and DAQ-1) and crate). It is intended to be used to learn how to run the system and software suppl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ote: The off detector group will need help with module analysis software.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Systems Needs                                            TIM    BOC   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quarter of 01 initial system Cambridge       1           1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 01 initi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K, NIKHEF and Oxford                                       3           3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 02 initial system Sheffield              1           1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 02 initial system Liverpool             1           1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 02 Initi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CL, Wisconsin, Iowa and Pixels                              4            4  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--------------------------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Initial Systems        10         10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A3B-AE0E-4245-9F3C-31AADF17B3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828800"/>
            <a:ext cx="7696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onents of the Off Detecto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 (BOC) card (optical interface),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 Out Driver (ROD), Wiscons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, University College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Backplane, Ox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T DAQ, Cam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xel DAQ, Iowa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149-4D7C-4CFB-9A16-4264286C0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1143000"/>
            <a:ext cx="7696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macro assembly site needs as a function of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for SCT Assembly Site                     BOC   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 02                                                       3          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quarter of 02                                                  14       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quarter of  02                                                   36        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 02                                                 50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vidual macro assembly site needs are shown be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ford (Richard Nickers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red date initial system arrives:     Oct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 BOCs and RODs  at macro assembly lo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2002         0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quarter of 2002     4 ea. by Feb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quarter of 2002      16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2002    16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4F0-4350-43EF-8C8C-3777C7DFFA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KHEF (Nigel Hesse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red date initial system arrives:     Oct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 BOCs and RODs  at macro assembly lo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2002       1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quarter of 2002   4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quarter of 2002     4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2002   6 e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K (Nobu Unn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red date initial system arrives:     Oct.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 BOCs and RODs  at macro assembly lo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2002       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quarter of 2002     1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quarter of 2002       6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2002    15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B31-2EBE-4435-A0B4-967B12ED4C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676520"/>
            <a:ext cx="76964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effield (Craig Butta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red date initial system arrives:     Jan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 BOCs and RODs  at macro assembly lo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2002        1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quarter of 2002    2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quarter of 2002      6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2002    9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verpool (Neil Jacks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red date initial system arrives:Will use UK s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mulative BOCs and RODs  at macro assembly lo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quarter of 2002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guarter of 2002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quarter of 2002      4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quarter of 2002    4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B7B-C952-4366-980A-3626F44574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90720"/>
            <a:ext cx="8736120" cy="964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5684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572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2E0-280B-458F-9F1A-2C98CB179E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7680" y="1600200"/>
            <a:ext cx="32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 (Timing Interface Modu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6400" y="1981080"/>
            <a:ext cx="5321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clock and trigger information from the T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s clock and trigger information to the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busy information from the 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s and passes on busy to the L1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stand alone under control of the R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4240" y="4114800"/>
            <a:ext cx="304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C (ROD Crate controll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9640" y="4495680"/>
            <a:ext cx="64656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configuration data from the ATLAS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s the TIM, ROD and B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operation of the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the crate during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eadout, control and configuration in stand alone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A2A-3701-4544-8D73-02F80011C4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800" y="1523880"/>
            <a:ext cx="587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C (Back of Crate Card) (ROD optical fib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1680" y="1981080"/>
            <a:ext cx="7930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optical module data and formats data for the ROD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module control data from ROD and formats data for the optical f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individual fib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s the Slink interfa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50532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 (Read Out D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4840" y="3962520"/>
            <a:ext cx="3499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s inpu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latency 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s header and trailer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s header and tr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s err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or calibration of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ps and monitors ev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s data for Slink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02C-09C8-4BA2-AB60-F4282EE3FF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14300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 prototype, (BOC-0 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C-0 is intended as a proof-of-princip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ll scale (48 command, 96 data 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ll functionality  (inc. Some Pixel 80MHz strea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PM4 rather than BPM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ad VCSELs to match BP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urrent-mirrors match BPM4 I-sink outputs to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athode  VCSEL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533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8A5-CABA-4FFA-97EB-2C93ED6AE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66680" y="1295280"/>
            <a:ext cx="6781680" cy="4981680"/>
            <a:chOff x="1066680" y="1295280"/>
            <a:chExt cx="6781680" cy="4981680"/>
          </a:xfrm>
        </p:grpSpPr>
        <p:pic>
          <p:nvPicPr>
            <p:cNvPr id="77" name="" descr=""/>
            <p:cNvPicPr/>
            <p:nvPr/>
          </p:nvPicPr>
          <p:blipFill>
            <a:blip r:embed="rId1"/>
            <a:srcRect l="24986" t="4124" r="7841" b="7449"/>
            <a:stretch/>
          </p:blipFill>
          <p:spPr>
            <a:xfrm>
              <a:off x="1066680" y="1295280"/>
              <a:ext cx="6781680" cy="49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820160" y="1625400"/>
              <a:ext cx="7257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cc"/>
                  </a:solidFill>
                  <a:latin typeface="Times New Roman"/>
                </a:rPr>
                <a:t>Interloc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D04-5F51-43D0-B359-10BBAD7F1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June 25, 200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838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 Of Crates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676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Image04cr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50208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3080" y="144792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CSEL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638680" y="2438280"/>
            <a:ext cx="91440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66920" y="1752480"/>
            <a:ext cx="685800" cy="5335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97180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P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800600" y="3124080"/>
            <a:ext cx="175248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181480" y="3276720"/>
            <a:ext cx="1371600" cy="1522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1828800" cy="5806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ser Current - DACs+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228600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rrent Mi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91320" y="1752480"/>
            <a:ext cx="761760" cy="2286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86040" y="2438280"/>
            <a:ext cx="106668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579132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N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791320" y="5943240"/>
            <a:ext cx="761760" cy="1522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791320" y="6095880"/>
            <a:ext cx="761760" cy="763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480060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X amp/discr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09720" y="5105520"/>
            <a:ext cx="1143000" cy="3045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409720" y="4572000"/>
            <a:ext cx="1143000" cy="5335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752480"/>
            <a:ext cx="137160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962520"/>
            <a:ext cx="1828800" cy="60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xel Compa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267080"/>
            <a:ext cx="121932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4267080"/>
            <a:ext cx="1447920" cy="6858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80060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Delay C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105520"/>
            <a:ext cx="18288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105520"/>
            <a:ext cx="2286000" cy="30456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3962520"/>
            <a:ext cx="1828800" cy="3373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/Hold DA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1480" y="4267080"/>
            <a:ext cx="1371600" cy="1526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15000" y="4267080"/>
            <a:ext cx="838080" cy="6858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562720"/>
            <a:ext cx="1828800" cy="28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5638680"/>
            <a:ext cx="1067040" cy="763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715000"/>
            <a:ext cx="1600200" cy="30492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895480"/>
            <a:ext cx="1828800" cy="28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ck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124080"/>
            <a:ext cx="1143000" cy="91440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397-AA9F-4D4F-83F7-CEE8E7ED0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40:00Z</dcterms:created>
  <dc:creator>LBNL</dc:creator>
  <dc:description/>
  <dc:language>en-US</dc:language>
  <cp:lastModifiedBy>ft</cp:lastModifiedBy>
  <cp:lastPrinted>2001-02-12T17:36:05Z</cp:lastPrinted>
  <dcterms:modified xsi:type="dcterms:W3CDTF">2001-06-27T13:43:21Z</dcterms:modified>
  <cp:revision>39</cp:revision>
  <dc:subject/>
  <dc:title>No Slide Title</dc:title>
</cp:coreProperties>
</file>