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F5D-6300-4BE4-90C0-995925FF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795-8861-431E-B091-43645B88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B8F-F2A1-4959-B707-F849E797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621-9B14-48E7-839C-CB7B8500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693-34EF-4B23-BED8-C7F5272D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7942-43FE-4724-B1F6-2D73539D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B00-B262-4EAC-B4B7-D568544A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237-CE28-462F-A47F-2CA45B97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732E-D1FA-4709-AB7E-B8AB3E3D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033-F827-48A8-84CB-FA541156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355-20C4-434A-98BA-27131E88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14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556-0FBC-4C19-81FC-7C7CD44B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60F0-5128-42E5-ACB8-DE6E3D1A8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February 6, 200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752480"/>
            <a:ext cx="73645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have we done so f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Four prototype TIM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s in hand for 6 more T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IM delivered to Cambridge in March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jitter at BOC input reduced to 100ps peak-to-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rrections/modifications submitted for drawing at 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hat is work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VME access to all registers &amp;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ck and sequencer (i.e. Programmable pattern gener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TC, front-panel, standalone and ROD Busy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ent ID and backplane outpu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7A84-1EC8-4EC6-A92A-83C38691DB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609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ming Interface Module (TI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CT and Pixel Off Detector Electronics Status February 6, 200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066680"/>
            <a:ext cx="754380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tatus upd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ll CPLDs sim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CID offset is 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TCrx I</a:t>
            </a:r>
            <a:r>
              <a:rPr b="1" lang="en-GB" sz="18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 interface is oper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vent ID logic is operat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o 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ebugging &amp; Testing (ongo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ding of VME interrupts (ongo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earning curve for FPGA implementation (just starting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lans and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ix more TIMs (iteration of prototype) to be manufactured soon for 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design/implement TIM using new parts ("final" system) for Q3 200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236-94CF-42A6-97C6-EC17236DBE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30T15:40:00Z</dcterms:created>
  <dc:creator>LBNL</dc:creator>
  <dc:description/>
  <dc:language>en-US</dc:language>
  <cp:lastModifiedBy>lane</cp:lastModifiedBy>
  <cp:lastPrinted>2001-02-12T17:36:05Z</cp:lastPrinted>
  <dcterms:modified xsi:type="dcterms:W3CDTF">2002-02-06T20:36:38Z</dcterms:modified>
  <cp:revision>42</cp:revision>
  <dc:subject/>
  <dc:title>No Slide Title</dc:title>
</cp:coreProperties>
</file>