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DFB-9BC7-4278-A666-64168CA2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481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3EF-C6D3-4877-80A0-9B5EF2B7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B55-9687-4EB6-A5B0-ABE7334C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CBA-9404-4FE2-8C5E-907C9A24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B5D-4C82-4E3B-9011-A83BDB44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F43-77AF-4E23-9871-49D4A452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64E-FBEA-48BA-89A5-D7103E09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EC26-A99C-417A-949A-6624A360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915-0920-4A65-B458-33264A9E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D16-EDE7-41F9-B8FA-72AADBAA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0003-B675-4FFB-996F-03D331FD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0D7-48D8-41D7-9D6E-860D4C05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E14A-4A64-4D16-850B-BD4BFA146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Interface Module (T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February 6, 200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752480"/>
            <a:ext cx="736452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have we done so f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en prototype TIMs have been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IM delivered to Cambridge in March 2001 for system t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IM delivered to LBL in March 2002 (and NIKHEF MDT in Nov 200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IMs ready for shipping to CERN and Oxf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ck jitter at BOC input reduced to 100ps peak-to-pea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work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ME access to all registers &amp;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ck and sequencer (i.e. Programmable pattern gener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TC, front-panel, standalone and ROD Busy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vent ID and backplane outpu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4908-8D62-423B-9798-D2241B03EA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Interface Module (T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February 6, 200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066680"/>
            <a:ext cx="75438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t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ll CPLDs simu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CID offset is oper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TCrx I</a:t>
            </a:r>
            <a:r>
              <a:rPr b="1" lang="en-GB" sz="1800" spc="-1" strike="noStrike" baseline="33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 interface is oper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vent ID logic is operat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o 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bugging &amp; Testing (ongo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ding of VME interrupts (ongoing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earning curve for FPGA implementation (just start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lans and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design/implement TIM using new parts ("final" system) for Q4 200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ACCB-B786-4304-9FBB-E577B3E82E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15:40:00Z</dcterms:created>
  <dc:creator>LBNL</dc:creator>
  <dc:description/>
  <dc:language>en-US</dc:language>
  <cp:lastModifiedBy>Lane</cp:lastModifiedBy>
  <cp:lastPrinted>2001-02-12T17:36:05Z</cp:lastPrinted>
  <dcterms:modified xsi:type="dcterms:W3CDTF">2002-06-06T18:51:46Z</dcterms:modified>
  <cp:revision>43</cp:revision>
  <dc:subject/>
  <dc:title>No Slide Title</dc:title>
</cp:coreProperties>
</file>