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14C-3AFD-4E04-99EF-C8B8A98C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5F9-05E1-4D4D-8D72-19B1DC68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68A-151C-439E-B503-39EC511D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7E8-9488-4D19-A66C-C41783E3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06E-B7B2-48CE-8396-431E4FF5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204-408A-426F-8A4B-4E469CD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DD2-FB99-4AAD-B45B-0AC1E9A4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CA6-F722-4AE2-8EDD-1F0B3965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54F-E8A7-4419-A3B0-FF2AB61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160-1EB6-4C79-8024-38D05032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132-0575-4714-8438-EAC9BDBF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259-5738-45F9-B48F-07008E19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0EDC-2F13-4835-9A34-E03D0553D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5.jpeg"/><Relationship Id="rId8" Type="http://schemas.openxmlformats.org/officeDocument/2006/relationships/hyperlink" Target="file:///ATLASweek.ppt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9000" y="762120"/>
          <a:ext cx="22194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62120"/>
                    <a:ext cx="22194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8600" y="304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USA15 - Rack 52U with 9U crates, remote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66680" y="5105520"/>
          <a:ext cx="221004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105520"/>
                    <a:ext cx="221004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28880" y="6781680"/>
          <a:ext cx="2341440" cy="15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8880" y="6781680"/>
                    <a:ext cx="2341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246320" y="2927520"/>
          <a:ext cx="1904760" cy="176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6320" y="2927520"/>
                    <a:ext cx="1904760" cy="17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16224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62240" y="4876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877716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686800"/>
            <a:ext cx="541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Crates with local power supplies are 11U high (inc. fan-t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609480"/>
            <a:ext cx="1828800" cy="792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609480"/>
            <a:ext cx="1828800" cy="60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7162920"/>
            <a:ext cx="182880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200400"/>
            <a:ext cx="182880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5181480"/>
            <a:ext cx="182880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1219320"/>
            <a:ext cx="182880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962520" y="1371600"/>
            <a:ext cx="1828800" cy="1828800"/>
            <a:chOff x="3962520" y="1371600"/>
            <a:chExt cx="1828800" cy="1828800"/>
          </a:xfrm>
        </p:grpSpPr>
        <p:sp>
          <p:nvSpPr>
            <p:cNvPr id="61" name=""/>
            <p:cNvSpPr/>
            <p:nvPr/>
          </p:nvSpPr>
          <p:spPr>
            <a:xfrm>
              <a:off x="3962520" y="1371600"/>
              <a:ext cx="1828800" cy="1828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67080" y="1905120"/>
              <a:ext cx="1219320" cy="8445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U VME64x C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. Fan-tr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267080" y="685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owers &amp;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7162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fl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00680" y="3124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 exch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00680" y="11430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 exch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00680" y="5105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 exch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962520" y="3352680"/>
            <a:ext cx="1828800" cy="1828800"/>
            <a:chOff x="3962520" y="3352680"/>
            <a:chExt cx="1828800" cy="1828800"/>
          </a:xfrm>
        </p:grpSpPr>
        <p:sp>
          <p:nvSpPr>
            <p:cNvPr id="69" name=""/>
            <p:cNvSpPr/>
            <p:nvPr/>
          </p:nvSpPr>
          <p:spPr>
            <a:xfrm>
              <a:off x="3962520" y="3352680"/>
              <a:ext cx="1828800" cy="1828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7080" y="3886200"/>
              <a:ext cx="1219320" cy="8445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U VME64x C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. Fan-tr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962520" y="5334120"/>
            <a:ext cx="1828800" cy="1828800"/>
            <a:chOff x="3962520" y="5334120"/>
            <a:chExt cx="1828800" cy="1828800"/>
          </a:xfrm>
        </p:grpSpPr>
        <p:sp>
          <p:nvSpPr>
            <p:cNvPr id="72" name=""/>
            <p:cNvSpPr/>
            <p:nvPr/>
          </p:nvSpPr>
          <p:spPr>
            <a:xfrm>
              <a:off x="3962520" y="5334120"/>
              <a:ext cx="1828800" cy="1828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5867640"/>
              <a:ext cx="1219320" cy="8445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U VME64x C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. Fan-tr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267080" y="7848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943600" y="762120"/>
            <a:ext cx="609480" cy="7393680"/>
            <a:chOff x="5943600" y="762120"/>
            <a:chExt cx="609480" cy="7393680"/>
          </a:xfrm>
        </p:grpSpPr>
        <p:sp>
          <p:nvSpPr>
            <p:cNvPr id="76" name=""/>
            <p:cNvSpPr/>
            <p:nvPr/>
          </p:nvSpPr>
          <p:spPr>
            <a:xfrm>
              <a:off x="5943600" y="61722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U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3600" y="41911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U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3600" y="22096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U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9920" y="7621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9920" y="1143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9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9920" y="51055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71629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78487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105160" y="914400"/>
            <a:ext cx="1143360" cy="6477120"/>
            <a:chOff x="5105160" y="914400"/>
            <a:chExt cx="1143360" cy="6477120"/>
          </a:xfrm>
        </p:grpSpPr>
        <p:sp>
          <p:nvSpPr>
            <p:cNvPr id="86" name=""/>
            <p:cNvSpPr/>
            <p:nvPr/>
          </p:nvSpPr>
          <p:spPr>
            <a:xfrm>
              <a:off x="5257800" y="914400"/>
              <a:ext cx="990720" cy="914400"/>
            </a:xfrm>
            <a:custGeom>
              <a:avLst/>
              <a:gdLst>
                <a:gd name="textAreaLeft" fmla="*/ 173160 w 990720"/>
                <a:gd name="textAreaRight" fmla="*/ 718200 w 9907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104800" y="6477120"/>
              <a:ext cx="990360" cy="914400"/>
            </a:xfrm>
            <a:custGeom>
              <a:avLst/>
              <a:gdLst>
                <a:gd name="textAreaLeft" fmla="*/ 172800 w 990360"/>
                <a:gd name="textAreaRight" fmla="*/ 717840 w 99036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05520" y="2209680"/>
              <a:ext cx="457200" cy="3886200"/>
            </a:xfrm>
            <a:prstGeom prst="upArrow">
              <a:avLst>
                <a:gd name="adj1" fmla="val 50000"/>
                <a:gd name="adj2" fmla="val 212500"/>
              </a:avLst>
            </a:prstGeom>
            <a:solidFill>
              <a:srgbClr val="bbe0e3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504960" y="914400"/>
            <a:ext cx="1143360" cy="6477120"/>
            <a:chOff x="3504960" y="914400"/>
            <a:chExt cx="1143360" cy="6477120"/>
          </a:xfrm>
        </p:grpSpPr>
        <p:sp>
          <p:nvSpPr>
            <p:cNvPr id="90" name=""/>
            <p:cNvSpPr/>
            <p:nvPr/>
          </p:nvSpPr>
          <p:spPr>
            <a:xfrm flipH="1">
              <a:off x="3504960" y="914400"/>
              <a:ext cx="990720" cy="914400"/>
            </a:xfrm>
            <a:custGeom>
              <a:avLst/>
              <a:gdLst>
                <a:gd name="textAreaLeft" fmla="*/ 173160 w 990720"/>
                <a:gd name="textAreaRight" fmla="*/ 718200 w 9907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657960" y="6477120"/>
              <a:ext cx="990360" cy="9144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190760" y="2209680"/>
              <a:ext cx="457200" cy="3886200"/>
            </a:xfrm>
            <a:prstGeom prst="upArrow">
              <a:avLst>
                <a:gd name="adj1" fmla="val 50000"/>
                <a:gd name="adj2" fmla="val 212500"/>
              </a:avLst>
            </a:prstGeom>
            <a:solidFill>
              <a:srgbClr val="bbe0e3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8120" y="88884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3784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523224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7213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62520" y="609480"/>
            <a:ext cx="1828800" cy="792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962520" y="2743200"/>
            <a:ext cx="1828800" cy="1450080"/>
            <a:chOff x="3962520" y="2743200"/>
            <a:chExt cx="1828800" cy="1450080"/>
          </a:xfrm>
        </p:grpSpPr>
        <p:sp>
          <p:nvSpPr>
            <p:cNvPr id="99" name=""/>
            <p:cNvSpPr/>
            <p:nvPr/>
          </p:nvSpPr>
          <p:spPr>
            <a:xfrm>
              <a:off x="3962520" y="3962520"/>
              <a:ext cx="18288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2520" y="2743200"/>
              <a:ext cx="1828800" cy="1219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2971800"/>
              <a:ext cx="1219320" cy="8445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U VME64x C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. Fan-tr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520" y="388620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t excha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1089000" y="762120"/>
          <a:ext cx="22194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62120"/>
                    <a:ext cx="22194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28600" y="304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USA15 - Rack 52U with 6U crates, local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93680" y="5105520"/>
          <a:ext cx="221004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3680" y="5105520"/>
                    <a:ext cx="221004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028880" y="6781680"/>
          <a:ext cx="2341440" cy="15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8880" y="6781680"/>
                    <a:ext cx="2341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16224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029200"/>
            <a:ext cx="121896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ot all HE may be requi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877716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440" y="8686800"/>
            <a:ext cx="58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Crates with remote power supplies are 9U high (inc. fan-t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609480"/>
            <a:ext cx="1828800" cy="60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858000"/>
            <a:ext cx="182880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1219320"/>
            <a:ext cx="182880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685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owers &amp;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6858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fl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962520" y="1371600"/>
            <a:ext cx="1828800" cy="1450080"/>
            <a:chOff x="3962520" y="1371600"/>
            <a:chExt cx="1828800" cy="1450080"/>
          </a:xfrm>
        </p:grpSpPr>
        <p:sp>
          <p:nvSpPr>
            <p:cNvPr id="120" name=""/>
            <p:cNvSpPr/>
            <p:nvPr/>
          </p:nvSpPr>
          <p:spPr>
            <a:xfrm>
              <a:off x="3962520" y="2590920"/>
              <a:ext cx="18288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2520" y="1371600"/>
              <a:ext cx="1828800" cy="1219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7080" y="1600200"/>
              <a:ext cx="1219320" cy="8445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U VME64x C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. Fan-tr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2520" y="251460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t excha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000680" y="11430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 exch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74674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ne more 6U crate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05440" y="59436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U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05440" y="4572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U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05440" y="3200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U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81760" y="762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81760" y="1143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81760" y="3886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1760" y="5257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81760" y="6858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81760" y="7620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914400"/>
            <a:ext cx="990720" cy="914400"/>
          </a:xfrm>
          <a:custGeom>
            <a:avLst/>
            <a:gdLst>
              <a:gd name="textAreaLeft" fmla="*/ 173160 w 990720"/>
              <a:gd name="textAreaRight" fmla="*/ 718200 w 9907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04600" y="914400"/>
            <a:ext cx="990360" cy="914400"/>
          </a:xfrm>
          <a:custGeom>
            <a:avLst/>
            <a:gdLst>
              <a:gd name="textAreaLeft" fmla="*/ 172800 w 990360"/>
              <a:gd name="textAreaRight" fmla="*/ 717840 w 99036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88884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3784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962520" y="4114800"/>
            <a:ext cx="1828800" cy="1450080"/>
            <a:chOff x="3962520" y="4114800"/>
            <a:chExt cx="1828800" cy="1450080"/>
          </a:xfrm>
        </p:grpSpPr>
        <p:sp>
          <p:nvSpPr>
            <p:cNvPr id="140" name=""/>
            <p:cNvSpPr/>
            <p:nvPr/>
          </p:nvSpPr>
          <p:spPr>
            <a:xfrm>
              <a:off x="3962520" y="5334120"/>
              <a:ext cx="18288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62520" y="4114800"/>
              <a:ext cx="1828800" cy="1219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4343400"/>
              <a:ext cx="1219320" cy="8445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U VME64x C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. Fan-tr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525780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t excha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8120" y="52578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7213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962520" y="5486400"/>
            <a:ext cx="1828800" cy="1450080"/>
            <a:chOff x="3962520" y="5486400"/>
            <a:chExt cx="1828800" cy="1450080"/>
          </a:xfrm>
        </p:grpSpPr>
        <p:sp>
          <p:nvSpPr>
            <p:cNvPr id="147" name=""/>
            <p:cNvSpPr/>
            <p:nvPr/>
          </p:nvSpPr>
          <p:spPr>
            <a:xfrm>
              <a:off x="3962520" y="6705720"/>
              <a:ext cx="18288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520" y="5486400"/>
              <a:ext cx="1828800" cy="1219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7080" y="5715000"/>
              <a:ext cx="1219320" cy="8445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U VME64x C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. Fan-tr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2520" y="662940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t excha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 flipV="1">
            <a:off x="5104800" y="6172200"/>
            <a:ext cx="990360" cy="914400"/>
          </a:xfrm>
          <a:custGeom>
            <a:avLst/>
            <a:gdLst>
              <a:gd name="textAreaLeft" fmla="*/ 172800 w 990360"/>
              <a:gd name="textAreaRight" fmla="*/ 717840 w 99036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57600" y="6172200"/>
            <a:ext cx="990720" cy="914400"/>
          </a:xfrm>
          <a:custGeom>
            <a:avLst/>
            <a:gdLst>
              <a:gd name="textAreaLeft" fmla="*/ 173160 w 990720"/>
              <a:gd name="textAreaRight" fmla="*/ 718200 w 9907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057400"/>
            <a:ext cx="457200" cy="3886200"/>
          </a:xfrm>
          <a:prstGeom prst="upArrow">
            <a:avLst>
              <a:gd name="adj1" fmla="val 50000"/>
              <a:gd name="adj2" fmla="val 212500"/>
            </a:avLst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191120" y="2057400"/>
            <a:ext cx="457200" cy="3886200"/>
          </a:xfrm>
          <a:prstGeom prst="upArrow">
            <a:avLst>
              <a:gd name="adj1" fmla="val 50000"/>
              <a:gd name="adj2" fmla="val 212500"/>
            </a:avLst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5440" y="19051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U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81760" y="2514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990720" y="3048120"/>
            <a:ext cx="1904760" cy="158112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8"/>
          </p:cNvPr>
          <p:cNvSpPr/>
          <p:nvPr/>
        </p:nvSpPr>
        <p:spPr>
          <a:xfrm>
            <a:off x="6248520" y="84582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1:18:07Z</dcterms:created>
  <dc:creator>parkman</dc:creator>
  <dc:description/>
  <dc:language>en-US</dc:language>
  <cp:lastModifiedBy>parkman</cp:lastModifiedBy>
  <dcterms:modified xsi:type="dcterms:W3CDTF">2002-10-09T05:40:10Z</dcterms:modified>
  <cp:revision>12</cp:revision>
  <dc:subject/>
  <dc:title>Slide 1</dc:title>
</cp:coreProperties>
</file>