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EDE-219D-455E-8462-DB9B4C85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B6F-AA18-4577-A5C3-7D83EFF8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BFB-5133-4B2C-ABC6-A2620C7B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228-01EA-4771-BE19-A9064015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136A-AE06-4EEA-AC09-9DE86A4D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1547-0673-4177-AE1F-335E9871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B1E-2EF2-49A9-8961-8FD75B06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70E7-F0F9-4805-AE4C-A7EFBD5C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406C-51FF-4FF3-8F06-135114B4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E7E-FA62-450E-808D-F55DC814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D2C-141A-4C0E-A145-BAADBB61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9CA-681E-4233-ACB7-8F7893ED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33F3-719D-47A0-B198-5570C509C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19520" y="76320"/>
            <a:ext cx="3903480" cy="6705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2430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ROD RACK  3-D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7712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0000ff"/>
                </a:solidFill>
                <a:uFillTx/>
                <a:latin typeface="Arial"/>
              </a:rPr>
              <a:t>MP-UCL, 07-09-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4152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OPTO-CABLES &amp; RIBBONS SUPPORTS</a:t>
            </a: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2209680"/>
            <a:ext cx="609840" cy="152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3048120"/>
            <a:ext cx="609840" cy="1522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3809880"/>
            <a:ext cx="609840" cy="152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4648320"/>
            <a:ext cx="609840" cy="1522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0228400">
            <a:off x="4359240" y="1904760"/>
            <a:ext cx="822240" cy="150840"/>
          </a:xfrm>
          <a:prstGeom prst="parallelogram">
            <a:avLst>
              <a:gd name="adj" fmla="val 31848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228400">
            <a:off x="4343400" y="3125520"/>
            <a:ext cx="822240" cy="150840"/>
          </a:xfrm>
          <a:prstGeom prst="parallelogram">
            <a:avLst>
              <a:gd name="adj" fmla="val 31848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0228400">
            <a:off x="4343400" y="3506400"/>
            <a:ext cx="822240" cy="150840"/>
          </a:xfrm>
          <a:prstGeom prst="parallelogram">
            <a:avLst>
              <a:gd name="adj" fmla="val 31848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228400">
            <a:off x="4343400" y="1523520"/>
            <a:ext cx="822240" cy="150840"/>
          </a:xfrm>
          <a:prstGeom prst="parallelogram">
            <a:avLst>
              <a:gd name="adj" fmla="val 31848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290000">
            <a:off x="571500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2241800">
            <a:off x="2666880" y="2285640"/>
            <a:ext cx="681120" cy="380880"/>
          </a:xfrm>
          <a:prstGeom prst="rightArrow">
            <a:avLst>
              <a:gd name="adj1" fmla="val 50000"/>
              <a:gd name="adj2" fmla="val 4470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24480" y="35193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Rack 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9191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Rack 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743200" y="4723920"/>
            <a:ext cx="2057400" cy="7621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105160" y="1676520"/>
            <a:ext cx="1523880" cy="1522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5029200"/>
            <a:ext cx="1752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Opto-Cable Inner Support Brackets (4)      ( on right or left side of rack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1295280"/>
            <a:ext cx="2361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Open Slot Conduit Box (3)                         ( ONE or TWO boxes used above each crate depending on need for storage of       Opto-Ribbons)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273480"/>
            <a:ext cx="2590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Existing Opto-Cable Support Brackets            ( on right or left side       of rack</a:t>
            </a: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743200" y="3124080"/>
            <a:ext cx="1295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5:40:09Z</dcterms:created>
  <dc:creator>mp</dc:creator>
  <dc:description/>
  <dc:language>en-US</dc:language>
  <cp:lastModifiedBy>mp</cp:lastModifiedBy>
  <dcterms:modified xsi:type="dcterms:W3CDTF">2005-09-08T14:01:31Z</dcterms:modified>
  <cp:revision>9</cp:revision>
  <dc:subject/>
  <dc:title>Slide 1</dc:title>
</cp:coreProperties>
</file>