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3A74-88D8-444F-9F41-3D9B2A7E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E25C-0D70-4AB7-A0AF-9EEF4880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BE2F-3AD0-43D9-AC59-4887BC0C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CA8-E590-4D06-BB38-98260756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3143-842D-4392-BD48-83CF5C7C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53CA-4B2C-4AF2-9E39-D94CF23A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BA2B-28C4-4A2E-9FD3-BBE05EB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3D42-D328-447E-B760-AF8CA726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720-E964-4D88-8604-E4078B2F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DE49-3906-4FC9-8717-FA759ED4C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956E-8E7B-40A5-B7D0-03F911D9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1878-7D6C-46A4-A4F8-87A0B39C3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8F06-4497-40E0-B900-9EE0F4C82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4421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657600" y="6248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9880" y="24300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66"/>
                </a:solidFill>
                <a:latin typeface="Arial"/>
              </a:rPr>
              <a:t>Rack R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44136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ff0066"/>
                </a:solidFill>
                <a:uFillTx/>
                <a:latin typeface="Arial"/>
              </a:rPr>
              <a:t>ROD RACK FLOOR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657600" y="2361960"/>
            <a:ext cx="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57600" y="2362320"/>
            <a:ext cx="2286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486400" y="2361960"/>
            <a:ext cx="0" cy="2286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257800" y="2362320"/>
            <a:ext cx="22860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2057400"/>
            <a:ext cx="2590560" cy="2286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09680" y="2590560"/>
            <a:ext cx="1447920" cy="19047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486400" y="2590920"/>
            <a:ext cx="1295280" cy="182880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866920" y="1219320"/>
            <a:ext cx="838440" cy="83808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43876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R/A Bracket 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705720" y="426708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R/A Bracket 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629400" y="83808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en Slot Conduit Box (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6400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 u="sng">
                <a:solidFill>
                  <a:srgbClr val="0000ff"/>
                </a:solidFill>
                <a:uFillTx/>
                <a:latin typeface="Arial"/>
              </a:rPr>
              <a:t>MP-UCL, 07-09-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641520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 u="sng">
                <a:solidFill>
                  <a:srgbClr val="0000ff"/>
                </a:solidFill>
                <a:uFillTx/>
                <a:latin typeface="Arial"/>
              </a:rPr>
              <a:t>OPTO-RIBBONS SUPPORT</a:t>
            </a:r>
            <a:r>
              <a:rPr b="1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990720"/>
            <a:ext cx="0" cy="144756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286000" y="1371600"/>
            <a:ext cx="1219320" cy="144792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2280" y="2590920"/>
            <a:ext cx="221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66"/>
                </a:solidFill>
                <a:latin typeface="Arial"/>
              </a:rPr>
              <a:t>Opto-Cable Inner Support Bracket (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60948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4343400" y="5715000"/>
            <a:ext cx="380880" cy="533520"/>
          </a:xfrm>
          <a:prstGeom prst="upArrow">
            <a:avLst>
              <a:gd name="adj1" fmla="val 50000"/>
              <a:gd name="adj2" fmla="val 35019"/>
            </a:avLst>
          </a:prstGeom>
          <a:solidFill>
            <a:srgbClr val="ffffff"/>
          </a:solidFill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7:36:53Z</dcterms:created>
  <dc:creator>mp</dc:creator>
  <dc:description/>
  <dc:language>en-US</dc:language>
  <cp:lastModifiedBy>mp</cp:lastModifiedBy>
  <dcterms:modified xsi:type="dcterms:W3CDTF">2005-09-08T11:34:28Z</dcterms:modified>
  <cp:revision>6</cp:revision>
  <dc:subject/>
  <dc:title>Slide 1</dc:title>
</cp:coreProperties>
</file>