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31D-A362-45A8-B40E-F6A72298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9DB-0FB6-4512-A569-CC739BD8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982-845D-4A2B-BB07-22B28449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8ED-1F3B-4088-BF19-39FAF2D2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2ED-1F26-4D8A-A9B7-374AD88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C5C-34B6-4694-8CBC-5D11CD8F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332-AE83-4AC3-8A48-5BF7162E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DB2-FC71-473B-9EEA-E227EFDD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348-9FBF-4009-BBF6-516A0E5A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A71-5607-46A1-9308-67AA30AE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5E3-B051-405A-A156-90F44B47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374-AD3D-4DA9-AE73-414DC20D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1994-5F48-4028-8578-E4B9B2F46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3732480" cy="639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5335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ff0066"/>
                </a:solidFill>
                <a:uFillTx/>
                <a:latin typeface="Arial"/>
              </a:rPr>
              <a:t>ROD Rack REAR LEF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4876920"/>
            <a:ext cx="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4876920"/>
            <a:ext cx="4572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4343400"/>
            <a:ext cx="64008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4343400"/>
            <a:ext cx="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4800600"/>
            <a:ext cx="60199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715000" y="3124080"/>
            <a:ext cx="9907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952520" y="4952880"/>
            <a:ext cx="160020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2590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Open Slot Conduit Box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5729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/A Bracket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415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PTO-RIBBONS SUPPORT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318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1219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68580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5791320" y="114300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5:48:46Z</dcterms:created>
  <dc:creator>mp</dc:creator>
  <dc:description/>
  <dc:language>en-US</dc:language>
  <cp:lastModifiedBy>mp</cp:lastModifiedBy>
  <dcterms:modified xsi:type="dcterms:W3CDTF">2005-09-08T11:35:21Z</dcterms:modified>
  <cp:revision>10</cp:revision>
  <dc:subject/>
  <dc:title>Slide 1</dc:title>
</cp:coreProperties>
</file>