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6B2B-9823-465F-AD7A-01CA2577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303-5B52-42BA-BCDF-27B6D232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BB4D-BCE5-473F-9051-6ECD030F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DD05-EBA4-442B-BE6B-E6AA54ED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CF18-22E9-4263-982F-8DA34224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197E-C258-4753-AE9C-9994DBE5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D10C-ACDB-4C75-B578-4336B5AB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D91-CF8D-4B56-8F80-7825BE32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2B3D-EA58-43EC-8BFB-316196A7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FEE9-E9E4-4AF1-9085-F8153879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4B53-8C12-4F39-9473-B4265375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7E7-9158-4291-AAC3-25B5C9F8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5621-3B8E-475E-9544-542D7EC35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11480" y="304920"/>
            <a:ext cx="3732120" cy="639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724280" y="1371600"/>
            <a:ext cx="76320" cy="38862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53352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ROD Rack REAR LEFT SUP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4876560" y="1981080"/>
            <a:ext cx="152388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00800" y="320040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Arial"/>
              </a:rPr>
              <a:t>Inner Opto-Cables Support Brackets 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2895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438280" y="2437920"/>
            <a:ext cx="99072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9718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Arial"/>
              </a:rPr>
              <a:t>Existing Opto-Cable Support Brac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64152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OPTO-CABLES BR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7712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0000ff"/>
                </a:solidFill>
                <a:uFillTx/>
                <a:latin typeface="Arial"/>
              </a:rPr>
              <a:t>MP-UCL, 07-09-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18288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0574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2860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25146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27432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1905120"/>
            <a:ext cx="15228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133720"/>
            <a:ext cx="15228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05320" y="2362320"/>
            <a:ext cx="15228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2590920"/>
            <a:ext cx="15228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819520"/>
            <a:ext cx="15228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3048120"/>
            <a:ext cx="15228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3276720"/>
            <a:ext cx="15228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05320"/>
            <a:ext cx="15228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3733920"/>
            <a:ext cx="15228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29718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32004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34290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36576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38862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41148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43434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45720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3962520"/>
            <a:ext cx="15228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4191120"/>
            <a:ext cx="15228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45720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18288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4419720"/>
            <a:ext cx="15228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572000" y="3962160"/>
            <a:ext cx="1828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438280" y="3809520"/>
            <a:ext cx="1143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426708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Arial"/>
              </a:rPr>
              <a:t>Opto-Cables to Top ROD Cr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52102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Arial"/>
              </a:rPr>
              <a:t>Opto-Cables to Bottom ROD Cr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685800"/>
            <a:ext cx="381240" cy="533520"/>
          </a:xfrm>
          <a:prstGeom prst="upArrow">
            <a:avLst>
              <a:gd name="adj1" fmla="val 50000"/>
              <a:gd name="adj2" fmla="val 34986"/>
            </a:avLst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5791320" y="1143000"/>
            <a:ext cx="380880" cy="533520"/>
          </a:xfrm>
          <a:prstGeom prst="upArrow">
            <a:avLst>
              <a:gd name="adj1" fmla="val 50000"/>
              <a:gd name="adj2" fmla="val 35019"/>
            </a:avLst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3189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Rack R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1219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Rack IN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5:48:46Z</dcterms:created>
  <dc:creator>mp</dc:creator>
  <dc:description/>
  <dc:language>en-US</dc:language>
  <cp:lastModifiedBy>mp</cp:lastModifiedBy>
  <dcterms:modified xsi:type="dcterms:W3CDTF">2005-09-08T11:34:53Z</dcterms:modified>
  <cp:revision>10</cp:revision>
  <dc:subject/>
  <dc:title>Slide 1</dc:title>
</cp:coreProperties>
</file>