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CAE-ECEE-47E1-B49E-EFB50B46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7E5-D6CC-45AD-AE66-97D90A82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C00-B98C-499F-AC2B-07F6C28E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A7B-9ADE-4309-829C-175065C7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D90-E789-4D69-BEF0-87C73169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D08-32B9-44B7-8911-2E1DD511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50E-6F0B-4006-BB09-392AE45C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86D-BB82-4A89-AEA4-4AF473D2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EEA-F233-4102-A49B-99978EA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CED-7F67-4459-8323-721DFE4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711-5E6A-465A-83D7-2B1F729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838-3BA7-4671-BD2B-D10028F3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7916-ECBE-4944-9468-9C441FCF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13766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43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ROD RACK ELE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990720"/>
            <a:ext cx="1219320" cy="15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1371600"/>
            <a:ext cx="1219320" cy="15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3352680"/>
            <a:ext cx="1219320" cy="152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733920"/>
            <a:ext cx="1219320" cy="15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3733920"/>
            <a:ext cx="76320" cy="289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371600"/>
            <a:ext cx="7632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979560"/>
            <a:ext cx="1858680" cy="1241280"/>
          </a:xfrm>
          <a:custGeom>
            <a:avLst/>
            <a:gdLst/>
            <a:ahLst/>
            <a:rect l="l" t="t" r="r" b="b"/>
            <a:pathLst>
              <a:path w="1171" h="782">
                <a:moveTo>
                  <a:pt x="1171" y="239"/>
                </a:moveTo>
                <a:cubicBezTo>
                  <a:pt x="1168" y="211"/>
                  <a:pt x="1171" y="183"/>
                  <a:pt x="1163" y="156"/>
                </a:cubicBezTo>
                <a:cubicBezTo>
                  <a:pt x="1157" y="137"/>
                  <a:pt x="1130" y="107"/>
                  <a:pt x="1130" y="107"/>
                </a:cubicBezTo>
                <a:cubicBezTo>
                  <a:pt x="1102" y="19"/>
                  <a:pt x="1022" y="32"/>
                  <a:pt x="941" y="25"/>
                </a:cubicBezTo>
                <a:cubicBezTo>
                  <a:pt x="927" y="25"/>
                  <a:pt x="252" y="0"/>
                  <a:pt x="69" y="50"/>
                </a:cubicBezTo>
                <a:cubicBezTo>
                  <a:pt x="34" y="83"/>
                  <a:pt x="4" y="164"/>
                  <a:pt x="3" y="214"/>
                </a:cubicBezTo>
                <a:cubicBezTo>
                  <a:pt x="0" y="403"/>
                  <a:pt x="3" y="593"/>
                  <a:pt x="3" y="78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02200" y="961920"/>
            <a:ext cx="1384200" cy="1219320"/>
          </a:xfrm>
          <a:custGeom>
            <a:avLst/>
            <a:gdLst/>
            <a:ahLst/>
            <a:rect l="l" t="t" r="r" b="b"/>
            <a:pathLst>
              <a:path w="872" h="768">
                <a:moveTo>
                  <a:pt x="870" y="242"/>
                </a:moveTo>
                <a:cubicBezTo>
                  <a:pt x="862" y="182"/>
                  <a:pt x="872" y="168"/>
                  <a:pt x="820" y="151"/>
                </a:cubicBezTo>
                <a:cubicBezTo>
                  <a:pt x="701" y="71"/>
                  <a:pt x="528" y="76"/>
                  <a:pt x="392" y="61"/>
                </a:cubicBezTo>
                <a:cubicBezTo>
                  <a:pt x="236" y="65"/>
                  <a:pt x="110" y="0"/>
                  <a:pt x="14" y="102"/>
                </a:cubicBezTo>
                <a:cubicBezTo>
                  <a:pt x="20" y="180"/>
                  <a:pt x="0" y="204"/>
                  <a:pt x="63" y="225"/>
                </a:cubicBezTo>
                <a:cubicBezTo>
                  <a:pt x="116" y="261"/>
                  <a:pt x="62" y="230"/>
                  <a:pt x="170" y="250"/>
                </a:cubicBezTo>
                <a:cubicBezTo>
                  <a:pt x="187" y="253"/>
                  <a:pt x="203" y="261"/>
                  <a:pt x="220" y="266"/>
                </a:cubicBezTo>
                <a:cubicBezTo>
                  <a:pt x="228" y="269"/>
                  <a:pt x="244" y="274"/>
                  <a:pt x="244" y="274"/>
                </a:cubicBezTo>
                <a:cubicBezTo>
                  <a:pt x="256" y="286"/>
                  <a:pt x="274" y="293"/>
                  <a:pt x="285" y="307"/>
                </a:cubicBezTo>
                <a:cubicBezTo>
                  <a:pt x="307" y="334"/>
                  <a:pt x="301" y="372"/>
                  <a:pt x="327" y="398"/>
                </a:cubicBezTo>
                <a:cubicBezTo>
                  <a:pt x="370" y="533"/>
                  <a:pt x="335" y="414"/>
                  <a:pt x="335" y="76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3340080"/>
            <a:ext cx="1524240" cy="1324080"/>
          </a:xfrm>
          <a:custGeom>
            <a:avLst/>
            <a:gdLst/>
            <a:ahLst/>
            <a:rect l="l" t="t" r="r" b="b"/>
            <a:pathLst>
              <a:path w="960" h="834">
                <a:moveTo>
                  <a:pt x="947" y="233"/>
                </a:moveTo>
                <a:cubicBezTo>
                  <a:pt x="960" y="193"/>
                  <a:pt x="959" y="213"/>
                  <a:pt x="939" y="159"/>
                </a:cubicBezTo>
                <a:cubicBezTo>
                  <a:pt x="882" y="0"/>
                  <a:pt x="666" y="48"/>
                  <a:pt x="544" y="44"/>
                </a:cubicBezTo>
                <a:cubicBezTo>
                  <a:pt x="393" y="3"/>
                  <a:pt x="241" y="26"/>
                  <a:pt x="99" y="77"/>
                </a:cubicBezTo>
                <a:cubicBezTo>
                  <a:pt x="89" y="92"/>
                  <a:pt x="74" y="102"/>
                  <a:pt x="66" y="118"/>
                </a:cubicBezTo>
                <a:cubicBezTo>
                  <a:pt x="51" y="147"/>
                  <a:pt x="45" y="185"/>
                  <a:pt x="33" y="216"/>
                </a:cubicBezTo>
                <a:cubicBezTo>
                  <a:pt x="25" y="376"/>
                  <a:pt x="16" y="534"/>
                  <a:pt x="9" y="694"/>
                </a:cubicBezTo>
                <a:cubicBezTo>
                  <a:pt x="7" y="741"/>
                  <a:pt x="0" y="834"/>
                  <a:pt x="0" y="83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462480"/>
            <a:ext cx="927000" cy="1214280"/>
          </a:xfrm>
          <a:custGeom>
            <a:avLst/>
            <a:gdLst/>
            <a:ahLst/>
            <a:rect l="l" t="t" r="r" b="b"/>
            <a:pathLst>
              <a:path w="584" h="765">
                <a:moveTo>
                  <a:pt x="584" y="181"/>
                </a:moveTo>
                <a:cubicBezTo>
                  <a:pt x="581" y="164"/>
                  <a:pt x="584" y="146"/>
                  <a:pt x="576" y="131"/>
                </a:cubicBezTo>
                <a:cubicBezTo>
                  <a:pt x="572" y="122"/>
                  <a:pt x="559" y="121"/>
                  <a:pt x="551" y="115"/>
                </a:cubicBezTo>
                <a:cubicBezTo>
                  <a:pt x="528" y="97"/>
                  <a:pt x="523" y="84"/>
                  <a:pt x="494" y="74"/>
                </a:cubicBezTo>
                <a:cubicBezTo>
                  <a:pt x="432" y="12"/>
                  <a:pt x="264" y="5"/>
                  <a:pt x="189" y="0"/>
                </a:cubicBezTo>
                <a:cubicBezTo>
                  <a:pt x="140" y="3"/>
                  <a:pt x="90" y="3"/>
                  <a:pt x="41" y="8"/>
                </a:cubicBezTo>
                <a:cubicBezTo>
                  <a:pt x="33" y="9"/>
                  <a:pt x="22" y="9"/>
                  <a:pt x="17" y="16"/>
                </a:cubicBezTo>
                <a:cubicBezTo>
                  <a:pt x="7" y="30"/>
                  <a:pt x="0" y="65"/>
                  <a:pt x="0" y="65"/>
                </a:cubicBezTo>
                <a:cubicBezTo>
                  <a:pt x="3" y="98"/>
                  <a:pt x="3" y="131"/>
                  <a:pt x="8" y="164"/>
                </a:cubicBezTo>
                <a:cubicBezTo>
                  <a:pt x="25" y="266"/>
                  <a:pt x="124" y="257"/>
                  <a:pt x="206" y="263"/>
                </a:cubicBezTo>
                <a:cubicBezTo>
                  <a:pt x="235" y="268"/>
                  <a:pt x="261" y="271"/>
                  <a:pt x="288" y="279"/>
                </a:cubicBezTo>
                <a:cubicBezTo>
                  <a:pt x="305" y="284"/>
                  <a:pt x="337" y="296"/>
                  <a:pt x="337" y="296"/>
                </a:cubicBezTo>
                <a:cubicBezTo>
                  <a:pt x="351" y="384"/>
                  <a:pt x="363" y="469"/>
                  <a:pt x="370" y="559"/>
                </a:cubicBezTo>
                <a:cubicBezTo>
                  <a:pt x="367" y="578"/>
                  <a:pt x="362" y="597"/>
                  <a:pt x="362" y="617"/>
                </a:cubicBezTo>
                <a:cubicBezTo>
                  <a:pt x="362" y="625"/>
                  <a:pt x="370" y="633"/>
                  <a:pt x="370" y="641"/>
                </a:cubicBezTo>
                <a:cubicBezTo>
                  <a:pt x="370" y="682"/>
                  <a:pt x="362" y="724"/>
                  <a:pt x="362" y="76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800600" y="1066680"/>
            <a:ext cx="182880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0920" y="4191120"/>
            <a:ext cx="29718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00600" y="1219320"/>
            <a:ext cx="18288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733560" y="1752120"/>
            <a:ext cx="2895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5486040" y="2666880"/>
            <a:ext cx="1143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647960" y="2133720"/>
            <a:ext cx="1904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48320" y="4495680"/>
            <a:ext cx="17524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028840" y="5105160"/>
            <a:ext cx="152388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800600" y="358128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800600" y="3428640"/>
            <a:ext cx="18288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CABLES &amp; RIBBONS SUPPORTS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6324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609480"/>
            <a:ext cx="2514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en Slot Conduit Box (3) for TOP ROD Crate                            ( ONE or TWO boxes used depending on need for storage of Opto-Ribbon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19051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to-Ribbons for TOP ROD C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1814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to-Cables for TOP ROD C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590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to-Cables for TOP ROD C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4197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to-Ribbons for BOTTOM ROD C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3200400"/>
            <a:ext cx="2514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en Slot Conduit Box (3) for BOTTOM ROD Crate                   ( ONE or TWO boxes used depending on need for storage  of Opto-Ribbon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30:21Z</dcterms:created>
  <dc:creator>mp</dc:creator>
  <dc:description/>
  <dc:language>en-US</dc:language>
  <cp:lastModifiedBy>mp</cp:lastModifiedBy>
  <dcterms:modified xsi:type="dcterms:W3CDTF">2005-09-08T11:50:39Z</dcterms:modified>
  <cp:revision>2</cp:revision>
  <dc:subject/>
  <dc:title>Slide 1</dc:title>
</cp:coreProperties>
</file>