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92C-0D5E-4A09-8328-A98531BB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CF9-28F3-483C-8BBA-9021087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EF9-AD14-431F-A150-605FD72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083-E28D-46DC-B555-883EA20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05E-19EA-4C4A-B0C8-782F47D0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13A-175B-47C6-94D5-0C2AEB11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453-B3BE-4F9E-BB91-FC36489D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E17-3E17-4797-BE1A-E9C26AF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4E8-036A-4225-8FFB-CC5E597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9CA-9E59-4F85-A935-70FD0B6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644-04CF-4053-B967-5AA6A1D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1A0-9BD9-4EED-83AC-70559E93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617E-9D8B-423C-950B-31D83FF3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13766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43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ELE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99072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37160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3352680"/>
            <a:ext cx="1219320" cy="15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733920"/>
            <a:ext cx="1219320" cy="15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3733920"/>
            <a:ext cx="76320" cy="289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371600"/>
            <a:ext cx="7632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979560"/>
            <a:ext cx="1858680" cy="1241280"/>
          </a:xfrm>
          <a:custGeom>
            <a:avLst/>
            <a:gdLst/>
            <a:ahLst/>
            <a:rect l="l" t="t" r="r" b="b"/>
            <a:pathLst>
              <a:path w="1171" h="782">
                <a:moveTo>
                  <a:pt x="1171" y="239"/>
                </a:moveTo>
                <a:cubicBezTo>
                  <a:pt x="1168" y="211"/>
                  <a:pt x="1171" y="183"/>
                  <a:pt x="1163" y="156"/>
                </a:cubicBezTo>
                <a:cubicBezTo>
                  <a:pt x="1157" y="137"/>
                  <a:pt x="1130" y="107"/>
                  <a:pt x="1130" y="107"/>
                </a:cubicBezTo>
                <a:cubicBezTo>
                  <a:pt x="1102" y="19"/>
                  <a:pt x="1022" y="32"/>
                  <a:pt x="941" y="25"/>
                </a:cubicBezTo>
                <a:cubicBezTo>
                  <a:pt x="927" y="25"/>
                  <a:pt x="252" y="0"/>
                  <a:pt x="69" y="50"/>
                </a:cubicBezTo>
                <a:cubicBezTo>
                  <a:pt x="34" y="83"/>
                  <a:pt x="4" y="164"/>
                  <a:pt x="3" y="214"/>
                </a:cubicBezTo>
                <a:cubicBezTo>
                  <a:pt x="0" y="403"/>
                  <a:pt x="3" y="593"/>
                  <a:pt x="3" y="78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02200" y="961920"/>
            <a:ext cx="1384200" cy="1219320"/>
          </a:xfrm>
          <a:custGeom>
            <a:avLst/>
            <a:gdLst/>
            <a:ahLst/>
            <a:rect l="l" t="t" r="r" b="b"/>
            <a:pathLst>
              <a:path w="872" h="768">
                <a:moveTo>
                  <a:pt x="870" y="242"/>
                </a:moveTo>
                <a:cubicBezTo>
                  <a:pt x="862" y="182"/>
                  <a:pt x="872" y="168"/>
                  <a:pt x="820" y="151"/>
                </a:cubicBezTo>
                <a:cubicBezTo>
                  <a:pt x="701" y="71"/>
                  <a:pt x="528" y="76"/>
                  <a:pt x="392" y="61"/>
                </a:cubicBezTo>
                <a:cubicBezTo>
                  <a:pt x="236" y="65"/>
                  <a:pt x="110" y="0"/>
                  <a:pt x="14" y="102"/>
                </a:cubicBezTo>
                <a:cubicBezTo>
                  <a:pt x="20" y="180"/>
                  <a:pt x="0" y="204"/>
                  <a:pt x="63" y="225"/>
                </a:cubicBezTo>
                <a:cubicBezTo>
                  <a:pt x="116" y="261"/>
                  <a:pt x="62" y="230"/>
                  <a:pt x="170" y="250"/>
                </a:cubicBezTo>
                <a:cubicBezTo>
                  <a:pt x="187" y="253"/>
                  <a:pt x="203" y="261"/>
                  <a:pt x="220" y="266"/>
                </a:cubicBezTo>
                <a:cubicBezTo>
                  <a:pt x="228" y="269"/>
                  <a:pt x="244" y="274"/>
                  <a:pt x="244" y="274"/>
                </a:cubicBezTo>
                <a:cubicBezTo>
                  <a:pt x="256" y="286"/>
                  <a:pt x="274" y="293"/>
                  <a:pt x="285" y="307"/>
                </a:cubicBezTo>
                <a:cubicBezTo>
                  <a:pt x="307" y="334"/>
                  <a:pt x="301" y="372"/>
                  <a:pt x="327" y="398"/>
                </a:cubicBezTo>
                <a:cubicBezTo>
                  <a:pt x="370" y="533"/>
                  <a:pt x="335" y="414"/>
                  <a:pt x="335" y="76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340080"/>
            <a:ext cx="1524240" cy="1324080"/>
          </a:xfrm>
          <a:custGeom>
            <a:avLst/>
            <a:gdLst/>
            <a:ahLst/>
            <a:rect l="l" t="t" r="r" b="b"/>
            <a:pathLst>
              <a:path w="960" h="834">
                <a:moveTo>
                  <a:pt x="947" y="233"/>
                </a:moveTo>
                <a:cubicBezTo>
                  <a:pt x="960" y="193"/>
                  <a:pt x="959" y="213"/>
                  <a:pt x="939" y="159"/>
                </a:cubicBezTo>
                <a:cubicBezTo>
                  <a:pt x="882" y="0"/>
                  <a:pt x="666" y="48"/>
                  <a:pt x="544" y="44"/>
                </a:cubicBezTo>
                <a:cubicBezTo>
                  <a:pt x="393" y="3"/>
                  <a:pt x="241" y="26"/>
                  <a:pt x="99" y="77"/>
                </a:cubicBezTo>
                <a:cubicBezTo>
                  <a:pt x="89" y="92"/>
                  <a:pt x="74" y="102"/>
                  <a:pt x="66" y="118"/>
                </a:cubicBezTo>
                <a:cubicBezTo>
                  <a:pt x="51" y="147"/>
                  <a:pt x="45" y="185"/>
                  <a:pt x="33" y="216"/>
                </a:cubicBezTo>
                <a:cubicBezTo>
                  <a:pt x="25" y="376"/>
                  <a:pt x="16" y="534"/>
                  <a:pt x="9" y="694"/>
                </a:cubicBezTo>
                <a:cubicBezTo>
                  <a:pt x="7" y="741"/>
                  <a:pt x="0" y="834"/>
                  <a:pt x="0" y="83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462480"/>
            <a:ext cx="927000" cy="1214280"/>
          </a:xfrm>
          <a:custGeom>
            <a:avLst/>
            <a:gdLst/>
            <a:ahLst/>
            <a:rect l="l" t="t" r="r" b="b"/>
            <a:pathLst>
              <a:path w="584" h="765">
                <a:moveTo>
                  <a:pt x="584" y="181"/>
                </a:moveTo>
                <a:cubicBezTo>
                  <a:pt x="581" y="164"/>
                  <a:pt x="584" y="146"/>
                  <a:pt x="576" y="131"/>
                </a:cubicBezTo>
                <a:cubicBezTo>
                  <a:pt x="572" y="122"/>
                  <a:pt x="559" y="121"/>
                  <a:pt x="551" y="115"/>
                </a:cubicBezTo>
                <a:cubicBezTo>
                  <a:pt x="528" y="97"/>
                  <a:pt x="523" y="84"/>
                  <a:pt x="494" y="74"/>
                </a:cubicBezTo>
                <a:cubicBezTo>
                  <a:pt x="432" y="12"/>
                  <a:pt x="264" y="5"/>
                  <a:pt x="189" y="0"/>
                </a:cubicBezTo>
                <a:cubicBezTo>
                  <a:pt x="140" y="3"/>
                  <a:pt x="90" y="3"/>
                  <a:pt x="41" y="8"/>
                </a:cubicBezTo>
                <a:cubicBezTo>
                  <a:pt x="33" y="9"/>
                  <a:pt x="22" y="9"/>
                  <a:pt x="17" y="16"/>
                </a:cubicBezTo>
                <a:cubicBezTo>
                  <a:pt x="7" y="30"/>
                  <a:pt x="0" y="65"/>
                  <a:pt x="0" y="65"/>
                </a:cubicBezTo>
                <a:cubicBezTo>
                  <a:pt x="3" y="98"/>
                  <a:pt x="3" y="131"/>
                  <a:pt x="8" y="164"/>
                </a:cubicBezTo>
                <a:cubicBezTo>
                  <a:pt x="25" y="266"/>
                  <a:pt x="124" y="257"/>
                  <a:pt x="206" y="263"/>
                </a:cubicBezTo>
                <a:cubicBezTo>
                  <a:pt x="235" y="268"/>
                  <a:pt x="261" y="271"/>
                  <a:pt x="288" y="279"/>
                </a:cubicBezTo>
                <a:cubicBezTo>
                  <a:pt x="305" y="284"/>
                  <a:pt x="337" y="296"/>
                  <a:pt x="337" y="296"/>
                </a:cubicBezTo>
                <a:cubicBezTo>
                  <a:pt x="351" y="384"/>
                  <a:pt x="363" y="469"/>
                  <a:pt x="370" y="559"/>
                </a:cubicBezTo>
                <a:cubicBezTo>
                  <a:pt x="367" y="578"/>
                  <a:pt x="362" y="597"/>
                  <a:pt x="362" y="617"/>
                </a:cubicBezTo>
                <a:cubicBezTo>
                  <a:pt x="362" y="625"/>
                  <a:pt x="370" y="633"/>
                  <a:pt x="370" y="641"/>
                </a:cubicBezTo>
                <a:cubicBezTo>
                  <a:pt x="370" y="682"/>
                  <a:pt x="362" y="724"/>
                  <a:pt x="362" y="76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800600" y="1066680"/>
            <a:ext cx="18288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0920" y="4191120"/>
            <a:ext cx="2971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600" y="1219320"/>
            <a:ext cx="1828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733560" y="1752120"/>
            <a:ext cx="2895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486040" y="2666880"/>
            <a:ext cx="1143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47960" y="213372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8320" y="4495680"/>
            <a:ext cx="17524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028840" y="5105160"/>
            <a:ext cx="152388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800600" y="358128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800600" y="3428640"/>
            <a:ext cx="18288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&amp; RIBBONS SUPPORTS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60948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en Slot Conduit Box (3) for TOP ROD Crate                            ( ONE or TWO boxes used depending on need for storage of Opto-Ribbon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9051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Ribbon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1814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Cable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90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Cables for TOP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4197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to-Ribbons for BOTTOM ROD C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320040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Arial"/>
              </a:rPr>
              <a:t>Open Slot Conduit Box (3) for BOTTOM ROD Crate                   ( ONE or TWO boxes used depending on need for storage  of Opto-Ribbon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19520" y="76320"/>
            <a:ext cx="3903480" cy="670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243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 3-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415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&amp; RIBBONS SUPPORTS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609840" cy="152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3048120"/>
            <a:ext cx="609840" cy="152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809880"/>
            <a:ext cx="609840" cy="152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648320"/>
            <a:ext cx="609840" cy="152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228400">
            <a:off x="4359240" y="190476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228400">
            <a:off x="4343400" y="312552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228400">
            <a:off x="4343400" y="350640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228400">
            <a:off x="4343400" y="1523520"/>
            <a:ext cx="822240" cy="150840"/>
          </a:xfrm>
          <a:prstGeom prst="parallelogram">
            <a:avLst>
              <a:gd name="adj" fmla="val 3184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290000">
            <a:off x="571500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241800">
            <a:off x="2666880" y="2285640"/>
            <a:ext cx="681120" cy="380880"/>
          </a:xfrm>
          <a:prstGeom prst="rightArrow">
            <a:avLst>
              <a:gd name="adj1" fmla="val 50000"/>
              <a:gd name="adj2" fmla="val 4470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5193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919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43200" y="4723920"/>
            <a:ext cx="2057400" cy="7621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05160" y="1676520"/>
            <a:ext cx="1523880" cy="1522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02920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 Inner Support Brackets (4)      ( on right or left side of rack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295280"/>
            <a:ext cx="2361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en Slot Conduit Box (3)                         ( ONE or TWO boxes used above each crate depending on need for storage of       Opto-Ribbons)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7348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Existing Opto-Cable Support Brackets            ( on right or left side       of rack</a:t>
            </a: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43200" y="3124080"/>
            <a:ext cx="1295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4211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33920" y="6248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24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4136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FLOO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2361960"/>
            <a:ext cx="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6400" y="2361960"/>
            <a:ext cx="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362320"/>
            <a:ext cx="2286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057400"/>
            <a:ext cx="2590560" cy="22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09680" y="2590560"/>
            <a:ext cx="1447920" cy="19047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486400" y="2590920"/>
            <a:ext cx="1295280" cy="1828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866920" y="1219320"/>
            <a:ext cx="838440" cy="83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387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R/A Bracket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267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R/A Bracket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838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en Slot Conduit Box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RIBBONS SUPPORT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990720"/>
            <a:ext cx="0" cy="14475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86000" y="1371600"/>
            <a:ext cx="1219320" cy="1447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5909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 Inner Support Bracket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343400" y="5715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335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3732480" cy="639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533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66"/>
                </a:solidFill>
                <a:uFillTx/>
                <a:latin typeface="Arial"/>
              </a:rPr>
              <a:t>ROD Rack REAR LEF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572000" y="4876920"/>
            <a:ext cx="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876920"/>
            <a:ext cx="4572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343400"/>
            <a:ext cx="64008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343400"/>
            <a:ext cx="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4800600"/>
            <a:ext cx="6019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15000" y="3124080"/>
            <a:ext cx="9907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952520" y="4952880"/>
            <a:ext cx="16002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590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Open Slot Conduit Box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5729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/A Bracket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RIBBONS SUPPORT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318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1219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685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791320" y="1143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11480" y="304920"/>
            <a:ext cx="3732120" cy="639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1371600"/>
            <a:ext cx="76320" cy="3886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335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REAR LEFT SUP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876560" y="1981080"/>
            <a:ext cx="1523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200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Inner Opto-Cables Support Brackets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438280" y="2437920"/>
            <a:ext cx="9907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9718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Existing Opto-Cable Support Br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CABLES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2057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2286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5146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7432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905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2133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3623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25909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28195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48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3276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053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7339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971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200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429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6576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8862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3434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572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9625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41911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5720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828800"/>
            <a:ext cx="15264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4419720"/>
            <a:ext cx="152280" cy="15228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572000" y="3962160"/>
            <a:ext cx="1828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438280" y="38095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267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s to Top ROD C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52102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s to Bottom ROD C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685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791320" y="1143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18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219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380880"/>
            <a:ext cx="838224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Arial"/>
              </a:rPr>
              <a:t>NOTES :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&amp; (2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Steel right-angle brackets, 65 x 75 mm, 2 x M6 clearance holes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- Total 32 required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pen Slot Conduit Box, Halogen-free Noryl HNG-type,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75 x 73 mm x 580 mm long, 5 mm wide slots at 12.5 mm pitch,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( eg. RS 296-0459 or ONECALL/CPC  CBBR-6398 )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- Total 16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3020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4)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Aluminium  bracket, 30 x 3 mm x 325 mm long,                 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2 x M6 clearance holes at 308 mm centres spacing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– Total 16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20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5:50:37Z</dcterms:created>
  <dc:creator>mp</dc:creator>
  <dc:description/>
  <dc:language>en-US</dc:language>
  <cp:lastModifiedBy>mp</cp:lastModifiedBy>
  <dcterms:modified xsi:type="dcterms:W3CDTF">2005-09-08T14:00:00Z</dcterms:modified>
  <cp:revision>20</cp:revision>
  <dc:subject/>
  <dc:title>Slide 1</dc:title>
</cp:coreProperties>
</file>