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7FC-7EC4-433F-8CE8-10C80EF37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76F2-C193-4167-AD0D-D68BEAC1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959C-9925-443B-B705-9C631C05A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8D8-B310-494F-A1D9-1F6927C7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206-6F53-4745-A0AC-F19618F0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3AC-C530-4CB6-8B0F-01FE24E6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25C7-EC14-4F20-9EA4-1F299184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DA1-A8BE-4C37-877B-600DACC0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DCAD-DB39-4D10-9177-F297B2E1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F87-2B7C-4633-94BD-8C87AEE4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640D-07A1-49C2-8B16-348F63E4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8B77-CC92-4658-B8CF-EE607BF5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45C5-2CD3-41FA-9738-8F31272A8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8224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0066"/>
                </a:solidFill>
                <a:uFillTx/>
                <a:latin typeface="Arial"/>
              </a:rPr>
              <a:t>NOTES :</a:t>
            </a:r>
            <a:r>
              <a:rPr b="1" lang="en-GB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&amp; (2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  Steel right-angle brackets, 65 x 75 mm, 2 x M6 clearance holes   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  - Total 32 required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Open Slot Conduit Box, Halogen-free Noryl HNG-type,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                                     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75 x 73 mm x 580 mm long, 5 mm wide slots at 12.5 mm pitch,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  ( eg. RS 296-0459 or ONECALL/CPC  CBBR-6398 )               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  - Total 16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530208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4)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  Aluminium  bracket, 30 x 3 mm x 325 mm long,                                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  2 x M6 clearance holes at 308 mm centres spacing            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       – Total 16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0000ff"/>
                </a:solidFill>
                <a:uFillTx/>
                <a:latin typeface="Arial"/>
              </a:rPr>
              <a:t>MP-UCL, 07-09-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3200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2:36:04Z</dcterms:created>
  <dc:creator>mp</dc:creator>
  <dc:description/>
  <dc:language>en-US</dc:language>
  <cp:lastModifiedBy>mp</cp:lastModifiedBy>
  <dcterms:modified xsi:type="dcterms:W3CDTF">2005-09-08T13:50:45Z</dcterms:modified>
  <cp:revision>5</cp:revision>
  <dc:subject/>
  <dc:title>Slide 1</dc:title>
</cp:coreProperties>
</file>