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D21-FDAD-4026-806C-7312CA73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F704-CA81-4B23-8EC4-23AF8751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99E-893B-44A1-ACD4-17E35AD23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B2B-6B97-493C-8E5D-3DCEA1E2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87F-27A2-4D70-8FC4-FFA2D5BD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F3A-28AB-4794-8817-A1521A4E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83C-4163-4D57-87B0-2627065E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F6B-479E-4A5F-9C6A-75203F31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809-FC4F-40AB-9896-CFAB85D4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47D-A5A4-4114-963C-CBE566DE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0E6-6B4D-4EFD-9E66-CCDBC8B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E85-BC8B-415C-B788-56C7F3DC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7C5-7D52-41F8-85D6-9F2094D0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33920" y="371880"/>
            <a:ext cx="3573000" cy="398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TC Interface Module - TIM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1295280"/>
            <a:ext cx="8412120" cy="4957920"/>
            <a:chOff x="228600" y="1295280"/>
            <a:chExt cx="8412120" cy="4957920"/>
          </a:xfrm>
        </p:grpSpPr>
        <p:pic>
          <p:nvPicPr>
            <p:cNvPr id="43" name="tim_cut_out" descr=""/>
            <p:cNvPicPr/>
            <p:nvPr/>
          </p:nvPicPr>
          <p:blipFill>
            <a:blip r:embed="rId1"/>
            <a:stretch/>
          </p:blipFill>
          <p:spPr>
            <a:xfrm>
              <a:off x="1600200" y="1295280"/>
              <a:ext cx="6019920" cy="49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981080" y="1752480"/>
              <a:ext cx="1143000" cy="195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59948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Buf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3351960"/>
              <a:ext cx="1782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 deMUX/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generate &amp; FI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38880" y="33966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quenc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316280" y="1626840"/>
              <a:ext cx="122328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 to RO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(PECL driver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7360" y="43426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VME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38880" y="415836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tand-alone Trig gen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38880" y="2480760"/>
              <a:ext cx="10209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Event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Serial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38880" y="5028480"/>
              <a:ext cx="1401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NIM/ECL Aux TTC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95520" y="1828800"/>
              <a:ext cx="114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400800" y="3581280"/>
              <a:ext cx="838080" cy="1191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5410080" y="4387320"/>
              <a:ext cx="1828800" cy="32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400800" y="4419720"/>
              <a:ext cx="83808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333760" y="2711520"/>
              <a:ext cx="1904760" cy="1141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05120" y="4495680"/>
              <a:ext cx="1523880" cy="349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981080" y="2940120"/>
              <a:ext cx="1752840" cy="565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3015720"/>
              <a:ext cx="2514600" cy="489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981080" y="3473280"/>
              <a:ext cx="3200400" cy="184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981080" y="2436840"/>
              <a:ext cx="3353040" cy="154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5714640" y="5257800"/>
              <a:ext cx="1523880" cy="652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790960" y="5181480"/>
              <a:ext cx="1447560" cy="76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7640" y="2437560"/>
              <a:ext cx="92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ROD Bus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7520" y="5180760"/>
              <a:ext cx="122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</a:rPr>
                <a:t>TTCrx modu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905120" y="4876920"/>
              <a:ext cx="259056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171840" y="1828800"/>
              <a:ext cx="106668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09:30:13Z</dcterms:created>
  <dc:creator>warren</dc:creator>
  <dc:description/>
  <dc:language>en-US</dc:language>
  <cp:lastModifiedBy>warren</cp:lastModifiedBy>
  <dcterms:modified xsi:type="dcterms:W3CDTF">2001-06-27T09:31:58Z</dcterms:modified>
  <cp:revision>1</cp:revision>
  <dc:subject/>
  <dc:title>No Slide Title</dc:title>
</cp:coreProperties>
</file>