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06C-F076-4904-9E75-A2DBBF88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661-EB63-4BDC-95B3-8D30154F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73A-0AB1-4FB5-B4AB-54C77FA8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E3E-AF5D-45A9-BA7B-7586B1D8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38B-8EE2-48C4-B4FC-46012BE7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9DC-E848-4BE3-AE38-1D7D20D7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4E6-356A-4E97-A062-429EFCCF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DBF-36BB-4A79-B93B-73AB2A19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365-D348-4926-AC0E-A559C36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0C8-83E7-4C04-B6BB-17CA2CA5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B94-C094-468D-9D87-3783CCFA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533-B245-4E31-A720-83C0DEB6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AE36-B94B-42AC-AB69-27D8F7414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February 6, 20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752480"/>
            <a:ext cx="73645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have we done so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our prototype TIM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s in hand for 6 more T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 delivered to Cambridge in March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jitter at BOC input reduced to 100ps peak-to-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rrections/modifications submitted for drawing at 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work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ME access to all registers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and sequencer (i.e. Programmable pattern gener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, front-panel, standalone and ROD Busy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and backplane outp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159-B2DE-4998-AE6D-2531961C14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February 6, 20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066680"/>
            <a:ext cx="754380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tus upd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ll CPLDs si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CID offset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rx I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 interface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logic is operat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 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bugging &amp; Testing (ongo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ding of VME interrupts (ongo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arning curve for FPGA implementation (just start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ans an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x more TIMs (iteration of prototype) to be manufactured soon for 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design/implement TIM using new parts ("final" system) for Q3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F0F-91BE-4144-8491-FFE70FE31E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40:00Z</dcterms:created>
  <dc:creator>LBNL</dc:creator>
  <dc:description/>
  <dc:language>en-US</dc:language>
  <cp:lastModifiedBy>lane</cp:lastModifiedBy>
  <cp:lastPrinted>2001-02-12T17:36:05Z</cp:lastPrinted>
  <dcterms:modified xsi:type="dcterms:W3CDTF">2002-02-06T20:36:38Z</dcterms:modified>
  <cp:revision>42</cp:revision>
  <dc:subject/>
  <dc:title>No Slide Title</dc:title>
</cp:coreProperties>
</file>