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88880" y="6160680"/>
            <a:ext cx="37450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88880" y="6160680"/>
            <a:ext cx="374508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325080" y="6308640"/>
            <a:ext cx="30780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8834400" y="6477120"/>
            <a:ext cx="446040" cy="158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HE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281240" y="0"/>
            <a:ext cx="7461000" cy="63817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987560" y="838080"/>
            <a:ext cx="109224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4280" y="693720"/>
            <a:ext cx="132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ME 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18560" y="1576440"/>
            <a:ext cx="175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D Backplane PECL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1000" y="1414440"/>
            <a:ext cx="1560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PGA1         XC2S200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VME Interf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37600" y="3716280"/>
            <a:ext cx="118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IM/ECL Signals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7560" y="1701720"/>
            <a:ext cx="1092240" cy="144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3933720"/>
            <a:ext cx="2017440" cy="100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059240" y="3933720"/>
            <a:ext cx="1206360" cy="1152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62440"/>
            <a:ext cx="2992320" cy="64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851520" y="1279440"/>
            <a:ext cx="981360" cy="493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83480" y="54936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3 Backplane ROD Signa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825960" y="549000"/>
            <a:ext cx="825480" cy="75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1000" y="4583160"/>
            <a:ext cx="3120840" cy="718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880" y="2349360"/>
            <a:ext cx="15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PGA2 XC2S600E     (TIM Fun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57240" y="2565360"/>
            <a:ext cx="2160720" cy="73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9240" y="3357720"/>
            <a:ext cx="50328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4365720"/>
            <a:ext cx="118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TC Fibre-optic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1240" y="3646440"/>
            <a:ext cx="80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TCrm  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8520" y="2997360"/>
            <a:ext cx="177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nd-alone Clocks &amp; Delay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3213000"/>
            <a:ext cx="889200" cy="576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3800" y="6093000"/>
            <a:ext cx="94104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MW v1.2 9-12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8040" y="6160680"/>
            <a:ext cx="350676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360000" rIns="360000" tIns="10800" bIns="10800" anchor="ctr" anchorCtr="1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-3B Functional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17:20:01Z</dcterms:created>
  <dc:creator>Matthew Warren</dc:creator>
  <dc:description/>
  <dc:language>en-US</dc:language>
  <cp:lastModifiedBy>mp</cp:lastModifiedBy>
  <cp:lastPrinted>2004-12-09T15:22:07Z</cp:lastPrinted>
  <dcterms:modified xsi:type="dcterms:W3CDTF">2004-12-09T15:22:41Z</dcterms:modified>
  <cp:revision>10</cp:revision>
  <dc:subject/>
  <dc:title>Slide 1</dc:title>
</cp:coreProperties>
</file>