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1C5-CDA5-4D0C-BDF3-50C48F9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EA8-D973-4C4F-B6D7-4CC41AC0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8CE-D097-4A6D-A8CD-549FF14B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9EF-6F11-42D7-BE54-5BFCFA2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0A6-6E1E-401C-8E4B-898971FD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854-590F-4B6E-8022-6981CC6A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DDB-7F06-4C4C-A9D2-3C2D277B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7B2-4B94-47E4-84AA-0B0033C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CC1-B8A8-4A85-A9CD-94CEE6BC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E1F-3D18-429D-B416-2AA6DA0E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440-E79B-41E8-9918-EB8D201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527-76FE-485B-A499-80F73E1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A3A-7AC1-43BF-8440-A7E74D73F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91320" y="762120"/>
            <a:ext cx="121896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PG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762120"/>
            <a:ext cx="1219320" cy="4800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FPG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6172200"/>
            <a:ext cx="30481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48160" y="5996160"/>
            <a:ext cx="8751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ress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066680"/>
            <a:ext cx="106668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 Conf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620388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-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56707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nt-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0120" y="353700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TC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003480"/>
            <a:ext cx="10666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95680"/>
            <a:ext cx="1067040" cy="221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952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4495680"/>
            <a:ext cx="609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M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6477120"/>
            <a:ext cx="41148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56800" y="6288120"/>
            <a:ext cx="6372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1067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 Add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43200" y="5562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59436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57240" y="58309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52880" y="6095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98800" y="598320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5562720"/>
            <a:ext cx="0" cy="91440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952880" y="6400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98800" y="62881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971440" y="59436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2160" y="58309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2575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89320" y="2079720"/>
            <a:ext cx="5688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A_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3689280"/>
            <a:ext cx="60984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2124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0480" y="5232240"/>
            <a:ext cx="6800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re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46483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bug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lect 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1480" y="53341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7400" y="523224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81480" y="48769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04960" y="48769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83808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ock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k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8993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64324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801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87880" y="2630520"/>
            <a:ext cx="4590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3232080"/>
            <a:ext cx="60984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172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676160" y="2666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0102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752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24969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0040" y="2325600"/>
            <a:ext cx="669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9880"/>
            <a:ext cx="1067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ME 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76160" y="40384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513720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010280" y="52833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40328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umpers 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10280" y="16318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351648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86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0" y="3556080"/>
            <a:ext cx="93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864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09000" y="3556080"/>
            <a:ext cx="93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460368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nt-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4832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2470320"/>
            <a:ext cx="1066680" cy="45720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Times New Roman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Times New Roman"/>
              </a:rPr>
              <a:t>(RB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2698920"/>
            <a:ext cx="60984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40705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l Tri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R, E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42991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8419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838080"/>
            <a:ext cx="0" cy="228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30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25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88240" y="3087720"/>
            <a:ext cx="3661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L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0040" y="2859120"/>
            <a:ext cx="4482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4811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0" y="4699080"/>
            <a:ext cx="9324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86400" y="48117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4659480"/>
            <a:ext cx="228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0102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06480" y="806400"/>
            <a:ext cx="19368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33520"/>
            <a:ext cx="60984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048120"/>
            <a:ext cx="1067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P and 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391160" y="2622600"/>
            <a:ext cx="75960" cy="152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93680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D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2165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1160" y="20890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29528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15120" y="198108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06704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gr Conf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838080"/>
            <a:ext cx="0" cy="228600"/>
          </a:xfrm>
          <a:prstGeom prst="line">
            <a:avLst/>
          </a:prstGeom>
          <a:ln w="158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533520"/>
            <a:ext cx="106668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2b2b2"/>
                </a:solidFill>
                <a:latin typeface="Times New Roman"/>
              </a:rPr>
              <a:t>Serial/J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15120" y="251460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523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02960" y="5996160"/>
            <a:ext cx="50940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(31: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2960" y="6288120"/>
            <a:ext cx="5169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(15: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10280" y="5454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13480" y="3156120"/>
            <a:ext cx="76320" cy="1522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7080" y="30481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2b2b2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763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95480" y="5331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803320" y="6379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3680" y="5335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76320"/>
            <a:ext cx="106704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00800" y="53316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308640" y="6379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99000" y="533520"/>
            <a:ext cx="17856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17524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304920"/>
            <a:ext cx="243828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1:49:34Z</dcterms:created>
  <dc:creator>Matthew Warren</dc:creator>
  <dc:description/>
  <dc:language>en-US</dc:language>
  <cp:lastModifiedBy>Matthew Warren</cp:lastModifiedBy>
  <cp:lastPrinted>2003-01-27T15:42:35Z</cp:lastPrinted>
  <dcterms:modified xsi:type="dcterms:W3CDTF">2003-01-27T15:42:46Z</dcterms:modified>
  <cp:revision>29</cp:revision>
  <dc:subject/>
  <dc:title>No Slide Title</dc:title>
</cp:coreProperties>
</file>