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A49-EFD0-4346-B5DA-B44ACFFF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C32-2B3D-4220-BC8E-5698DE30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C7D-1281-4657-A2A5-4394EBD7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A65-B8D2-437F-A144-DBB85CEB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9B2-4680-44C1-B0DF-47F398CA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2E0-BC9A-485E-9025-1FA8A4A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E34-6E91-4523-92EE-55F52B4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41B-83BB-41B1-B189-CA73122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4920" y="-129240"/>
            <a:ext cx="707868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028-51FF-4BED-B0C2-7D98656B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1F9-14AB-4A71-96D8-CD59B71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945-CBE0-4F60-8DBC-B12D423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1FE-62CA-4ECA-AC4F-DA06D6C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453360"/>
            <a:ext cx="828180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50920" y="6237720"/>
            <a:ext cx="1062000" cy="52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24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476360" y="6450840"/>
            <a:ext cx="44640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John Lane – SCT Week - C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443280" y="6421680"/>
            <a:ext cx="1297080" cy="33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F6C-EFBC-4F05-BADD-36CC5455DF5C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7956720" y="6597720"/>
            <a:ext cx="502920" cy="14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HEP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7640" y="3357720"/>
            <a:ext cx="310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entury Schoolbook"/>
              </a:rPr>
              <a:t>TIM Status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381720"/>
            <a:ext cx="89647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2594520"/>
            <a:ext cx="5400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entury Schoolbook"/>
              </a:rPr>
              <a:t>HEP Electronics</a:t>
            </a:r>
            <a:endParaRPr b="1" i="1" lang="en-US" sz="2000" spc="-1" strike="noStrike">
              <a:solidFill>
                <a:srgbClr val="3333cc"/>
              </a:solidFill>
              <a:latin typeface="Century Schoolboo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836640"/>
          <a:ext cx="142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836640"/>
                    <a:ext cx="142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433120"/>
            <a:ext cx="691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entury Schoolbook"/>
              </a:rPr>
              <a:t>John Lane </a:t>
            </a:r>
            <a:br>
              <a:rPr sz="2000"/>
            </a:br>
            <a:r>
              <a:rPr b="1" i="1" lang="en-GB" sz="2000" spc="-1" strike="noStrike">
                <a:solidFill>
                  <a:srgbClr val="3333cc"/>
                </a:solidFill>
                <a:latin typeface="Century Schoolbook"/>
              </a:rPr>
              <a:t>Martin Postranecky, Matthew War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9F5-9FAC-425B-B187-081C3A6282E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5080"/>
            <a:ext cx="1706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Century Schoolbook"/>
              </a:rPr>
              <a:t>Status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06668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07920"/>
            <a:ext cx="856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IM operates as a TTC destination or stand-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IM interfaces with a crate of ROD’s via a back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10 working prototype TIM’s exist for assembly sites an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2 FPGA TIM’s (version 3A) being tested at U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PGA’s load test code from PROM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oan crate with P3 backplane arrived after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rmware largely written, but un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lan for further 18 TIM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- 8 SCT + 8 Pixels +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E5A-D9E0-4432-9BAE-6915513A73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3280" y="2438280"/>
            <a:ext cx="4256280" cy="3918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5080"/>
            <a:ext cx="3984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Century Schoolbook"/>
              </a:rPr>
              <a:t>Moving to FPGA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2520" y="2443320"/>
            <a:ext cx="4248360" cy="389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27080" y="3398760"/>
            <a:ext cx="325440" cy="328680"/>
          </a:xfrm>
          <a:prstGeom prst="rect">
            <a:avLst/>
          </a:prstGeom>
          <a:solidFill>
            <a:srgbClr val="ffcc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2120" y="3576600"/>
            <a:ext cx="325440" cy="3286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1680" y="4079880"/>
            <a:ext cx="325440" cy="3286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62120" y="4121280"/>
            <a:ext cx="325440" cy="32832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73320" y="4778280"/>
            <a:ext cx="325440" cy="3286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46320" y="4784760"/>
            <a:ext cx="325440" cy="3286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89200" y="4791240"/>
            <a:ext cx="325440" cy="32832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11320" y="5538960"/>
            <a:ext cx="325440" cy="32832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10040" y="5505480"/>
            <a:ext cx="287280" cy="2872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2400" y="5537160"/>
            <a:ext cx="336240" cy="33984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9760" y="3735360"/>
            <a:ext cx="230400" cy="228600"/>
          </a:xfrm>
          <a:prstGeom prst="rect">
            <a:avLst/>
          </a:prstGeom>
          <a:solidFill>
            <a:srgbClr val="8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02680" y="3036960"/>
            <a:ext cx="230040" cy="228600"/>
          </a:xfrm>
          <a:prstGeom prst="rect">
            <a:avLst/>
          </a:prstGeom>
          <a:solidFill>
            <a:srgbClr val="ffcc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49320" y="5508720"/>
            <a:ext cx="82800" cy="17604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47880" y="5726160"/>
            <a:ext cx="82440" cy="17604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3680" y="5000760"/>
            <a:ext cx="150840" cy="1378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3680" y="4764240"/>
            <a:ext cx="150840" cy="137880"/>
          </a:xfrm>
          <a:prstGeom prst="rect">
            <a:avLst/>
          </a:prstGeom>
          <a:solidFill>
            <a:srgbClr val="8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32280" y="2585880"/>
            <a:ext cx="3976920" cy="3613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836640"/>
            <a:ext cx="86407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10 CPLD’s reduced to 2 FPGA’s – Xilinx Spartan I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32kB RAM and 64x128 FIFO moved into FP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ost DIL’s replaced by SMD (excl. backplane interface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97560" y="3765600"/>
            <a:ext cx="162000" cy="164880"/>
          </a:xfrm>
          <a:prstGeom prst="rect">
            <a:avLst/>
          </a:prstGeom>
          <a:solidFill>
            <a:srgbClr val="cc00c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3076560"/>
            <a:ext cx="162000" cy="165240"/>
          </a:xfrm>
          <a:prstGeom prst="rect">
            <a:avLst/>
          </a:pr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2637000"/>
            <a:ext cx="1368360" cy="5490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Century Schoolbook"/>
              </a:rPr>
              <a:t>TIM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637000"/>
            <a:ext cx="1657440" cy="5490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Century Schoolbook"/>
              </a:rPr>
              <a:t>TIM3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C8E-1BA2-4EC8-8EDE-AB8D0278D2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00720" cy="5610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5080"/>
            <a:ext cx="174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Century Schoolbook"/>
              </a:rPr>
              <a:t>TIM3A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1197000"/>
            <a:ext cx="100800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ME Bu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1844640"/>
            <a:ext cx="1624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OD Backplane Mapping &amp; PECL D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773360"/>
            <a:ext cx="1439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PGA1         XC2S200E   (VME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4076640"/>
            <a:ext cx="109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NIM/ECL Signals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2060640"/>
            <a:ext cx="1008000" cy="14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24360" y="4292640"/>
            <a:ext cx="194328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16360" y="4292640"/>
            <a:ext cx="1150920" cy="1152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4005360"/>
            <a:ext cx="74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TCrm  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221000"/>
            <a:ext cx="2735280" cy="576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324480" y="1638360"/>
            <a:ext cx="984240" cy="495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9079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J3 Backplane ROD Signals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300360" y="907920"/>
            <a:ext cx="762120" cy="76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724280"/>
            <a:ext cx="10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TC Fibre-optic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4941720"/>
            <a:ext cx="2881440" cy="719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088440"/>
            <a:ext cx="143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PGA2 XC2S600E     (TIM Func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763640" y="2997360"/>
            <a:ext cx="1944720" cy="71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997-8AD6-4370-A5B8-D707238E5F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atthew Warren</cp:lastModifiedBy>
  <cp:lastPrinted>2003-09-22T10:16:16Z</cp:lastPrinted>
  <dcterms:modified xsi:type="dcterms:W3CDTF">2003-09-22T10:17:36Z</dcterms:modified>
  <cp:revision>77</cp:revision>
  <dc:subject/>
  <dc:title>C+C for the SCT</dc:title>
</cp:coreProperties>
</file>