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1E5-BCA4-4721-BE0E-D87473EF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877-C036-4CF0-A63B-193FBB89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F8F-0D15-4E71-B1CD-3773D2A3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824-0474-4E6F-A0C3-FDAACF5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82E-5FBC-4663-9956-9350B64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FCA-E44F-4746-B85B-69429AB9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F5F-0AC3-48E8-AC12-EE77F2D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1C9-5459-45A1-83B6-7FFF240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4920" y="-229680"/>
            <a:ext cx="707868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568-1140-4343-9E0B-952B7E62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49F-5EE3-4031-81C4-E88DDBF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F09-F8C7-4DD2-BAE8-F07F209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184-B0D2-4158-A7BD-9FF966AA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8504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7840" y="6371640"/>
            <a:ext cx="1293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18 December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550600" y="6522120"/>
            <a:ext cx="32036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-SCT Hardware Insta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84720" y="6487920"/>
            <a:ext cx="935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16DE-9F24-4B86-86DC-0BEB54E803CB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43160" y="4653000"/>
            <a:ext cx="26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entury Schoolbook"/>
              </a:rPr>
              <a:t>18</a:t>
            </a:r>
            <a:r>
              <a:rPr b="1" lang="en-GB" sz="2000" spc="-1" strike="noStrike" baseline="30000">
                <a:solidFill>
                  <a:srgbClr val="cc3300"/>
                </a:solidFill>
                <a:latin typeface="Century Schoolbook"/>
              </a:rPr>
              <a:t>th</a:t>
            </a:r>
            <a:r>
              <a:rPr b="1" lang="en-GB" sz="2000" spc="-1" strike="noStrike">
                <a:solidFill>
                  <a:srgbClr val="cc3300"/>
                </a:solidFill>
                <a:latin typeface="Century Schoolbook"/>
              </a:rPr>
              <a:t> Decem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5480" y="2564640"/>
            <a:ext cx="3746520" cy="61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Physics &amp; Astronom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HEP Electronics</a:t>
            </a:r>
            <a:endParaRPr b="1" i="1" lang="en-US" sz="2000" spc="-1" strike="noStrike">
              <a:solidFill>
                <a:srgbClr val="3333cc"/>
              </a:solidFill>
              <a:latin typeface="Century Schoolboo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620640"/>
          <a:ext cx="142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620640"/>
                    <a:ext cx="142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725440"/>
            <a:ext cx="691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cc"/>
                </a:solidFill>
                <a:latin typeface="Century Schoolbook"/>
              </a:rPr>
              <a:t>Martin Postranecky, Matthew War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573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Status of ATLAS–SCT Hardware Installatio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A0C-EB38-4B86-BDE8-2D003B9363C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554508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Century Schoolbook"/>
              </a:rPr>
              <a:t>Hardware Installation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12345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47A-6E23-4680-A85A-39AF0E73B5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p</cp:lastModifiedBy>
  <cp:lastPrinted>2003-09-22T10:12:27Z</cp:lastPrinted>
  <dcterms:modified xsi:type="dcterms:W3CDTF">2006-12-08T15:59:50Z</dcterms:modified>
  <cp:revision>98</cp:revision>
  <dc:subject/>
  <dc:title>C+C for the SCT</dc:title>
</cp:coreProperties>
</file>