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623-71FA-44E9-A9EC-FE683A09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B34-F2AA-4CC0-84BC-92D7FC08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872-7D96-4EA6-ABB8-BF457F92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ECB-1692-4B8D-9519-1B8F7AFD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2C7-B851-4E82-9507-72D2FA6A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ECF-EF03-4453-A43A-6B4A092C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A38-1D8D-4628-8940-14DFAED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E6B-2523-4B6D-8DB4-187B779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7EC-A8D5-468D-8103-B7589CDB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30F-20FA-4A87-8661-8BFDBEDE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322-B851-4EEB-B317-F568070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E4A-AA6E-4AA2-BC50-0D92DB3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61DB-EEA0-4DEA-AF93-A82E3EF0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2360" y="981000"/>
            <a:ext cx="5976720" cy="4537080"/>
            <a:chOff x="1692360" y="981000"/>
            <a:chExt cx="5976720" cy="4537080"/>
          </a:xfrm>
        </p:grpSpPr>
        <p:sp>
          <p:nvSpPr>
            <p:cNvPr id="42" name=""/>
            <p:cNvSpPr/>
            <p:nvPr/>
          </p:nvSpPr>
          <p:spPr>
            <a:xfrm>
              <a:off x="3348000" y="2997360"/>
              <a:ext cx="2808360" cy="100800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57aa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TP-like Trigger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63640" y="2924280"/>
              <a:ext cx="1152720" cy="93636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81d7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04000" y="1413000"/>
              <a:ext cx="792360" cy="2089080"/>
            </a:xfrm>
            <a:custGeom>
              <a:avLst/>
              <a:gdLst>
                <a:gd name="textAreaLeft" fmla="*/ 14400 w 792360"/>
                <a:gd name="textAreaRight" fmla="*/ 777960 w 792360"/>
                <a:gd name="textAreaTop" fmla="*/ 14400 h 2089080"/>
                <a:gd name="textAreaBottom" fmla="*/ 2074680 h 2089080"/>
              </a:gdLst>
              <a:ahLst/>
              <a:rect l="textAreaLeft" t="textAreaTop" r="textAreaRight" b="textAreaBottom"/>
              <a:pathLst>
                <a:path w="21600" h="56933">
                  <a:moveTo>
                    <a:pt x="1350" y="0"/>
                  </a:moveTo>
                  <a:arcTo wR="1350" hR="1350" stAng="16200000" swAng="-5400000"/>
                  <a:lnTo>
                    <a:pt x="0" y="55583"/>
                  </a:lnTo>
                  <a:arcTo wR="1350" hR="1350" stAng="10800000" swAng="-5400000"/>
                  <a:lnTo>
                    <a:pt x="20250" y="56933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81d7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13080" y="2060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16360" y="1773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05440" y="2133720"/>
              <a:ext cx="1152360" cy="57600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57aa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R 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7080" y="1486080"/>
              <a:ext cx="1149120" cy="57456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57aa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bit 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80000" y="2709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32000" y="1557360"/>
              <a:ext cx="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2000" y="1773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32000" y="242100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65800" y="4583160"/>
              <a:ext cx="863640" cy="574560"/>
            </a:xfrm>
            <a:prstGeom prst="roundRect">
              <a:avLst>
                <a:gd name="adj" fmla="val 19889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e Delay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40000" y="184464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16360" y="3286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32000" y="3502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56360" y="2421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92720" y="3429000"/>
              <a:ext cx="792000" cy="50472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sk/ G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6360" y="32130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3429000"/>
              <a:ext cx="792360" cy="50472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ad-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9080" y="407664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16720" y="4583160"/>
              <a:ext cx="863640" cy="574560"/>
            </a:xfrm>
            <a:prstGeom prst="roundRect">
              <a:avLst>
                <a:gd name="adj" fmla="val 14639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1080" y="3429000"/>
              <a:ext cx="792000" cy="50472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ndom Tr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63640" y="1341360"/>
              <a:ext cx="1152720" cy="57636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57aa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E/USB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92360" y="4438800"/>
              <a:ext cx="5976720" cy="1079280"/>
            </a:xfrm>
            <a:prstGeom prst="roundRect">
              <a:avLst>
                <a:gd name="adj" fmla="val 15000"/>
              </a:avLst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-Bo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2360" y="981000"/>
              <a:ext cx="5976720" cy="3095640"/>
            </a:xfrm>
            <a:prstGeom prst="roundRect">
              <a:avLst>
                <a:gd name="adj" fmla="val 6153"/>
              </a:avLst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PG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88000" y="40762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8000" y="4581360"/>
              <a:ext cx="863640" cy="574920"/>
            </a:xfrm>
            <a:prstGeom prst="roundRect">
              <a:avLst>
                <a:gd name="adj" fmla="val 19889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MO I/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60720" y="4581360"/>
              <a:ext cx="863640" cy="574920"/>
            </a:xfrm>
            <a:prstGeom prst="roundRect">
              <a:avLst>
                <a:gd name="adj" fmla="val 19889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VDS I/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13080" y="4581360"/>
              <a:ext cx="863640" cy="574920"/>
            </a:xfrm>
            <a:prstGeom prst="roundRect">
              <a:avLst>
                <a:gd name="adj" fmla="val 19889"/>
              </a:avLst>
            </a:prstGeom>
            <a:gradFill rotWithShape="0">
              <a:gsLst>
                <a:gs pos="0">
                  <a:srgbClr val="9fe9e7"/>
                </a:gs>
                <a:gs pos="100000">
                  <a:srgbClr val="8dcfc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o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63640" y="2133720"/>
              <a:ext cx="1152720" cy="576000"/>
            </a:xfrm>
            <a:prstGeom prst="roundRect">
              <a:avLst>
                <a:gd name="adj" fmla="val 625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57aa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16360" y="242100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16360" y="16286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3:48:51Z</dcterms:created>
  <dc:creator>Matt Warren</dc:creator>
  <dc:description/>
  <dc:language>en-US</dc:language>
  <cp:lastModifiedBy>ucapmpo</cp:lastModifiedBy>
  <cp:lastPrinted>2011-09-13T17:14:14Z</cp:lastPrinted>
  <dcterms:modified xsi:type="dcterms:W3CDTF">2011-09-13T17:25:11Z</dcterms:modified>
  <cp:revision>23</cp:revision>
  <dc:subject/>
  <dc:title>Slide 1</dc:title>
</cp:coreProperties>
</file>