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BB9-E17A-4D3B-8510-9D35B457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AFA-E870-4154-A78C-5DC1C135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451-A7A5-445E-B30E-B1029587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DC9-7838-4361-AE84-004850F2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846-1276-46CC-9C76-A4EA1F7D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97B-0FB6-48B7-A794-D02186E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CC4-A5BB-4613-9526-5C00A012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F11-F1C1-4C22-804B-3330E1F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DF5-6184-4A0E-AF40-12B7FD0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032-A98D-4D6E-92E3-CC8D18ED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F1F-67E4-4F4C-A42C-0C697C9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C41-BF5C-40E2-8A4F-9207DB8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9F5F-2DA8-49A8-AD5E-EFB061B458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1131840" y="94608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1123200" y="12643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139040" y="16675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136160" y="19890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145160" y="2388240"/>
            <a:ext cx="309240" cy="295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1143720" y="27108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142280" y="310896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150200" y="34315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68680" y="9396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8067600" y="127152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63640" y="16740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063640" y="20041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067600" y="2384640"/>
            <a:ext cx="30960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74800" y="272016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8074800" y="313128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040" y="109692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600" y="18162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2536920"/>
            <a:ext cx="3160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360" y="327348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34560" y="109224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51840" y="254628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47160" y="1830240"/>
            <a:ext cx="3160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58320" y="32958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8072640" y="3462840"/>
            <a:ext cx="309600" cy="295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0200" y="5961240"/>
            <a:ext cx="619200" cy="2044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048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43320" y="5958000"/>
            <a:ext cx="246528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2240" y="5965920"/>
            <a:ext cx="246672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5600" y="285264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7920" y="933480"/>
            <a:ext cx="2201760" cy="322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113640" y="3483720"/>
            <a:ext cx="889200" cy="407880"/>
          </a:xfrm>
          <a:custGeom>
            <a:avLst/>
            <a:gdLst>
              <a:gd name="textAreaLeft" fmla="*/ 195480 w 889200"/>
              <a:gd name="textAreaRight" fmla="*/ 693720 w 889200"/>
              <a:gd name="textAreaTop" fmla="*/ 89640 h 407880"/>
              <a:gd name="textAreaBottom" fmla="*/ 31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45147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5600" y="342900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76520" y="52563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52640" y="411804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27080" y="105408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00" y="1244160"/>
            <a:ext cx="2984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7080" y="1049400"/>
            <a:ext cx="1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23840" y="1434960"/>
            <a:ext cx="1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49400" y="177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0200" y="1968120"/>
            <a:ext cx="344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9400" y="17733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4720" y="215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049400" y="2496600"/>
            <a:ext cx="0" cy="3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00200" y="268776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24922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287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049400" y="321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00200" y="340848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9400" y="321300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4720" y="359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951680" y="180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59680" y="200664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1680" y="18050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47000" y="219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10760" y="106668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516880" y="1239120"/>
            <a:ext cx="517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391240" y="141444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393040" y="10764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951680" y="25081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69892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1680" y="25034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47000" y="28893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951680" y="10573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59680" y="1239840"/>
            <a:ext cx="787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1680" y="10526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47000" y="143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951680" y="324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1240" y="342900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1680" y="32446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47000" y="363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10760" y="1804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516880" y="199404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91600" y="216864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393040" y="1819440"/>
            <a:ext cx="12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05720" y="254808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508960" y="2708280"/>
            <a:ext cx="54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384760" y="28735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386560" y="254016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07520" y="32806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516880" y="3443040"/>
            <a:ext cx="5414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86560" y="36147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389800" y="32940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38280" y="1076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542960" y="1233360"/>
            <a:ext cx="340992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34600" y="1414440"/>
            <a:ext cx="10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36400" y="1089000"/>
            <a:ext cx="10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5040" y="18082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539360" y="1974960"/>
            <a:ext cx="34131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01840" y="2131920"/>
            <a:ext cx="13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02920" y="182088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3840" y="2530440"/>
            <a:ext cx="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555920" y="2703600"/>
            <a:ext cx="339696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2520" y="28843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4320" y="254304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324720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555920" y="3416400"/>
            <a:ext cx="17985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42520" y="3575160"/>
            <a:ext cx="10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4320" y="326088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03120" y="3645000"/>
            <a:ext cx="35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98440" y="3176280"/>
            <a:ext cx="4680" cy="94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4390920"/>
            <a:ext cx="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08360" y="5589360"/>
            <a:ext cx="0" cy="369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46440" y="4157280"/>
            <a:ext cx="20080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60840" y="4157280"/>
            <a:ext cx="6238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86720" y="4157280"/>
            <a:ext cx="544320" cy="1808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11640" y="2744280"/>
            <a:ext cx="272880" cy="36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211640" y="3281040"/>
            <a:ext cx="2728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72080" y="299736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72080" y="357336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0600" y="3537000"/>
            <a:ext cx="0" cy="90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0600" y="296064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00600" y="353700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360" y="3645000"/>
            <a:ext cx="1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5560" y="386064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00600" y="4440240"/>
            <a:ext cx="386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61240" y="3424320"/>
            <a:ext cx="0" cy="10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1640" y="4157640"/>
            <a:ext cx="2184480" cy="1287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72080" y="288936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72080" y="346536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33360"/>
            <a:ext cx="220680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441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4520" y="504360"/>
            <a:ext cx="0" cy="435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49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35720" y="404280"/>
            <a:ext cx="0" cy="535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52640" y="5013360"/>
            <a:ext cx="780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4720" y="5950080"/>
            <a:ext cx="684000" cy="35064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5920" y="4616280"/>
            <a:ext cx="1112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8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22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4240" y="555300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93080" y="5589720"/>
            <a:ext cx="10980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16880" y="5586480"/>
            <a:ext cx="1144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51840" y="558972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2552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25520" y="538164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13004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3251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521000" y="483408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3251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1000" y="443700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3004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216640" y="5793840"/>
            <a:ext cx="1260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8567640" y="5803920"/>
            <a:ext cx="129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8930880" y="5769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93088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8561160" y="54072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818964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" y="3573360"/>
            <a:ext cx="80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62120" y="360828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6080" y="461628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68760" y="41846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98800" y="3429000"/>
            <a:ext cx="109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78360" y="357984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692280"/>
            <a:ext cx="11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..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98320" y="76500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…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12240" y="80028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360" y="208296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47200" y="1376280"/>
            <a:ext cx="110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80600" y="210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7360" y="138420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20200" y="285768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TRIGG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8936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VETO/BC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53240" y="59832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90120" y="602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01920" y="59500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2560" y="5324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724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44880" y="5472000"/>
            <a:ext cx="407880" cy="47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59000" y="595620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08200" y="595008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913360"/>
            <a:ext cx="8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6920" y="5079960"/>
            <a:ext cx="7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920" y="462456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43200" y="554976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7200" y="436572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82200" y="446580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07480" y="457344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2880" y="468144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9113760" y="4760640"/>
            <a:ext cx="258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85240" y="407664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-bit SERIAL No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48600" y="5013360"/>
            <a:ext cx="19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A16-31 P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33680" y="371520"/>
            <a:ext cx="4669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14680" y="441000"/>
            <a:ext cx="26028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18000" y="739800"/>
            <a:ext cx="1334880" cy="357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1040" y="44136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260280"/>
            <a:ext cx="257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67160" y="123840"/>
            <a:ext cx="14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 BREAK-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59520" y="1566720"/>
            <a:ext cx="178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78600" y="5237280"/>
            <a:ext cx="14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V  +12V  -1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6920" y="4149720"/>
            <a:ext cx="13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3V3 +2V5 +1V8 -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812960" y="5121360"/>
            <a:ext cx="637704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616280"/>
            <a:ext cx="110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7157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7157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90000" y="5121360"/>
            <a:ext cx="0" cy="1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54280" y="368280"/>
            <a:ext cx="4651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747720"/>
            <a:ext cx="2076480" cy="80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01840" y="728640"/>
            <a:ext cx="2651040" cy="104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8560" y="368280"/>
            <a:ext cx="46656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66760" y="4046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95520" y="404640"/>
            <a:ext cx="7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30400" y="77004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60" y="64371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ATLAS-SCT  DAVE VME Board Draft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48240" y="647712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"/>
              </a:rPr>
              <a:t>MP, MW - UCL, 28-03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159320" y="4076640"/>
            <a:ext cx="1500120" cy="496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7520" y="368280"/>
            <a:ext cx="376200" cy="358920"/>
          </a:xfrm>
          <a:prstGeom prst="flowChartSummingJunction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728720" y="727200"/>
            <a:ext cx="3229200" cy="1573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1240" y="40464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…x L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92840" y="5381640"/>
            <a:ext cx="131256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240" y="5381640"/>
            <a:ext cx="1327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46440" y="5381640"/>
            <a:ext cx="1003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6960" y="538020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69600" y="535932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75800" y="53802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141680" y="47628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84880" y="260280"/>
            <a:ext cx="102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 POWER and GND r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98800" y="3176640"/>
            <a:ext cx="19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48160" y="4040280"/>
            <a:ext cx="14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08520" y="25290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2529000"/>
            <a:ext cx="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624880" y="3816360"/>
            <a:ext cx="466560" cy="30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726400" y="3860640"/>
            <a:ext cx="258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159680" y="3823920"/>
            <a:ext cx="1465200" cy="144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8520" y="342900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78280" y="383364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8280" y="3608280"/>
            <a:ext cx="60480" cy="87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3240" y="360828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24880" y="3411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481960" y="342756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196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02480" y="1986120"/>
            <a:ext cx="5112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02480" y="1230480"/>
            <a:ext cx="5112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6480" y="123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26480" y="198612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26480" y="267012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42756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7760" y="119700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17760" y="195120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3180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31800" y="339084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2160" y="123048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14480" y="195120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4480" y="339084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1448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cp:lastPrinted>2010-06-17T14:45:37Z</cp:lastPrinted>
  <dcterms:modified xsi:type="dcterms:W3CDTF">2011-02-09T15:31:16Z</dcterms:modified>
  <cp:revision>16</cp:revision>
  <dc:subject/>
  <dc:title>Slide 1</dc:title>
</cp:coreProperties>
</file>