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342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06D-7159-4D41-A95B-E2681E17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09F-0CAF-48FD-B22C-FF44FEC5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899-5C15-4882-8254-A424EA47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8C6-2C1F-4411-85C7-DD1A7FA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256-8D4C-46AE-A2FC-6D49C96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7EE-40F7-442F-9F10-287D4E6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811-D75C-47E1-9771-81B1CBF1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7EC-E7BF-4C6F-B8B1-B91DE44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ABB-7DF2-41A1-B201-65B4EECE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334-87AC-4884-9E8F-D66B612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F4D-D185-4F0E-A05C-2B7425C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DC7-3D8C-43B6-B66C-5097914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F8B-A0D5-4948-9EC3-444FBC40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920" y="18108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3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760" y="218268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5240" y="425520"/>
            <a:ext cx="590400" cy="179280"/>
            <a:chOff x="165240" y="425520"/>
            <a:chExt cx="590400" cy="179280"/>
          </a:xfrm>
        </p:grpSpPr>
        <p:grpSp>
          <p:nvGrpSpPr>
            <p:cNvPr id="44" name=""/>
            <p:cNvGrpSpPr/>
            <p:nvPr/>
          </p:nvGrpSpPr>
          <p:grpSpPr>
            <a:xfrm>
              <a:off x="165240" y="425520"/>
              <a:ext cx="393480" cy="179280"/>
              <a:chOff x="165240" y="425520"/>
              <a:chExt cx="393480" cy="179280"/>
            </a:xfrm>
          </p:grpSpPr>
          <p:sp>
            <p:nvSpPr>
              <p:cNvPr id="45" name=""/>
              <p:cNvSpPr/>
              <p:nvPr/>
            </p:nvSpPr>
            <p:spPr>
              <a:xfrm>
                <a:off x="165240" y="42552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1800" y="42552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58720" y="42552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65240" y="801720"/>
            <a:ext cx="590400" cy="179280"/>
            <a:chOff x="165240" y="801720"/>
            <a:chExt cx="590400" cy="179280"/>
          </a:xfrm>
        </p:grpSpPr>
        <p:grpSp>
          <p:nvGrpSpPr>
            <p:cNvPr id="49" name=""/>
            <p:cNvGrpSpPr/>
            <p:nvPr/>
          </p:nvGrpSpPr>
          <p:grpSpPr>
            <a:xfrm>
              <a:off x="165240" y="801720"/>
              <a:ext cx="393480" cy="179280"/>
              <a:chOff x="165240" y="801720"/>
              <a:chExt cx="393480" cy="179280"/>
            </a:xfrm>
          </p:grpSpPr>
          <p:sp>
            <p:nvSpPr>
              <p:cNvPr id="50" name=""/>
              <p:cNvSpPr/>
              <p:nvPr/>
            </p:nvSpPr>
            <p:spPr>
              <a:xfrm>
                <a:off x="165240" y="80172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61800" y="80172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58720" y="80172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5240" y="981000"/>
            <a:ext cx="590400" cy="179640"/>
            <a:chOff x="165240" y="981000"/>
            <a:chExt cx="590400" cy="179640"/>
          </a:xfrm>
        </p:grpSpPr>
        <p:grpSp>
          <p:nvGrpSpPr>
            <p:cNvPr id="54" name=""/>
            <p:cNvGrpSpPr/>
            <p:nvPr/>
          </p:nvGrpSpPr>
          <p:grpSpPr>
            <a:xfrm>
              <a:off x="165240" y="981000"/>
              <a:ext cx="393480" cy="179640"/>
              <a:chOff x="165240" y="981000"/>
              <a:chExt cx="393480" cy="179640"/>
            </a:xfrm>
          </p:grpSpPr>
          <p:sp>
            <p:nvSpPr>
              <p:cNvPr id="55" name=""/>
              <p:cNvSpPr/>
              <p:nvPr/>
            </p:nvSpPr>
            <p:spPr>
              <a:xfrm>
                <a:off x="165240" y="981000"/>
                <a:ext cx="19656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1800" y="981000"/>
                <a:ext cx="19692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58720" y="981000"/>
              <a:ext cx="19692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65240" y="1162080"/>
            <a:ext cx="590400" cy="179280"/>
            <a:chOff x="165240" y="1162080"/>
            <a:chExt cx="590400" cy="179280"/>
          </a:xfrm>
        </p:grpSpPr>
        <p:grpSp>
          <p:nvGrpSpPr>
            <p:cNvPr id="59" name=""/>
            <p:cNvGrpSpPr/>
            <p:nvPr/>
          </p:nvGrpSpPr>
          <p:grpSpPr>
            <a:xfrm>
              <a:off x="165240" y="1162080"/>
              <a:ext cx="393480" cy="179280"/>
              <a:chOff x="165240" y="1162080"/>
              <a:chExt cx="393480" cy="179280"/>
            </a:xfrm>
          </p:grpSpPr>
          <p:sp>
            <p:nvSpPr>
              <p:cNvPr id="60" name=""/>
              <p:cNvSpPr/>
              <p:nvPr/>
            </p:nvSpPr>
            <p:spPr>
              <a:xfrm>
                <a:off x="165240" y="116208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1800" y="116208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58720" y="116208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5240" y="1341360"/>
            <a:ext cx="590400" cy="179640"/>
            <a:chOff x="165240" y="1341360"/>
            <a:chExt cx="590400" cy="179640"/>
          </a:xfrm>
        </p:grpSpPr>
        <p:grpSp>
          <p:nvGrpSpPr>
            <p:cNvPr id="64" name=""/>
            <p:cNvGrpSpPr/>
            <p:nvPr/>
          </p:nvGrpSpPr>
          <p:grpSpPr>
            <a:xfrm>
              <a:off x="165240" y="1341360"/>
              <a:ext cx="393480" cy="179640"/>
              <a:chOff x="165240" y="1341360"/>
              <a:chExt cx="393480" cy="179640"/>
            </a:xfrm>
          </p:grpSpPr>
          <p:sp>
            <p:nvSpPr>
              <p:cNvPr id="65" name=""/>
              <p:cNvSpPr/>
              <p:nvPr/>
            </p:nvSpPr>
            <p:spPr>
              <a:xfrm>
                <a:off x="165240" y="1341360"/>
                <a:ext cx="19656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1800" y="1341360"/>
                <a:ext cx="19692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58720" y="1341360"/>
              <a:ext cx="19692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240" y="584280"/>
            <a:ext cx="85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2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55280" y="225360"/>
            <a:ext cx="705240" cy="379440"/>
            <a:chOff x="755280" y="225360"/>
            <a:chExt cx="705240" cy="379440"/>
          </a:xfrm>
        </p:grpSpPr>
        <p:grpSp>
          <p:nvGrpSpPr>
            <p:cNvPr id="70" name=""/>
            <p:cNvGrpSpPr/>
            <p:nvPr/>
          </p:nvGrpSpPr>
          <p:grpSpPr>
            <a:xfrm>
              <a:off x="755280" y="425520"/>
              <a:ext cx="668520" cy="179280"/>
              <a:chOff x="755280" y="425520"/>
              <a:chExt cx="668520" cy="179280"/>
            </a:xfrm>
          </p:grpSpPr>
          <p:sp>
            <p:nvSpPr>
              <p:cNvPr id="71" name=""/>
              <p:cNvSpPr/>
              <p:nvPr/>
            </p:nvSpPr>
            <p:spPr>
              <a:xfrm flipH="1">
                <a:off x="755280" y="512640"/>
                <a:ext cx="668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173240" y="425520"/>
                <a:ext cx="125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065240" y="225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39800" y="620640"/>
            <a:ext cx="828720" cy="342720"/>
            <a:chOff x="739800" y="620640"/>
            <a:chExt cx="828720" cy="342720"/>
          </a:xfrm>
        </p:grpSpPr>
        <p:grpSp>
          <p:nvGrpSpPr>
            <p:cNvPr id="75" name=""/>
            <p:cNvGrpSpPr/>
            <p:nvPr/>
          </p:nvGrpSpPr>
          <p:grpSpPr>
            <a:xfrm>
              <a:off x="739800" y="784080"/>
              <a:ext cx="668160" cy="179280"/>
              <a:chOff x="739800" y="784080"/>
              <a:chExt cx="668160" cy="17928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739800" y="87120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156680" y="78408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17324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39800" y="836640"/>
            <a:ext cx="828720" cy="323640"/>
            <a:chOff x="739800" y="836640"/>
            <a:chExt cx="828720" cy="323640"/>
          </a:xfrm>
        </p:grpSpPr>
        <p:grpSp>
          <p:nvGrpSpPr>
            <p:cNvPr id="80" name=""/>
            <p:cNvGrpSpPr/>
            <p:nvPr/>
          </p:nvGrpSpPr>
          <p:grpSpPr>
            <a:xfrm>
              <a:off x="739800" y="981000"/>
              <a:ext cx="668160" cy="179280"/>
              <a:chOff x="739800" y="981000"/>
              <a:chExt cx="668160" cy="17928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739800" y="106812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156680" y="98100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73240" y="836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39800" y="1023840"/>
            <a:ext cx="828720" cy="299880"/>
            <a:chOff x="739800" y="1023840"/>
            <a:chExt cx="828720" cy="299880"/>
          </a:xfrm>
        </p:grpSpPr>
        <p:grpSp>
          <p:nvGrpSpPr>
            <p:cNvPr id="85" name=""/>
            <p:cNvGrpSpPr/>
            <p:nvPr/>
          </p:nvGrpSpPr>
          <p:grpSpPr>
            <a:xfrm>
              <a:off x="739800" y="1144440"/>
              <a:ext cx="668160" cy="179280"/>
              <a:chOff x="739800" y="1144440"/>
              <a:chExt cx="668160" cy="17928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739800" y="123156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156680" y="114444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173240" y="10238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39800" y="1197000"/>
            <a:ext cx="828720" cy="323640"/>
            <a:chOff x="739800" y="1197000"/>
            <a:chExt cx="828720" cy="323640"/>
          </a:xfrm>
        </p:grpSpPr>
        <p:grpSp>
          <p:nvGrpSpPr>
            <p:cNvPr id="90" name=""/>
            <p:cNvGrpSpPr/>
            <p:nvPr/>
          </p:nvGrpSpPr>
          <p:grpSpPr>
            <a:xfrm>
              <a:off x="739800" y="1341360"/>
              <a:ext cx="668160" cy="179280"/>
              <a:chOff x="739800" y="1341360"/>
              <a:chExt cx="668160" cy="17928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739800" y="142848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156680" y="134136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173240" y="119700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24160" y="425520"/>
            <a:ext cx="504720" cy="109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89240" y="692280"/>
            <a:ext cx="61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28880" y="865080"/>
            <a:ext cx="3743280" cy="6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53240" y="4073400"/>
            <a:ext cx="750960" cy="847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16160" y="620640"/>
            <a:ext cx="395280" cy="343080"/>
            <a:chOff x="2216160" y="620640"/>
            <a:chExt cx="395280" cy="343080"/>
          </a:xfrm>
        </p:grpSpPr>
        <p:sp>
          <p:nvSpPr>
            <p:cNvPr id="99" name=""/>
            <p:cNvSpPr/>
            <p:nvPr/>
          </p:nvSpPr>
          <p:spPr>
            <a:xfrm>
              <a:off x="221616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60520" y="784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2880" y="2390760"/>
            <a:ext cx="431640" cy="216000"/>
            <a:chOff x="272880" y="2390760"/>
            <a:chExt cx="431640" cy="216000"/>
          </a:xfrm>
        </p:grpSpPr>
        <p:sp>
          <p:nvSpPr>
            <p:cNvPr id="102" name=""/>
            <p:cNvSpPr/>
            <p:nvPr/>
          </p:nvSpPr>
          <p:spPr>
            <a:xfrm>
              <a:off x="272880" y="239076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880" y="239076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2880" y="2678040"/>
            <a:ext cx="431640" cy="216000"/>
            <a:chOff x="272880" y="2678040"/>
            <a:chExt cx="431640" cy="216000"/>
          </a:xfrm>
        </p:grpSpPr>
        <p:sp>
          <p:nvSpPr>
            <p:cNvPr id="105" name=""/>
            <p:cNvSpPr/>
            <p:nvPr/>
          </p:nvSpPr>
          <p:spPr>
            <a:xfrm>
              <a:off x="272880" y="267804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8880" y="267804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2880" y="2894040"/>
            <a:ext cx="431640" cy="216000"/>
            <a:chOff x="272880" y="2894040"/>
            <a:chExt cx="431640" cy="216000"/>
          </a:xfrm>
        </p:grpSpPr>
        <p:sp>
          <p:nvSpPr>
            <p:cNvPr id="108" name=""/>
            <p:cNvSpPr/>
            <p:nvPr/>
          </p:nvSpPr>
          <p:spPr>
            <a:xfrm>
              <a:off x="272880" y="289404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8880" y="289404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2880" y="3110040"/>
            <a:ext cx="431640" cy="215640"/>
            <a:chOff x="272880" y="3110040"/>
            <a:chExt cx="431640" cy="215640"/>
          </a:xfrm>
        </p:grpSpPr>
        <p:sp>
          <p:nvSpPr>
            <p:cNvPr id="111" name=""/>
            <p:cNvSpPr/>
            <p:nvPr/>
          </p:nvSpPr>
          <p:spPr>
            <a:xfrm>
              <a:off x="272880" y="311004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8880" y="311004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2880" y="3325680"/>
            <a:ext cx="431640" cy="216000"/>
            <a:chOff x="272880" y="3325680"/>
            <a:chExt cx="431640" cy="216000"/>
          </a:xfrm>
        </p:grpSpPr>
        <p:sp>
          <p:nvSpPr>
            <p:cNvPr id="114" name=""/>
            <p:cNvSpPr/>
            <p:nvPr/>
          </p:nvSpPr>
          <p:spPr>
            <a:xfrm>
              <a:off x="272880" y="332568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8880" y="332568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2160" y="2236680"/>
            <a:ext cx="461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40" y="2709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240" y="2925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240" y="3357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240" y="3141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7600" y="223668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2880" y="3753000"/>
            <a:ext cx="431640" cy="215640"/>
            <a:chOff x="272880" y="3753000"/>
            <a:chExt cx="431640" cy="215640"/>
          </a:xfrm>
        </p:grpSpPr>
        <p:sp>
          <p:nvSpPr>
            <p:cNvPr id="123" name=""/>
            <p:cNvSpPr/>
            <p:nvPr/>
          </p:nvSpPr>
          <p:spPr>
            <a:xfrm>
              <a:off x="272880" y="375300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880" y="375300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2880" y="4041720"/>
            <a:ext cx="431640" cy="216000"/>
            <a:chOff x="272880" y="4041720"/>
            <a:chExt cx="431640" cy="216000"/>
          </a:xfrm>
        </p:grpSpPr>
        <p:sp>
          <p:nvSpPr>
            <p:cNvPr id="126" name=""/>
            <p:cNvSpPr/>
            <p:nvPr/>
          </p:nvSpPr>
          <p:spPr>
            <a:xfrm>
              <a:off x="272880" y="404172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880" y="404172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72880" y="4257720"/>
            <a:ext cx="431640" cy="216000"/>
            <a:chOff x="272880" y="4257720"/>
            <a:chExt cx="431640" cy="216000"/>
          </a:xfrm>
        </p:grpSpPr>
        <p:sp>
          <p:nvSpPr>
            <p:cNvPr id="129" name=""/>
            <p:cNvSpPr/>
            <p:nvPr/>
          </p:nvSpPr>
          <p:spPr>
            <a:xfrm>
              <a:off x="272880" y="425772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8880" y="425772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2880" y="4473720"/>
            <a:ext cx="431640" cy="215640"/>
            <a:chOff x="272880" y="4473720"/>
            <a:chExt cx="431640" cy="215640"/>
          </a:xfrm>
        </p:grpSpPr>
        <p:sp>
          <p:nvSpPr>
            <p:cNvPr id="132" name=""/>
            <p:cNvSpPr/>
            <p:nvPr/>
          </p:nvSpPr>
          <p:spPr>
            <a:xfrm>
              <a:off x="272880" y="447372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8880" y="447372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2880" y="4689360"/>
            <a:ext cx="431640" cy="216000"/>
            <a:chOff x="272880" y="4689360"/>
            <a:chExt cx="431640" cy="216000"/>
          </a:xfrm>
        </p:grpSpPr>
        <p:sp>
          <p:nvSpPr>
            <p:cNvPr id="135" name=""/>
            <p:cNvSpPr/>
            <p:nvPr/>
          </p:nvSpPr>
          <p:spPr>
            <a:xfrm>
              <a:off x="272880" y="468936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880" y="468936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-15840" y="3605040"/>
            <a:ext cx="60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87480" y="4073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49400" y="4289400"/>
            <a:ext cx="530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87480" y="4721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87480" y="4505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605040"/>
            <a:ext cx="611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2880" y="1592280"/>
            <a:ext cx="395280" cy="250920"/>
            <a:chOff x="272880" y="1592280"/>
            <a:chExt cx="395280" cy="250920"/>
          </a:xfrm>
        </p:grpSpPr>
        <p:sp>
          <p:nvSpPr>
            <p:cNvPr id="144" name=""/>
            <p:cNvSpPr/>
            <p:nvPr/>
          </p:nvSpPr>
          <p:spPr>
            <a:xfrm>
              <a:off x="326880" y="160668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880" y="159228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2880" y="1916280"/>
            <a:ext cx="395280" cy="250200"/>
            <a:chOff x="272880" y="1916280"/>
            <a:chExt cx="395280" cy="250200"/>
          </a:xfrm>
        </p:grpSpPr>
        <p:sp>
          <p:nvSpPr>
            <p:cNvPr id="147" name=""/>
            <p:cNvSpPr/>
            <p:nvPr/>
          </p:nvSpPr>
          <p:spPr>
            <a:xfrm>
              <a:off x="326880" y="1930320"/>
              <a:ext cx="30132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880" y="191628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162920" y="6418440"/>
            <a:ext cx="395280" cy="250200"/>
            <a:chOff x="7162920" y="6418440"/>
            <a:chExt cx="395280" cy="250200"/>
          </a:xfrm>
        </p:grpSpPr>
        <p:sp>
          <p:nvSpPr>
            <p:cNvPr id="150" name=""/>
            <p:cNvSpPr/>
            <p:nvPr/>
          </p:nvSpPr>
          <p:spPr>
            <a:xfrm>
              <a:off x="7216920" y="6432480"/>
              <a:ext cx="30132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641844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5400000">
            <a:off x="1013400" y="230112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012320" y="2498760"/>
            <a:ext cx="189000" cy="16020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76320" y="235908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6320" y="235584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3080" y="259236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9840" y="237564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241280" y="2463840"/>
            <a:ext cx="97488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66400" y="257508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168560" y="2384280"/>
            <a:ext cx="7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30480" y="246384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46384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50720" y="386064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1013400" y="29394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012320" y="3137040"/>
            <a:ext cx="189000" cy="160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76320" y="299736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6320" y="299412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3080" y="323064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9840" y="30146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40920" y="3110040"/>
            <a:ext cx="12272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66400" y="32130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168560" y="3022560"/>
            <a:ext cx="7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30480" y="310212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7240" y="310212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1105560" y="3867840"/>
            <a:ext cx="190800" cy="16056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105560" y="3668760"/>
            <a:ext cx="190440" cy="160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0200" y="3726000"/>
            <a:ext cx="0" cy="24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266480" y="397368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66840" y="373680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66680" y="37544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4880" y="3851280"/>
            <a:ext cx="34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9920" y="37530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5240" y="394488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1050480" y="383868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1323720" y="383868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105560" y="4478400"/>
            <a:ext cx="190440" cy="160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1107360" y="42804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4336200"/>
            <a:ext cx="0" cy="2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267920" y="458460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68280" y="434808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068480" y="4365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160" y="4459320"/>
            <a:ext cx="40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71720" y="4363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55616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1052280" y="4449240"/>
            <a:ext cx="2700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1325160" y="4449240"/>
            <a:ext cx="2700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360440" y="4473720"/>
            <a:ext cx="64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04520" y="2487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28200" y="3101760"/>
            <a:ext cx="328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12880" y="239724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336680" y="238608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12880" y="3011400"/>
            <a:ext cx="1080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324080" y="3035160"/>
            <a:ext cx="1080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84160" y="375300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423800" y="3789360"/>
            <a:ext cx="10764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84160" y="436572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423800" y="4402080"/>
            <a:ext cx="10764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44520" y="224172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800" y="224784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30480" y="288936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0720" y="288936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363060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0560" y="360828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422928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00" y="4221000"/>
            <a:ext cx="23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96760" y="355140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248520" y="6381720"/>
            <a:ext cx="968400" cy="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3240" y="415620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32160" y="2241720"/>
            <a:ext cx="324000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2720" y="281628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7960" y="6021360"/>
            <a:ext cx="466920" cy="36828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36600" y="61164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6200640"/>
            <a:ext cx="49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50760" y="5843520"/>
            <a:ext cx="10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3680" y="5172120"/>
            <a:ext cx="61920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123840" y="4978440"/>
            <a:ext cx="15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pin AUX. CONN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920" y="6497640"/>
            <a:ext cx="787320" cy="246240"/>
            <a:chOff x="61920" y="6497640"/>
            <a:chExt cx="787320" cy="246240"/>
          </a:xfrm>
        </p:grpSpPr>
        <p:sp>
          <p:nvSpPr>
            <p:cNvPr id="228" name=""/>
            <p:cNvSpPr/>
            <p:nvPr/>
          </p:nvSpPr>
          <p:spPr>
            <a:xfrm>
              <a:off x="163440" y="6510240"/>
              <a:ext cx="619200" cy="20484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920" y="649764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3680" y="5529240"/>
            <a:ext cx="61920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6160" y="6597720"/>
            <a:ext cx="4896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2880" y="5624640"/>
            <a:ext cx="4859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28560" y="1720800"/>
            <a:ext cx="507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28560" y="2060640"/>
            <a:ext cx="504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2880" y="5265720"/>
            <a:ext cx="4859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188880" y="3519360"/>
            <a:ext cx="24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00600" y="27082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62360" y="2822400"/>
            <a:ext cx="138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99320" y="386064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114000" y="2656440"/>
            <a:ext cx="888840" cy="407880"/>
          </a:xfrm>
          <a:custGeom>
            <a:avLst/>
            <a:gdLst>
              <a:gd name="textAreaLeft" fmla="*/ 195480 w 888840"/>
              <a:gd name="textAreaRight" fmla="*/ 693360 w 88884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03400" y="3889440"/>
            <a:ext cx="465120" cy="368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28880" y="350028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03120" y="30337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998440" y="2349360"/>
            <a:ext cx="46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03480" y="377352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23960" y="3876840"/>
            <a:ext cx="1281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98800" y="2602080"/>
            <a:ext cx="109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98800" y="2349360"/>
            <a:ext cx="267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3240" y="299556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92520" y="3141720"/>
            <a:ext cx="504720" cy="268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08160" y="342900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89240" y="3414600"/>
            <a:ext cx="0" cy="4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2520" y="35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49600" y="3110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/80MHz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2097360" y="2323080"/>
            <a:ext cx="504720" cy="268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81320" y="350028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60600" y="3130560"/>
            <a:ext cx="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469960" y="2584440"/>
            <a:ext cx="89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00600" y="270684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35600" y="2604960"/>
            <a:ext cx="63648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211640" y="2457360"/>
            <a:ext cx="27288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09960" y="299556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92520" y="2817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 Master DE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78280" y="2784600"/>
            <a:ext cx="60480" cy="87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672080" y="2637000"/>
            <a:ext cx="1000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16160" y="3860640"/>
            <a:ext cx="0" cy="9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001960" y="4464000"/>
            <a:ext cx="14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460240" y="4545000"/>
            <a:ext cx="321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14720" y="475452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001600" y="4968360"/>
            <a:ext cx="36702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00600" y="313992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5600" y="3057480"/>
            <a:ext cx="63648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11640" y="2973240"/>
            <a:ext cx="185760" cy="3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08520" y="3429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92520" y="32511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x Slave DEL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72080" y="3068640"/>
            <a:ext cx="1000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00600" y="3141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0000" y="2744640"/>
            <a:ext cx="99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65600" y="3198960"/>
            <a:ext cx="99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5960" y="32511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08680" y="303372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04880" y="3139920"/>
            <a:ext cx="8892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04880" y="3321000"/>
            <a:ext cx="125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1640" y="30369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21040" y="26798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53080" y="368280"/>
            <a:ext cx="631800" cy="6337440"/>
          </a:xfrm>
          <a:prstGeom prst="rect">
            <a:avLst/>
          </a:prstGeom>
          <a:solidFill>
            <a:srgbClr val="8299f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8160" y="1015920"/>
            <a:ext cx="63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22880" y="620640"/>
            <a:ext cx="395280" cy="343080"/>
            <a:chOff x="5222880" y="620640"/>
            <a:chExt cx="395280" cy="343080"/>
          </a:xfrm>
        </p:grpSpPr>
        <p:sp>
          <p:nvSpPr>
            <p:cNvPr id="289" name=""/>
            <p:cNvSpPr/>
            <p:nvPr/>
          </p:nvSpPr>
          <p:spPr>
            <a:xfrm>
              <a:off x="522288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367240" y="784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916520" y="4292640"/>
            <a:ext cx="395280" cy="342360"/>
            <a:chOff x="4916520" y="4292640"/>
            <a:chExt cx="395280" cy="342360"/>
          </a:xfrm>
        </p:grpSpPr>
        <p:sp>
          <p:nvSpPr>
            <p:cNvPr id="292" name=""/>
            <p:cNvSpPr/>
            <p:nvPr/>
          </p:nvSpPr>
          <p:spPr>
            <a:xfrm>
              <a:off x="4916520" y="4292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060880" y="445572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39680" y="5950080"/>
            <a:ext cx="395280" cy="342360"/>
            <a:chOff x="1039680" y="5950080"/>
            <a:chExt cx="395280" cy="342360"/>
          </a:xfrm>
        </p:grpSpPr>
        <p:sp>
          <p:nvSpPr>
            <p:cNvPr id="295" name=""/>
            <p:cNvSpPr/>
            <p:nvPr/>
          </p:nvSpPr>
          <p:spPr>
            <a:xfrm>
              <a:off x="1039680" y="595008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184040" y="611316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917960" y="4741920"/>
            <a:ext cx="395280" cy="342360"/>
            <a:chOff x="4917960" y="4741920"/>
            <a:chExt cx="395280" cy="342360"/>
          </a:xfrm>
        </p:grpSpPr>
        <p:sp>
          <p:nvSpPr>
            <p:cNvPr id="298" name=""/>
            <p:cNvSpPr/>
            <p:nvPr/>
          </p:nvSpPr>
          <p:spPr>
            <a:xfrm>
              <a:off x="4917960" y="47419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062320" y="49050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95800" y="5013360"/>
            <a:ext cx="395280" cy="342360"/>
            <a:chOff x="5095800" y="5013360"/>
            <a:chExt cx="395280" cy="342360"/>
          </a:xfrm>
        </p:grpSpPr>
        <p:sp>
          <p:nvSpPr>
            <p:cNvPr id="301" name=""/>
            <p:cNvSpPr/>
            <p:nvPr/>
          </p:nvSpPr>
          <p:spPr>
            <a:xfrm>
              <a:off x="5095800" y="5013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240160" y="517644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77840" y="5373720"/>
            <a:ext cx="395280" cy="342360"/>
            <a:chOff x="1077840" y="5373720"/>
            <a:chExt cx="395280" cy="342360"/>
          </a:xfrm>
        </p:grpSpPr>
        <p:sp>
          <p:nvSpPr>
            <p:cNvPr id="304" name=""/>
            <p:cNvSpPr/>
            <p:nvPr/>
          </p:nvSpPr>
          <p:spPr>
            <a:xfrm>
              <a:off x="1077840" y="53737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222200" y="55368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095800" y="4471920"/>
            <a:ext cx="395280" cy="343080"/>
            <a:chOff x="5095800" y="4471920"/>
            <a:chExt cx="395280" cy="343080"/>
          </a:xfrm>
        </p:grpSpPr>
        <p:sp>
          <p:nvSpPr>
            <p:cNvPr id="307" name=""/>
            <p:cNvSpPr/>
            <p:nvPr/>
          </p:nvSpPr>
          <p:spPr>
            <a:xfrm>
              <a:off x="5095800" y="44719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40160" y="463536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189080" y="5013360"/>
            <a:ext cx="395280" cy="342360"/>
            <a:chOff x="1189080" y="5013360"/>
            <a:chExt cx="395280" cy="342360"/>
          </a:xfrm>
        </p:grpSpPr>
        <p:sp>
          <p:nvSpPr>
            <p:cNvPr id="310" name=""/>
            <p:cNvSpPr/>
            <p:nvPr/>
          </p:nvSpPr>
          <p:spPr>
            <a:xfrm>
              <a:off x="1189080" y="5013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333440" y="517644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5400000">
            <a:off x="1680840" y="547668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680840" y="605304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1695240" y="644832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162920" y="6138720"/>
            <a:ext cx="395280" cy="250920"/>
            <a:chOff x="7162920" y="6138720"/>
            <a:chExt cx="395280" cy="250920"/>
          </a:xfrm>
        </p:grpSpPr>
        <p:sp>
          <p:nvSpPr>
            <p:cNvPr id="316" name=""/>
            <p:cNvSpPr/>
            <p:nvPr/>
          </p:nvSpPr>
          <p:spPr>
            <a:xfrm>
              <a:off x="7216920" y="615312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62920" y="613872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rot="16200000">
            <a:off x="6721200" y="626868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94320" y="6129360"/>
            <a:ext cx="395280" cy="342360"/>
            <a:chOff x="6394320" y="6129360"/>
            <a:chExt cx="395280" cy="342360"/>
          </a:xfrm>
        </p:grpSpPr>
        <p:sp>
          <p:nvSpPr>
            <p:cNvPr id="320" name=""/>
            <p:cNvSpPr/>
            <p:nvPr/>
          </p:nvSpPr>
          <p:spPr>
            <a:xfrm>
              <a:off x="6394320" y="6129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538680" y="629244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973920" y="595152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IAL N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32720" y="5194440"/>
            <a:ext cx="10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D.  RECOR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149960" y="5662440"/>
            <a:ext cx="395280" cy="250920"/>
            <a:chOff x="7149960" y="5662440"/>
            <a:chExt cx="395280" cy="250920"/>
          </a:xfrm>
        </p:grpSpPr>
        <p:sp>
          <p:nvSpPr>
            <p:cNvPr id="325" name=""/>
            <p:cNvSpPr/>
            <p:nvPr/>
          </p:nvSpPr>
          <p:spPr>
            <a:xfrm>
              <a:off x="7203960" y="567684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49960" y="566244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148520" y="5373720"/>
            <a:ext cx="395280" cy="250920"/>
            <a:chOff x="7148520" y="5373720"/>
            <a:chExt cx="395280" cy="250920"/>
          </a:xfrm>
        </p:grpSpPr>
        <p:sp>
          <p:nvSpPr>
            <p:cNvPr id="328" name=""/>
            <p:cNvSpPr/>
            <p:nvPr/>
          </p:nvSpPr>
          <p:spPr>
            <a:xfrm>
              <a:off x="7202520" y="538812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48520" y="537372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92880" y="5373720"/>
            <a:ext cx="395280" cy="342360"/>
            <a:chOff x="6392880" y="5373720"/>
            <a:chExt cx="395280" cy="342360"/>
          </a:xfrm>
        </p:grpSpPr>
        <p:sp>
          <p:nvSpPr>
            <p:cNvPr id="331" name=""/>
            <p:cNvSpPr/>
            <p:nvPr/>
          </p:nvSpPr>
          <p:spPr>
            <a:xfrm>
              <a:off x="6392880" y="53737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37240" y="55368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 flipV="1">
            <a:off x="6248520" y="5624280"/>
            <a:ext cx="96840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6700680" y="550008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97600" y="6326280"/>
            <a:ext cx="395280" cy="342360"/>
            <a:chOff x="5097600" y="6326280"/>
            <a:chExt cx="395280" cy="342360"/>
          </a:xfrm>
        </p:grpSpPr>
        <p:sp>
          <p:nvSpPr>
            <p:cNvPr id="336" name=""/>
            <p:cNvSpPr/>
            <p:nvPr/>
          </p:nvSpPr>
          <p:spPr>
            <a:xfrm>
              <a:off x="5097600" y="632628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41960" y="648936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775560" y="398520"/>
            <a:ext cx="2206440" cy="33480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75560" y="506520"/>
            <a:ext cx="2206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8958240" y="549360"/>
            <a:ext cx="45864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5560" y="614520"/>
            <a:ext cx="2206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84880" y="557280"/>
            <a:ext cx="539640" cy="7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89840" y="18900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899560" y="584280"/>
            <a:ext cx="8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357960" y="277920"/>
            <a:ext cx="395280" cy="342360"/>
            <a:chOff x="6357960" y="277920"/>
            <a:chExt cx="395280" cy="342360"/>
          </a:xfrm>
        </p:grpSpPr>
        <p:sp>
          <p:nvSpPr>
            <p:cNvPr id="346" name=""/>
            <p:cNvSpPr/>
            <p:nvPr/>
          </p:nvSpPr>
          <p:spPr>
            <a:xfrm>
              <a:off x="6357960" y="2779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502320" y="4410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8211960" y="5013360"/>
            <a:ext cx="78120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04040" y="5950080"/>
            <a:ext cx="68436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44560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64252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5192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13920" y="555300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848520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48520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8290080" y="483408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848484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867996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848484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867996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8290080" y="44370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59680" y="5913360"/>
            <a:ext cx="8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45240" y="4624560"/>
            <a:ext cx="9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96600" y="422100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3620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887544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887544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0" y="5049720"/>
            <a:ext cx="6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284520" y="195264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505640" y="3897360"/>
            <a:ext cx="65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351640" y="389736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840880" y="30686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8169480" y="3226320"/>
            <a:ext cx="1222560" cy="33516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284520" y="3249720"/>
            <a:ext cx="2328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24880" y="5192640"/>
            <a:ext cx="48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8169840" y="1786680"/>
            <a:ext cx="1222200" cy="33516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7666920" y="3091680"/>
            <a:ext cx="955440" cy="334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533360" y="1785240"/>
            <a:ext cx="1222560" cy="334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840880" y="173196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8196120" y="3790440"/>
            <a:ext cx="10980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48520" y="376092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24880" y="38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9640" y="39211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35040" y="25290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913960" y="4400640"/>
            <a:ext cx="8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81960" y="836640"/>
            <a:ext cx="133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BAS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84960" y="82872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12040" y="1001880"/>
            <a:ext cx="46656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76960" y="101592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6757920" y="86796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08880" y="1052280"/>
            <a:ext cx="258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284520" y="4292640"/>
            <a:ext cx="490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284520" y="4724280"/>
            <a:ext cx="490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321600" y="4022640"/>
            <a:ext cx="395280" cy="343080"/>
            <a:chOff x="6321600" y="4022640"/>
            <a:chExt cx="395280" cy="343080"/>
          </a:xfrm>
        </p:grpSpPr>
        <p:sp>
          <p:nvSpPr>
            <p:cNvPr id="395" name=""/>
            <p:cNvSpPr/>
            <p:nvPr/>
          </p:nvSpPr>
          <p:spPr>
            <a:xfrm>
              <a:off x="6321600" y="4022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65960" y="4186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321600" y="4473720"/>
            <a:ext cx="395280" cy="342360"/>
            <a:chOff x="6321600" y="4473720"/>
            <a:chExt cx="395280" cy="342360"/>
          </a:xfrm>
        </p:grpSpPr>
        <p:sp>
          <p:nvSpPr>
            <p:cNvPr id="398" name=""/>
            <p:cNvSpPr/>
            <p:nvPr/>
          </p:nvSpPr>
          <p:spPr>
            <a:xfrm>
              <a:off x="6321600" y="44737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465960" y="46368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708240" y="4149720"/>
            <a:ext cx="72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x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75480" y="6380280"/>
            <a:ext cx="227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33cc"/>
                </a:solidFill>
                <a:uFillTx/>
                <a:latin typeface="Arial"/>
              </a:rPr>
              <a:t>ATLAS-SCT  DAVE-1 VME Board </a:t>
            </a:r>
            <a:r>
              <a:rPr b="1" i="1" lang="en-US" sz="1000" spc="-1" strike="noStrike">
                <a:solidFill>
                  <a:srgbClr val="0033cc"/>
                </a:solidFill>
                <a:latin typeface="Arial"/>
              </a:rPr>
              <a:t>MP,  18 February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cp:lastPrinted>2010-06-17T14:45:37Z</cp:lastPrinted>
  <dcterms:modified xsi:type="dcterms:W3CDTF">2011-02-18T19:57:08Z</dcterms:modified>
  <cp:revision>28</cp:revision>
  <dc:subject/>
  <dc:title>Slide 1</dc:title>
</cp:coreProperties>
</file>