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746875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AB7C-7E31-438F-A13A-373188675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AF0C-DE9E-4707-97C6-CC26D505E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994C-C392-4C46-8710-AC2C8764A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C9E0-D533-43F1-8426-E88D580DE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7A50-EE68-4CA4-8BFA-009223C2A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BDF1-3590-4555-AA84-9D6D67A5D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7EF3-116D-4F1C-AC54-E01F96213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F267-F08B-405B-9B6D-122B5466C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D410-16D5-4DDB-98A3-D04838078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209E-2100-4126-A69E-0FABD2E33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422D-A1D5-46A1-9BF3-264F81722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557F-EE7C-4E88-AACD-25003AD6B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FB5E2-B04F-4BD3-8D43-B7D2EADD17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085240" y="4545000"/>
            <a:ext cx="0" cy="1368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79360" y="181080"/>
            <a:ext cx="858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3x LE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114560" y="2182680"/>
            <a:ext cx="541080" cy="6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NI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EC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382680" y="425520"/>
            <a:ext cx="590400" cy="179280"/>
            <a:chOff x="382680" y="425520"/>
            <a:chExt cx="590400" cy="179280"/>
          </a:xfrm>
        </p:grpSpPr>
        <p:grpSp>
          <p:nvGrpSpPr>
            <p:cNvPr id="45" name=""/>
            <p:cNvGrpSpPr/>
            <p:nvPr/>
          </p:nvGrpSpPr>
          <p:grpSpPr>
            <a:xfrm>
              <a:off x="382680" y="425520"/>
              <a:ext cx="393480" cy="179280"/>
              <a:chOff x="382680" y="425520"/>
              <a:chExt cx="393480" cy="179280"/>
            </a:xfrm>
          </p:grpSpPr>
          <p:sp>
            <p:nvSpPr>
              <p:cNvPr id="46" name=""/>
              <p:cNvSpPr/>
              <p:nvPr/>
            </p:nvSpPr>
            <p:spPr>
              <a:xfrm>
                <a:off x="382680" y="425520"/>
                <a:ext cx="196560" cy="179280"/>
              </a:xfrm>
              <a:prstGeom prst="flowChartSummingJunction">
                <a:avLst/>
              </a:prstGeom>
              <a:solidFill>
                <a:srgbClr val="00cc66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579240" y="425520"/>
                <a:ext cx="196920" cy="179280"/>
              </a:xfrm>
              <a:prstGeom prst="flowChartSummingJunction">
                <a:avLst/>
              </a:prstGeom>
              <a:solidFill>
                <a:srgbClr val="ff99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" name=""/>
            <p:cNvSpPr/>
            <p:nvPr/>
          </p:nvSpPr>
          <p:spPr>
            <a:xfrm>
              <a:off x="776160" y="425520"/>
              <a:ext cx="196920" cy="179280"/>
            </a:xfrm>
            <a:prstGeom prst="flowChartSummingJunction">
              <a:avLst/>
            </a:prstGeom>
            <a:solidFill>
              <a:srgbClr val="ff00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382680" y="801720"/>
            <a:ext cx="590400" cy="179280"/>
            <a:chOff x="382680" y="801720"/>
            <a:chExt cx="590400" cy="179280"/>
          </a:xfrm>
        </p:grpSpPr>
        <p:grpSp>
          <p:nvGrpSpPr>
            <p:cNvPr id="50" name=""/>
            <p:cNvGrpSpPr/>
            <p:nvPr/>
          </p:nvGrpSpPr>
          <p:grpSpPr>
            <a:xfrm>
              <a:off x="382680" y="801720"/>
              <a:ext cx="393480" cy="179280"/>
              <a:chOff x="382680" y="801720"/>
              <a:chExt cx="393480" cy="179280"/>
            </a:xfrm>
          </p:grpSpPr>
          <p:sp>
            <p:nvSpPr>
              <p:cNvPr id="51" name=""/>
              <p:cNvSpPr/>
              <p:nvPr/>
            </p:nvSpPr>
            <p:spPr>
              <a:xfrm>
                <a:off x="382680" y="801720"/>
                <a:ext cx="196560" cy="179280"/>
              </a:xfrm>
              <a:prstGeom prst="flowChartSummingJunction">
                <a:avLst/>
              </a:prstGeom>
              <a:solidFill>
                <a:srgbClr val="00cc66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579240" y="801720"/>
                <a:ext cx="196920" cy="179280"/>
              </a:xfrm>
              <a:prstGeom prst="flowChartSummingJunction">
                <a:avLst/>
              </a:prstGeom>
              <a:solidFill>
                <a:srgbClr val="ff99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" name=""/>
            <p:cNvSpPr/>
            <p:nvPr/>
          </p:nvSpPr>
          <p:spPr>
            <a:xfrm>
              <a:off x="776160" y="801720"/>
              <a:ext cx="196920" cy="179280"/>
            </a:xfrm>
            <a:prstGeom prst="flowChartSummingJunction">
              <a:avLst/>
            </a:prstGeom>
            <a:solidFill>
              <a:srgbClr val="ff00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382680" y="981000"/>
            <a:ext cx="590400" cy="179640"/>
            <a:chOff x="382680" y="981000"/>
            <a:chExt cx="590400" cy="179640"/>
          </a:xfrm>
        </p:grpSpPr>
        <p:grpSp>
          <p:nvGrpSpPr>
            <p:cNvPr id="55" name=""/>
            <p:cNvGrpSpPr/>
            <p:nvPr/>
          </p:nvGrpSpPr>
          <p:grpSpPr>
            <a:xfrm>
              <a:off x="382680" y="981000"/>
              <a:ext cx="393480" cy="179640"/>
              <a:chOff x="382680" y="981000"/>
              <a:chExt cx="393480" cy="179640"/>
            </a:xfrm>
          </p:grpSpPr>
          <p:sp>
            <p:nvSpPr>
              <p:cNvPr id="56" name=""/>
              <p:cNvSpPr/>
              <p:nvPr/>
            </p:nvSpPr>
            <p:spPr>
              <a:xfrm>
                <a:off x="382680" y="981000"/>
                <a:ext cx="196560" cy="179640"/>
              </a:xfrm>
              <a:prstGeom prst="flowChartSummingJunction">
                <a:avLst/>
              </a:prstGeom>
              <a:solidFill>
                <a:srgbClr val="00cc66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579240" y="981000"/>
                <a:ext cx="196920" cy="179640"/>
              </a:xfrm>
              <a:prstGeom prst="flowChartSummingJunction">
                <a:avLst/>
              </a:prstGeom>
              <a:solidFill>
                <a:srgbClr val="ff99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776160" y="981000"/>
              <a:ext cx="196920" cy="179640"/>
            </a:xfrm>
            <a:prstGeom prst="flowChartSummingJunction">
              <a:avLst/>
            </a:prstGeom>
            <a:solidFill>
              <a:srgbClr val="ff00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82680" y="1162080"/>
            <a:ext cx="590400" cy="179280"/>
            <a:chOff x="382680" y="1162080"/>
            <a:chExt cx="590400" cy="179280"/>
          </a:xfrm>
        </p:grpSpPr>
        <p:grpSp>
          <p:nvGrpSpPr>
            <p:cNvPr id="60" name=""/>
            <p:cNvGrpSpPr/>
            <p:nvPr/>
          </p:nvGrpSpPr>
          <p:grpSpPr>
            <a:xfrm>
              <a:off x="382680" y="1162080"/>
              <a:ext cx="393480" cy="179280"/>
              <a:chOff x="382680" y="1162080"/>
              <a:chExt cx="393480" cy="179280"/>
            </a:xfrm>
          </p:grpSpPr>
          <p:sp>
            <p:nvSpPr>
              <p:cNvPr id="61" name=""/>
              <p:cNvSpPr/>
              <p:nvPr/>
            </p:nvSpPr>
            <p:spPr>
              <a:xfrm>
                <a:off x="382680" y="1162080"/>
                <a:ext cx="196560" cy="179280"/>
              </a:xfrm>
              <a:prstGeom prst="flowChartSummingJunction">
                <a:avLst/>
              </a:prstGeom>
              <a:solidFill>
                <a:srgbClr val="00cc66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9240" y="1162080"/>
                <a:ext cx="196920" cy="179280"/>
              </a:xfrm>
              <a:prstGeom prst="flowChartSummingJunction">
                <a:avLst/>
              </a:prstGeom>
              <a:solidFill>
                <a:srgbClr val="ff99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" name=""/>
            <p:cNvSpPr/>
            <p:nvPr/>
          </p:nvSpPr>
          <p:spPr>
            <a:xfrm>
              <a:off x="776160" y="1162080"/>
              <a:ext cx="196920" cy="179280"/>
            </a:xfrm>
            <a:prstGeom prst="flowChartSummingJunction">
              <a:avLst/>
            </a:prstGeom>
            <a:solidFill>
              <a:srgbClr val="ff00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382680" y="1341360"/>
            <a:ext cx="590400" cy="179640"/>
            <a:chOff x="382680" y="1341360"/>
            <a:chExt cx="590400" cy="179640"/>
          </a:xfrm>
        </p:grpSpPr>
        <p:grpSp>
          <p:nvGrpSpPr>
            <p:cNvPr id="65" name=""/>
            <p:cNvGrpSpPr/>
            <p:nvPr/>
          </p:nvGrpSpPr>
          <p:grpSpPr>
            <a:xfrm>
              <a:off x="382680" y="1341360"/>
              <a:ext cx="393480" cy="179640"/>
              <a:chOff x="382680" y="1341360"/>
              <a:chExt cx="393480" cy="179640"/>
            </a:xfrm>
          </p:grpSpPr>
          <p:sp>
            <p:nvSpPr>
              <p:cNvPr id="66" name=""/>
              <p:cNvSpPr/>
              <p:nvPr/>
            </p:nvSpPr>
            <p:spPr>
              <a:xfrm>
                <a:off x="382680" y="1341360"/>
                <a:ext cx="196560" cy="179640"/>
              </a:xfrm>
              <a:prstGeom prst="flowChartSummingJunction">
                <a:avLst/>
              </a:prstGeom>
              <a:solidFill>
                <a:srgbClr val="00cc66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79240" y="1341360"/>
                <a:ext cx="196920" cy="179640"/>
              </a:xfrm>
              <a:prstGeom prst="flowChartSummingJunction">
                <a:avLst/>
              </a:prstGeom>
              <a:solidFill>
                <a:srgbClr val="ff99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" name=""/>
            <p:cNvSpPr/>
            <p:nvPr/>
          </p:nvSpPr>
          <p:spPr>
            <a:xfrm>
              <a:off x="776160" y="1341360"/>
              <a:ext cx="196920" cy="179640"/>
            </a:xfrm>
            <a:prstGeom prst="flowChartSummingJunction">
              <a:avLst/>
            </a:prstGeom>
            <a:solidFill>
              <a:srgbClr val="ff00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74680" y="584280"/>
            <a:ext cx="858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2x LE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972720" y="225360"/>
            <a:ext cx="705240" cy="379440"/>
            <a:chOff x="972720" y="225360"/>
            <a:chExt cx="705240" cy="379440"/>
          </a:xfrm>
        </p:grpSpPr>
        <p:grpSp>
          <p:nvGrpSpPr>
            <p:cNvPr id="71" name=""/>
            <p:cNvGrpSpPr/>
            <p:nvPr/>
          </p:nvGrpSpPr>
          <p:grpSpPr>
            <a:xfrm>
              <a:off x="972720" y="425520"/>
              <a:ext cx="668520" cy="179280"/>
              <a:chOff x="972720" y="425520"/>
              <a:chExt cx="668520" cy="179280"/>
            </a:xfrm>
          </p:grpSpPr>
          <p:sp>
            <p:nvSpPr>
              <p:cNvPr id="72" name=""/>
              <p:cNvSpPr/>
              <p:nvPr/>
            </p:nvSpPr>
            <p:spPr>
              <a:xfrm flipH="1">
                <a:off x="972720" y="512640"/>
                <a:ext cx="66852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>
                <a:off x="1390680" y="425520"/>
                <a:ext cx="125280" cy="17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" name=""/>
            <p:cNvSpPr/>
            <p:nvPr/>
          </p:nvSpPr>
          <p:spPr>
            <a:xfrm>
              <a:off x="1282680" y="225360"/>
              <a:ext cx="395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957240" y="620640"/>
            <a:ext cx="828720" cy="342720"/>
            <a:chOff x="957240" y="620640"/>
            <a:chExt cx="828720" cy="342720"/>
          </a:xfrm>
        </p:grpSpPr>
        <p:grpSp>
          <p:nvGrpSpPr>
            <p:cNvPr id="76" name=""/>
            <p:cNvGrpSpPr/>
            <p:nvPr/>
          </p:nvGrpSpPr>
          <p:grpSpPr>
            <a:xfrm>
              <a:off x="957240" y="784080"/>
              <a:ext cx="668160" cy="179280"/>
              <a:chOff x="957240" y="784080"/>
              <a:chExt cx="668160" cy="179280"/>
            </a:xfrm>
          </p:grpSpPr>
          <p:sp>
            <p:nvSpPr>
              <p:cNvPr id="77" name=""/>
              <p:cNvSpPr/>
              <p:nvPr/>
            </p:nvSpPr>
            <p:spPr>
              <a:xfrm flipH="1">
                <a:off x="957240" y="871200"/>
                <a:ext cx="66816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1374120" y="784080"/>
                <a:ext cx="124920" cy="17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" name=""/>
            <p:cNvSpPr/>
            <p:nvPr/>
          </p:nvSpPr>
          <p:spPr>
            <a:xfrm>
              <a:off x="1390680" y="620640"/>
              <a:ext cx="395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957240" y="836640"/>
            <a:ext cx="828720" cy="323640"/>
            <a:chOff x="957240" y="836640"/>
            <a:chExt cx="828720" cy="323640"/>
          </a:xfrm>
        </p:grpSpPr>
        <p:grpSp>
          <p:nvGrpSpPr>
            <p:cNvPr id="81" name=""/>
            <p:cNvGrpSpPr/>
            <p:nvPr/>
          </p:nvGrpSpPr>
          <p:grpSpPr>
            <a:xfrm>
              <a:off x="957240" y="981000"/>
              <a:ext cx="668160" cy="179280"/>
              <a:chOff x="957240" y="981000"/>
              <a:chExt cx="668160" cy="179280"/>
            </a:xfrm>
          </p:grpSpPr>
          <p:sp>
            <p:nvSpPr>
              <p:cNvPr id="82" name=""/>
              <p:cNvSpPr/>
              <p:nvPr/>
            </p:nvSpPr>
            <p:spPr>
              <a:xfrm flipH="1">
                <a:off x="957240" y="1068120"/>
                <a:ext cx="66816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>
                <a:off x="1374120" y="981000"/>
                <a:ext cx="124920" cy="17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" name=""/>
            <p:cNvSpPr/>
            <p:nvPr/>
          </p:nvSpPr>
          <p:spPr>
            <a:xfrm>
              <a:off x="1390680" y="836640"/>
              <a:ext cx="395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957240" y="1023840"/>
            <a:ext cx="828720" cy="299880"/>
            <a:chOff x="957240" y="1023840"/>
            <a:chExt cx="828720" cy="299880"/>
          </a:xfrm>
        </p:grpSpPr>
        <p:grpSp>
          <p:nvGrpSpPr>
            <p:cNvPr id="86" name=""/>
            <p:cNvGrpSpPr/>
            <p:nvPr/>
          </p:nvGrpSpPr>
          <p:grpSpPr>
            <a:xfrm>
              <a:off x="957240" y="1144440"/>
              <a:ext cx="668160" cy="179280"/>
              <a:chOff x="957240" y="1144440"/>
              <a:chExt cx="668160" cy="179280"/>
            </a:xfrm>
          </p:grpSpPr>
          <p:sp>
            <p:nvSpPr>
              <p:cNvPr id="87" name=""/>
              <p:cNvSpPr/>
              <p:nvPr/>
            </p:nvSpPr>
            <p:spPr>
              <a:xfrm flipH="1">
                <a:off x="957240" y="1231560"/>
                <a:ext cx="66816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H="1">
                <a:off x="1374120" y="1144440"/>
                <a:ext cx="124920" cy="17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>
              <a:off x="1390680" y="1023840"/>
              <a:ext cx="395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957240" y="1197000"/>
            <a:ext cx="828720" cy="323640"/>
            <a:chOff x="957240" y="1197000"/>
            <a:chExt cx="828720" cy="323640"/>
          </a:xfrm>
        </p:grpSpPr>
        <p:grpSp>
          <p:nvGrpSpPr>
            <p:cNvPr id="91" name=""/>
            <p:cNvGrpSpPr/>
            <p:nvPr/>
          </p:nvGrpSpPr>
          <p:grpSpPr>
            <a:xfrm>
              <a:off x="957240" y="1341360"/>
              <a:ext cx="668160" cy="179280"/>
              <a:chOff x="957240" y="1341360"/>
              <a:chExt cx="668160" cy="179280"/>
            </a:xfrm>
          </p:grpSpPr>
          <p:sp>
            <p:nvSpPr>
              <p:cNvPr id="92" name=""/>
              <p:cNvSpPr/>
              <p:nvPr/>
            </p:nvSpPr>
            <p:spPr>
              <a:xfrm flipH="1">
                <a:off x="957240" y="1428480"/>
                <a:ext cx="66816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>
                <a:off x="1374120" y="1341360"/>
                <a:ext cx="124920" cy="17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" name=""/>
            <p:cNvSpPr/>
            <p:nvPr/>
          </p:nvSpPr>
          <p:spPr>
            <a:xfrm>
              <a:off x="1390680" y="1197000"/>
              <a:ext cx="395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1641600" y="425520"/>
            <a:ext cx="504720" cy="109548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606680" y="692280"/>
            <a:ext cx="61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HIF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G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2146320" y="865080"/>
            <a:ext cx="3743280" cy="648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970680" y="4073400"/>
            <a:ext cx="750960" cy="84780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2433600" y="620640"/>
            <a:ext cx="395280" cy="343080"/>
            <a:chOff x="2433600" y="620640"/>
            <a:chExt cx="395280" cy="343080"/>
          </a:xfrm>
        </p:grpSpPr>
        <p:sp>
          <p:nvSpPr>
            <p:cNvPr id="100" name=""/>
            <p:cNvSpPr/>
            <p:nvPr/>
          </p:nvSpPr>
          <p:spPr>
            <a:xfrm>
              <a:off x="2433600" y="620640"/>
              <a:ext cx="395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2577960" y="784080"/>
              <a:ext cx="108000" cy="17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490680" y="2390760"/>
            <a:ext cx="431640" cy="216000"/>
            <a:chOff x="490680" y="2390760"/>
            <a:chExt cx="431640" cy="216000"/>
          </a:xfrm>
        </p:grpSpPr>
        <p:sp>
          <p:nvSpPr>
            <p:cNvPr id="103" name=""/>
            <p:cNvSpPr/>
            <p:nvPr/>
          </p:nvSpPr>
          <p:spPr>
            <a:xfrm>
              <a:off x="490680" y="2390760"/>
              <a:ext cx="216000" cy="216000"/>
            </a:xfrm>
            <a:prstGeom prst="donut">
              <a:avLst>
                <a:gd name="adj" fmla="val 25000"/>
              </a:avLst>
            </a:prstGeom>
            <a:solidFill>
              <a:srgbClr val="00cc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06680" y="2390760"/>
              <a:ext cx="215640" cy="216000"/>
            </a:xfrm>
            <a:prstGeom prst="donut">
              <a:avLst>
                <a:gd name="adj" fmla="val 25000"/>
              </a:avLst>
            </a:prstGeom>
            <a:solidFill>
              <a:srgbClr val="00cc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490680" y="2678040"/>
            <a:ext cx="431640" cy="216000"/>
            <a:chOff x="490680" y="2678040"/>
            <a:chExt cx="431640" cy="216000"/>
          </a:xfrm>
        </p:grpSpPr>
        <p:sp>
          <p:nvSpPr>
            <p:cNvPr id="106" name=""/>
            <p:cNvSpPr/>
            <p:nvPr/>
          </p:nvSpPr>
          <p:spPr>
            <a:xfrm>
              <a:off x="490680" y="2678040"/>
              <a:ext cx="216000" cy="216000"/>
            </a:xfrm>
            <a:prstGeom prst="donut">
              <a:avLst>
                <a:gd name="adj" fmla="val 25000"/>
              </a:avLst>
            </a:prstGeom>
            <a:solidFill>
              <a:srgbClr val="00cc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06680" y="2678040"/>
              <a:ext cx="215640" cy="216000"/>
            </a:xfrm>
            <a:prstGeom prst="donut">
              <a:avLst>
                <a:gd name="adj" fmla="val 25000"/>
              </a:avLst>
            </a:prstGeom>
            <a:solidFill>
              <a:srgbClr val="00cc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490680" y="2894040"/>
            <a:ext cx="431640" cy="216000"/>
            <a:chOff x="490680" y="2894040"/>
            <a:chExt cx="431640" cy="216000"/>
          </a:xfrm>
        </p:grpSpPr>
        <p:sp>
          <p:nvSpPr>
            <p:cNvPr id="109" name=""/>
            <p:cNvSpPr/>
            <p:nvPr/>
          </p:nvSpPr>
          <p:spPr>
            <a:xfrm>
              <a:off x="490680" y="2894040"/>
              <a:ext cx="216000" cy="216000"/>
            </a:xfrm>
            <a:prstGeom prst="donut">
              <a:avLst>
                <a:gd name="adj" fmla="val 25000"/>
              </a:avLst>
            </a:prstGeom>
            <a:solidFill>
              <a:srgbClr val="00cc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06680" y="2894040"/>
              <a:ext cx="215640" cy="216000"/>
            </a:xfrm>
            <a:prstGeom prst="donut">
              <a:avLst>
                <a:gd name="adj" fmla="val 25000"/>
              </a:avLst>
            </a:prstGeom>
            <a:solidFill>
              <a:srgbClr val="00cc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490680" y="3110040"/>
            <a:ext cx="431640" cy="215640"/>
            <a:chOff x="490680" y="3110040"/>
            <a:chExt cx="431640" cy="215640"/>
          </a:xfrm>
        </p:grpSpPr>
        <p:sp>
          <p:nvSpPr>
            <p:cNvPr id="112" name=""/>
            <p:cNvSpPr/>
            <p:nvPr/>
          </p:nvSpPr>
          <p:spPr>
            <a:xfrm>
              <a:off x="490680" y="3110040"/>
              <a:ext cx="216000" cy="215640"/>
            </a:xfrm>
            <a:prstGeom prst="donut">
              <a:avLst>
                <a:gd name="adj" fmla="val 25000"/>
              </a:avLst>
            </a:prstGeom>
            <a:solidFill>
              <a:srgbClr val="00cc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6680" y="3110040"/>
              <a:ext cx="215640" cy="215640"/>
            </a:xfrm>
            <a:prstGeom prst="donut">
              <a:avLst>
                <a:gd name="adj" fmla="val 25000"/>
              </a:avLst>
            </a:prstGeom>
            <a:solidFill>
              <a:srgbClr val="00cc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490680" y="3325680"/>
            <a:ext cx="431640" cy="216000"/>
            <a:chOff x="490680" y="3325680"/>
            <a:chExt cx="431640" cy="216000"/>
          </a:xfrm>
        </p:grpSpPr>
        <p:sp>
          <p:nvSpPr>
            <p:cNvPr id="115" name=""/>
            <p:cNvSpPr/>
            <p:nvPr/>
          </p:nvSpPr>
          <p:spPr>
            <a:xfrm>
              <a:off x="490680" y="3325680"/>
              <a:ext cx="216000" cy="216000"/>
            </a:xfrm>
            <a:prstGeom prst="donut">
              <a:avLst>
                <a:gd name="adj" fmla="val 25000"/>
              </a:avLst>
            </a:prstGeom>
            <a:solidFill>
              <a:srgbClr val="00cc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6680" y="3325680"/>
              <a:ext cx="215640" cy="216000"/>
            </a:xfrm>
            <a:prstGeom prst="donut">
              <a:avLst>
                <a:gd name="adj" fmla="val 25000"/>
              </a:avLst>
            </a:prstGeom>
            <a:solidFill>
              <a:srgbClr val="00cc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309600" y="2236680"/>
            <a:ext cx="461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CLKIN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47680" y="2709720"/>
            <a:ext cx="314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IN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47680" y="2925720"/>
            <a:ext cx="314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IN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47680" y="3357720"/>
            <a:ext cx="314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IN6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47680" y="3141720"/>
            <a:ext cx="314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IN4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5040" y="2236680"/>
            <a:ext cx="503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CLKIN1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90680" y="3753000"/>
            <a:ext cx="431640" cy="215640"/>
            <a:chOff x="490680" y="3753000"/>
            <a:chExt cx="431640" cy="215640"/>
          </a:xfrm>
        </p:grpSpPr>
        <p:sp>
          <p:nvSpPr>
            <p:cNvPr id="124" name=""/>
            <p:cNvSpPr/>
            <p:nvPr/>
          </p:nvSpPr>
          <p:spPr>
            <a:xfrm>
              <a:off x="490680" y="3753000"/>
              <a:ext cx="216000" cy="215640"/>
            </a:xfrm>
            <a:prstGeom prst="donut">
              <a:avLst>
                <a:gd name="adj" fmla="val 25000"/>
              </a:avLst>
            </a:prstGeom>
            <a:solidFill>
              <a:srgbClr val="00cc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06680" y="3753000"/>
              <a:ext cx="215640" cy="215640"/>
            </a:xfrm>
            <a:prstGeom prst="donut">
              <a:avLst>
                <a:gd name="adj" fmla="val 25000"/>
              </a:avLst>
            </a:prstGeom>
            <a:solidFill>
              <a:srgbClr val="00cc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90680" y="4041720"/>
            <a:ext cx="431640" cy="216000"/>
            <a:chOff x="490680" y="4041720"/>
            <a:chExt cx="431640" cy="216000"/>
          </a:xfrm>
        </p:grpSpPr>
        <p:sp>
          <p:nvSpPr>
            <p:cNvPr id="127" name=""/>
            <p:cNvSpPr/>
            <p:nvPr/>
          </p:nvSpPr>
          <p:spPr>
            <a:xfrm>
              <a:off x="490680" y="4041720"/>
              <a:ext cx="216000" cy="216000"/>
            </a:xfrm>
            <a:prstGeom prst="donut">
              <a:avLst>
                <a:gd name="adj" fmla="val 25000"/>
              </a:avLst>
            </a:prstGeom>
            <a:solidFill>
              <a:srgbClr val="00cc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06680" y="4041720"/>
              <a:ext cx="215640" cy="216000"/>
            </a:xfrm>
            <a:prstGeom prst="donut">
              <a:avLst>
                <a:gd name="adj" fmla="val 25000"/>
              </a:avLst>
            </a:prstGeom>
            <a:solidFill>
              <a:srgbClr val="00cc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90680" y="4257720"/>
            <a:ext cx="431640" cy="216000"/>
            <a:chOff x="490680" y="4257720"/>
            <a:chExt cx="431640" cy="216000"/>
          </a:xfrm>
        </p:grpSpPr>
        <p:sp>
          <p:nvSpPr>
            <p:cNvPr id="130" name=""/>
            <p:cNvSpPr/>
            <p:nvPr/>
          </p:nvSpPr>
          <p:spPr>
            <a:xfrm>
              <a:off x="490680" y="4257720"/>
              <a:ext cx="216000" cy="216000"/>
            </a:xfrm>
            <a:prstGeom prst="donut">
              <a:avLst>
                <a:gd name="adj" fmla="val 25000"/>
              </a:avLst>
            </a:prstGeom>
            <a:solidFill>
              <a:srgbClr val="00cc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06680" y="4257720"/>
              <a:ext cx="215640" cy="216000"/>
            </a:xfrm>
            <a:prstGeom prst="donut">
              <a:avLst>
                <a:gd name="adj" fmla="val 25000"/>
              </a:avLst>
            </a:prstGeom>
            <a:solidFill>
              <a:srgbClr val="00cc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490680" y="4473720"/>
            <a:ext cx="431640" cy="215640"/>
            <a:chOff x="490680" y="4473720"/>
            <a:chExt cx="431640" cy="215640"/>
          </a:xfrm>
        </p:grpSpPr>
        <p:sp>
          <p:nvSpPr>
            <p:cNvPr id="133" name=""/>
            <p:cNvSpPr/>
            <p:nvPr/>
          </p:nvSpPr>
          <p:spPr>
            <a:xfrm>
              <a:off x="490680" y="4473720"/>
              <a:ext cx="216000" cy="215640"/>
            </a:xfrm>
            <a:prstGeom prst="donut">
              <a:avLst>
                <a:gd name="adj" fmla="val 25000"/>
              </a:avLst>
            </a:prstGeom>
            <a:solidFill>
              <a:srgbClr val="00cc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06680" y="4473720"/>
              <a:ext cx="215640" cy="215640"/>
            </a:xfrm>
            <a:prstGeom prst="donut">
              <a:avLst>
                <a:gd name="adj" fmla="val 25000"/>
              </a:avLst>
            </a:prstGeom>
            <a:solidFill>
              <a:srgbClr val="00cc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490680" y="4689360"/>
            <a:ext cx="431640" cy="216000"/>
            <a:chOff x="490680" y="4689360"/>
            <a:chExt cx="431640" cy="216000"/>
          </a:xfrm>
        </p:grpSpPr>
        <p:sp>
          <p:nvSpPr>
            <p:cNvPr id="136" name=""/>
            <p:cNvSpPr/>
            <p:nvPr/>
          </p:nvSpPr>
          <p:spPr>
            <a:xfrm>
              <a:off x="490680" y="4689360"/>
              <a:ext cx="216000" cy="216000"/>
            </a:xfrm>
            <a:prstGeom prst="donut">
              <a:avLst>
                <a:gd name="adj" fmla="val 25000"/>
              </a:avLst>
            </a:prstGeom>
            <a:solidFill>
              <a:srgbClr val="00cc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06680" y="4689360"/>
              <a:ext cx="215640" cy="216000"/>
            </a:xfrm>
            <a:prstGeom prst="donut">
              <a:avLst>
                <a:gd name="adj" fmla="val 25000"/>
              </a:avLst>
            </a:prstGeom>
            <a:solidFill>
              <a:srgbClr val="00cc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201600" y="3605040"/>
            <a:ext cx="601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CLKOUT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30320" y="4073400"/>
            <a:ext cx="422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OUT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8400" y="4289400"/>
            <a:ext cx="529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OUT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30320" y="4721400"/>
            <a:ext cx="422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OUT6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30320" y="4505400"/>
            <a:ext cx="422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OUT4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98320" y="3605040"/>
            <a:ext cx="611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CLKOUT1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490680" y="1592280"/>
            <a:ext cx="395280" cy="250920"/>
            <a:chOff x="490680" y="1592280"/>
            <a:chExt cx="395280" cy="250920"/>
          </a:xfrm>
        </p:grpSpPr>
        <p:sp>
          <p:nvSpPr>
            <p:cNvPr id="145" name=""/>
            <p:cNvSpPr/>
            <p:nvPr/>
          </p:nvSpPr>
          <p:spPr>
            <a:xfrm>
              <a:off x="544680" y="1606680"/>
              <a:ext cx="301320" cy="236520"/>
            </a:xfrm>
            <a:prstGeom prst="rect">
              <a:avLst/>
            </a:prstGeom>
            <a:solidFill>
              <a:srgbClr val="00cc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0680" y="1592280"/>
              <a:ext cx="395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SW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490680" y="1916280"/>
            <a:ext cx="395280" cy="250200"/>
            <a:chOff x="490680" y="1916280"/>
            <a:chExt cx="395280" cy="250200"/>
          </a:xfrm>
        </p:grpSpPr>
        <p:sp>
          <p:nvSpPr>
            <p:cNvPr id="148" name=""/>
            <p:cNvSpPr/>
            <p:nvPr/>
          </p:nvSpPr>
          <p:spPr>
            <a:xfrm>
              <a:off x="544680" y="1930320"/>
              <a:ext cx="301320" cy="236160"/>
            </a:xfrm>
            <a:prstGeom prst="rect">
              <a:avLst/>
            </a:prstGeom>
            <a:solidFill>
              <a:srgbClr val="00cc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90680" y="1916280"/>
              <a:ext cx="395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SW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7380360" y="6418440"/>
            <a:ext cx="395280" cy="250200"/>
            <a:chOff x="7380360" y="6418440"/>
            <a:chExt cx="395280" cy="250200"/>
          </a:xfrm>
        </p:grpSpPr>
        <p:sp>
          <p:nvSpPr>
            <p:cNvPr id="151" name=""/>
            <p:cNvSpPr/>
            <p:nvPr/>
          </p:nvSpPr>
          <p:spPr>
            <a:xfrm>
              <a:off x="7434360" y="6432480"/>
              <a:ext cx="301320" cy="236160"/>
            </a:xfrm>
            <a:prstGeom prst="rect">
              <a:avLst/>
            </a:prstGeom>
            <a:solidFill>
              <a:srgbClr val="00cc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380360" y="6418440"/>
              <a:ext cx="395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SW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"/>
          <p:cNvSpPr/>
          <p:nvPr/>
        </p:nvSpPr>
        <p:spPr>
          <a:xfrm rot="5400000">
            <a:off x="1230840" y="2301120"/>
            <a:ext cx="190440" cy="16020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rot="5400000">
            <a:off x="1230120" y="2498400"/>
            <a:ext cx="189000" cy="160560"/>
          </a:xfrm>
          <a:prstGeom prst="triangle">
            <a:avLst>
              <a:gd name="adj" fmla="val 50000"/>
            </a:avLst>
          </a:prstGeom>
          <a:solidFill>
            <a:srgbClr val="eeb0c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1193760" y="2359080"/>
            <a:ext cx="0" cy="241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193760" y="2355840"/>
            <a:ext cx="651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190520" y="2592360"/>
            <a:ext cx="68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457280" y="2375640"/>
            <a:ext cx="0" cy="195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1458720" y="2463840"/>
            <a:ext cx="974520" cy="15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1383840" y="2575080"/>
            <a:ext cx="7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1385640" y="2384280"/>
            <a:ext cx="73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447920" y="2463840"/>
            <a:ext cx="27000" cy="2376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174680" y="2463840"/>
            <a:ext cx="27000" cy="2376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1568160" y="3860640"/>
            <a:ext cx="865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5400000">
            <a:off x="1230840" y="2939400"/>
            <a:ext cx="190440" cy="16020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rot="5400000">
            <a:off x="1230120" y="3136680"/>
            <a:ext cx="189000" cy="160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1193760" y="2997360"/>
            <a:ext cx="0" cy="241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193760" y="2994120"/>
            <a:ext cx="651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190520" y="3230640"/>
            <a:ext cx="68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457280" y="3014640"/>
            <a:ext cx="0" cy="195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1459080" y="3110040"/>
            <a:ext cx="1226880" cy="7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1383840" y="3213000"/>
            <a:ext cx="7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1385640" y="3022560"/>
            <a:ext cx="73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447920" y="3102120"/>
            <a:ext cx="27000" cy="2376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174680" y="3102120"/>
            <a:ext cx="27000" cy="2376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rot="16200000">
            <a:off x="1323000" y="3867840"/>
            <a:ext cx="190800" cy="160560"/>
          </a:xfrm>
          <a:prstGeom prst="triangle">
            <a:avLst>
              <a:gd name="adj" fmla="val 50000"/>
            </a:avLst>
          </a:prstGeom>
          <a:solidFill>
            <a:srgbClr val="eeb0c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rot="16200000">
            <a:off x="1323000" y="3668760"/>
            <a:ext cx="190440" cy="16056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547640" y="3726000"/>
            <a:ext cx="0" cy="24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1483920" y="3973680"/>
            <a:ext cx="651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484280" y="3736800"/>
            <a:ext cx="68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1284120" y="3754440"/>
            <a:ext cx="0" cy="195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922320" y="3851280"/>
            <a:ext cx="3477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287360" y="3753000"/>
            <a:ext cx="7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282680" y="3944880"/>
            <a:ext cx="73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rot="10800000">
            <a:off x="1267920" y="3838680"/>
            <a:ext cx="27000" cy="2376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rot="10800000">
            <a:off x="1541160" y="3838680"/>
            <a:ext cx="27000" cy="2376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rot="16200000">
            <a:off x="1323000" y="4478400"/>
            <a:ext cx="190440" cy="160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rot="16200000">
            <a:off x="1324800" y="4280400"/>
            <a:ext cx="190440" cy="16020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549440" y="4336200"/>
            <a:ext cx="0" cy="243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486080" y="4584600"/>
            <a:ext cx="64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1485720" y="4348080"/>
            <a:ext cx="680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1285920" y="4365720"/>
            <a:ext cx="0" cy="195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885960" y="4459320"/>
            <a:ext cx="401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89160" y="4363920"/>
            <a:ext cx="7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284120" y="4556160"/>
            <a:ext cx="73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rot="10800000">
            <a:off x="1269720" y="4449240"/>
            <a:ext cx="27000" cy="2412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rot="10800000">
            <a:off x="1542600" y="4449240"/>
            <a:ext cx="27000" cy="2412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1577880" y="4473720"/>
            <a:ext cx="641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921960" y="2487600"/>
            <a:ext cx="2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H="1" flipV="1">
            <a:off x="845640" y="3101760"/>
            <a:ext cx="328680" cy="4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1030320" y="2397240"/>
            <a:ext cx="108000" cy="179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1554120" y="2386080"/>
            <a:ext cx="108000" cy="179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1030320" y="3011400"/>
            <a:ext cx="108000" cy="179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1541520" y="3035160"/>
            <a:ext cx="108000" cy="179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01600" y="3753000"/>
            <a:ext cx="108000" cy="179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1641600" y="3789360"/>
            <a:ext cx="108000" cy="179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1101600" y="4365720"/>
            <a:ext cx="108000" cy="179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1641600" y="4402080"/>
            <a:ext cx="108000" cy="179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461960" y="2241720"/>
            <a:ext cx="23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957240" y="2247840"/>
            <a:ext cx="23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447920" y="2889360"/>
            <a:ext cx="23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938160" y="2889360"/>
            <a:ext cx="23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549440" y="3630600"/>
            <a:ext cx="23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008000" y="3608280"/>
            <a:ext cx="23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549440" y="4229280"/>
            <a:ext cx="23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009800" y="4221000"/>
            <a:ext cx="23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14560" y="3551400"/>
            <a:ext cx="541080" cy="6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NI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EC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H="1" flipV="1">
            <a:off x="7041960" y="6391080"/>
            <a:ext cx="392040" cy="468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120680" y="4156200"/>
            <a:ext cx="541440" cy="6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NI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TT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2649600" y="2241720"/>
            <a:ext cx="3240000" cy="1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100160" y="2816280"/>
            <a:ext cx="541440" cy="6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NI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TT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55760" y="6021360"/>
            <a:ext cx="466560" cy="368280"/>
          </a:xfrm>
          <a:prstGeom prst="rect">
            <a:avLst/>
          </a:prstGeom>
          <a:solidFill>
            <a:srgbClr val="00cc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554040" y="6116400"/>
            <a:ext cx="260280" cy="191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922320" y="6200640"/>
            <a:ext cx="496728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66680" y="5843520"/>
            <a:ext cx="1084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EX SEL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1120" y="5172120"/>
            <a:ext cx="619200" cy="204840"/>
          </a:xfrm>
          <a:prstGeom prst="rect">
            <a:avLst/>
          </a:prstGeom>
          <a:solidFill>
            <a:srgbClr val="00cc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-50760" y="4978440"/>
            <a:ext cx="1547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6-pin AUX. CONNECTO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279360" y="6497640"/>
            <a:ext cx="787320" cy="246240"/>
            <a:chOff x="279360" y="6497640"/>
            <a:chExt cx="787320" cy="246240"/>
          </a:xfrm>
        </p:grpSpPr>
        <p:sp>
          <p:nvSpPr>
            <p:cNvPr id="229" name=""/>
            <p:cNvSpPr/>
            <p:nvPr/>
          </p:nvSpPr>
          <p:spPr>
            <a:xfrm>
              <a:off x="380880" y="6510240"/>
              <a:ext cx="619200" cy="204840"/>
            </a:xfrm>
            <a:prstGeom prst="rect">
              <a:avLst/>
            </a:prstGeom>
            <a:solidFill>
              <a:srgbClr val="00cc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79360" y="6497640"/>
              <a:ext cx="787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USB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411120" y="5529240"/>
            <a:ext cx="619200" cy="204840"/>
          </a:xfrm>
          <a:prstGeom prst="rect">
            <a:avLst/>
          </a:prstGeom>
          <a:solidFill>
            <a:srgbClr val="00cc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-TA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993600" y="6597720"/>
            <a:ext cx="4896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030320" y="5624640"/>
            <a:ext cx="485928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846000" y="1720800"/>
            <a:ext cx="50738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H="1" flipV="1">
            <a:off x="846000" y="2060640"/>
            <a:ext cx="5043600" cy="7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030320" y="5265720"/>
            <a:ext cx="485928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3296880" y="3753000"/>
            <a:ext cx="25923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118040" y="2708280"/>
            <a:ext cx="0" cy="307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979800" y="2822400"/>
            <a:ext cx="138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rot="16200000">
            <a:off x="3331440" y="2656440"/>
            <a:ext cx="888840" cy="407880"/>
          </a:xfrm>
          <a:custGeom>
            <a:avLst/>
            <a:gdLst>
              <a:gd name="textAreaLeft" fmla="*/ 195480 w 888840"/>
              <a:gd name="textAreaRight" fmla="*/ 693360 w 888840"/>
              <a:gd name="textAreaTop" fmla="*/ 89640 h 407880"/>
              <a:gd name="textAreaBottom" fmla="*/ 318240 h 407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973240" y="3897360"/>
            <a:ext cx="465120" cy="3682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900520" y="3500280"/>
            <a:ext cx="336240" cy="27324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3220560" y="3033720"/>
            <a:ext cx="351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H="1" flipV="1">
            <a:off x="3215880" y="2349360"/>
            <a:ext cx="4680" cy="841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081240" y="3773520"/>
            <a:ext cx="0" cy="123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556000" y="3890880"/>
            <a:ext cx="12808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-T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80.15733MH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216240" y="2602080"/>
            <a:ext cx="1090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P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216240" y="2349360"/>
            <a:ext cx="2673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189240" y="2995560"/>
            <a:ext cx="42840" cy="7308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973240" y="3141720"/>
            <a:ext cx="505080" cy="26820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081240" y="3413160"/>
            <a:ext cx="0" cy="87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297240" y="3414600"/>
            <a:ext cx="0" cy="474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865600" y="3544920"/>
            <a:ext cx="43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813040" y="3114720"/>
            <a:ext cx="80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40/80MHz sel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2314800" y="2323080"/>
            <a:ext cx="504720" cy="26820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274920" y="3716280"/>
            <a:ext cx="42840" cy="7308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678040" y="3130560"/>
            <a:ext cx="0" cy="1425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2687760" y="2584440"/>
            <a:ext cx="898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118040" y="2706840"/>
            <a:ext cx="1238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53040" y="2604960"/>
            <a:ext cx="636480" cy="19224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4429080" y="2457360"/>
            <a:ext cx="273240" cy="400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127400" y="2995560"/>
            <a:ext cx="17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909960" y="2817720"/>
            <a:ext cx="144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LK Master DEL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095720" y="2784600"/>
            <a:ext cx="60480" cy="8712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4889520" y="2637000"/>
            <a:ext cx="100008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433600" y="3860640"/>
            <a:ext cx="0" cy="92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2219400" y="4464000"/>
            <a:ext cx="1440" cy="50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2677680" y="4545000"/>
            <a:ext cx="3211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2432160" y="4754520"/>
            <a:ext cx="3457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2219040" y="4968360"/>
            <a:ext cx="3670200" cy="9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118040" y="3139920"/>
            <a:ext cx="1238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253040" y="3057480"/>
            <a:ext cx="636480" cy="19224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4429080" y="2973240"/>
            <a:ext cx="185760" cy="331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125960" y="3429000"/>
            <a:ext cx="17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909960" y="3251160"/>
            <a:ext cx="144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4x Slave DELAY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4889520" y="3068640"/>
            <a:ext cx="100008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118040" y="3141720"/>
            <a:ext cx="0" cy="287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897440" y="2744640"/>
            <a:ext cx="993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883040" y="3198960"/>
            <a:ext cx="9939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243400" y="3251160"/>
            <a:ext cx="3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226120" y="3033720"/>
            <a:ext cx="3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5422680" y="3139920"/>
            <a:ext cx="88920" cy="108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5423040" y="3321000"/>
            <a:ext cx="12528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429080" y="3036960"/>
            <a:ext cx="3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38480" y="2679840"/>
            <a:ext cx="66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LKIN sel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835600" y="398520"/>
            <a:ext cx="701640" cy="6307200"/>
          </a:xfrm>
          <a:prstGeom prst="rect">
            <a:avLst/>
          </a:prstGeom>
          <a:solidFill>
            <a:srgbClr val="8299fa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835600" y="1015920"/>
            <a:ext cx="63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PGA &amp; P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5440320" y="620640"/>
            <a:ext cx="395280" cy="343080"/>
            <a:chOff x="5440320" y="620640"/>
            <a:chExt cx="395280" cy="343080"/>
          </a:xfrm>
        </p:grpSpPr>
        <p:sp>
          <p:nvSpPr>
            <p:cNvPr id="289" name=""/>
            <p:cNvSpPr/>
            <p:nvPr/>
          </p:nvSpPr>
          <p:spPr>
            <a:xfrm>
              <a:off x="5440320" y="620640"/>
              <a:ext cx="395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5584680" y="784080"/>
              <a:ext cx="108000" cy="17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5133960" y="4292640"/>
            <a:ext cx="395280" cy="342360"/>
            <a:chOff x="5133960" y="4292640"/>
            <a:chExt cx="395280" cy="342360"/>
          </a:xfrm>
        </p:grpSpPr>
        <p:sp>
          <p:nvSpPr>
            <p:cNvPr id="292" name=""/>
            <p:cNvSpPr/>
            <p:nvPr/>
          </p:nvSpPr>
          <p:spPr>
            <a:xfrm>
              <a:off x="5133960" y="4292640"/>
              <a:ext cx="395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5278320" y="4455720"/>
              <a:ext cx="108000" cy="17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1257480" y="5950080"/>
            <a:ext cx="395280" cy="342360"/>
            <a:chOff x="1257480" y="5950080"/>
            <a:chExt cx="395280" cy="342360"/>
          </a:xfrm>
        </p:grpSpPr>
        <p:sp>
          <p:nvSpPr>
            <p:cNvPr id="295" name=""/>
            <p:cNvSpPr/>
            <p:nvPr/>
          </p:nvSpPr>
          <p:spPr>
            <a:xfrm>
              <a:off x="1257480" y="5950080"/>
              <a:ext cx="395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1401840" y="6113160"/>
              <a:ext cx="108000" cy="17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" name=""/>
          <p:cNvGrpSpPr/>
          <p:nvPr/>
        </p:nvGrpSpPr>
        <p:grpSpPr>
          <a:xfrm>
            <a:off x="5135400" y="4741920"/>
            <a:ext cx="395280" cy="342360"/>
            <a:chOff x="5135400" y="4741920"/>
            <a:chExt cx="395280" cy="342360"/>
          </a:xfrm>
        </p:grpSpPr>
        <p:sp>
          <p:nvSpPr>
            <p:cNvPr id="298" name=""/>
            <p:cNvSpPr/>
            <p:nvPr/>
          </p:nvSpPr>
          <p:spPr>
            <a:xfrm>
              <a:off x="5135400" y="4741920"/>
              <a:ext cx="395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5279760" y="4905000"/>
              <a:ext cx="108000" cy="17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5313240" y="5013360"/>
            <a:ext cx="395280" cy="342360"/>
            <a:chOff x="5313240" y="5013360"/>
            <a:chExt cx="395280" cy="342360"/>
          </a:xfrm>
        </p:grpSpPr>
        <p:sp>
          <p:nvSpPr>
            <p:cNvPr id="301" name=""/>
            <p:cNvSpPr/>
            <p:nvPr/>
          </p:nvSpPr>
          <p:spPr>
            <a:xfrm>
              <a:off x="5313240" y="5013360"/>
              <a:ext cx="395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>
              <a:off x="5457600" y="5176440"/>
              <a:ext cx="108000" cy="17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1295280" y="5373720"/>
            <a:ext cx="395280" cy="342360"/>
            <a:chOff x="1295280" y="5373720"/>
            <a:chExt cx="395280" cy="342360"/>
          </a:xfrm>
        </p:grpSpPr>
        <p:sp>
          <p:nvSpPr>
            <p:cNvPr id="304" name=""/>
            <p:cNvSpPr/>
            <p:nvPr/>
          </p:nvSpPr>
          <p:spPr>
            <a:xfrm>
              <a:off x="1295280" y="5373720"/>
              <a:ext cx="395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1439640" y="5536800"/>
              <a:ext cx="108000" cy="17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5276880" y="4508640"/>
            <a:ext cx="395280" cy="342360"/>
            <a:chOff x="5276880" y="4508640"/>
            <a:chExt cx="395280" cy="342360"/>
          </a:xfrm>
        </p:grpSpPr>
        <p:sp>
          <p:nvSpPr>
            <p:cNvPr id="307" name=""/>
            <p:cNvSpPr/>
            <p:nvPr/>
          </p:nvSpPr>
          <p:spPr>
            <a:xfrm>
              <a:off x="5276880" y="4508640"/>
              <a:ext cx="395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>
              <a:off x="5421240" y="4671720"/>
              <a:ext cx="108000" cy="17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1392120" y="5013360"/>
            <a:ext cx="1976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6   ( incl. 4x 2V5 diff. LVDS 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1604880" y="5176800"/>
            <a:ext cx="108000" cy="179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rot="5400000">
            <a:off x="1898280" y="5476680"/>
            <a:ext cx="336600" cy="27324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rot="5400000">
            <a:off x="1898280" y="6053040"/>
            <a:ext cx="336600" cy="27324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rot="5400000">
            <a:off x="1912680" y="6448320"/>
            <a:ext cx="336600" cy="27288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7380360" y="6138720"/>
            <a:ext cx="395280" cy="250920"/>
            <a:chOff x="7380360" y="6138720"/>
            <a:chExt cx="395280" cy="250920"/>
          </a:xfrm>
        </p:grpSpPr>
        <p:sp>
          <p:nvSpPr>
            <p:cNvPr id="315" name=""/>
            <p:cNvSpPr/>
            <p:nvPr/>
          </p:nvSpPr>
          <p:spPr>
            <a:xfrm>
              <a:off x="7434360" y="6153120"/>
              <a:ext cx="301320" cy="236520"/>
            </a:xfrm>
            <a:prstGeom prst="rect">
              <a:avLst/>
            </a:prstGeom>
            <a:solidFill>
              <a:srgbClr val="00cc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380360" y="6138720"/>
              <a:ext cx="395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SW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7" name=""/>
          <p:cNvSpPr/>
          <p:nvPr/>
        </p:nvSpPr>
        <p:spPr>
          <a:xfrm>
            <a:off x="7113600" y="5951520"/>
            <a:ext cx="858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ERIAL NO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950160" y="5194440"/>
            <a:ext cx="1076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OD.  RECOR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7367760" y="5662440"/>
            <a:ext cx="395280" cy="250920"/>
            <a:chOff x="7367760" y="5662440"/>
            <a:chExt cx="395280" cy="250920"/>
          </a:xfrm>
        </p:grpSpPr>
        <p:sp>
          <p:nvSpPr>
            <p:cNvPr id="320" name=""/>
            <p:cNvSpPr/>
            <p:nvPr/>
          </p:nvSpPr>
          <p:spPr>
            <a:xfrm>
              <a:off x="7421760" y="5676840"/>
              <a:ext cx="301320" cy="236520"/>
            </a:xfrm>
            <a:prstGeom prst="rect">
              <a:avLst/>
            </a:prstGeom>
            <a:solidFill>
              <a:srgbClr val="00cc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367760" y="5662440"/>
              <a:ext cx="395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SW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7365960" y="5373720"/>
            <a:ext cx="395280" cy="250920"/>
            <a:chOff x="7365960" y="5373720"/>
            <a:chExt cx="395280" cy="250920"/>
          </a:xfrm>
        </p:grpSpPr>
        <p:sp>
          <p:nvSpPr>
            <p:cNvPr id="323" name=""/>
            <p:cNvSpPr/>
            <p:nvPr/>
          </p:nvSpPr>
          <p:spPr>
            <a:xfrm>
              <a:off x="7419960" y="5388120"/>
              <a:ext cx="301320" cy="236520"/>
            </a:xfrm>
            <a:prstGeom prst="rect">
              <a:avLst/>
            </a:prstGeom>
            <a:solidFill>
              <a:srgbClr val="00cc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365960" y="5373720"/>
              <a:ext cx="395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SW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5" name=""/>
          <p:cNvSpPr/>
          <p:nvPr/>
        </p:nvSpPr>
        <p:spPr>
          <a:xfrm flipH="1" flipV="1">
            <a:off x="7040520" y="5632200"/>
            <a:ext cx="393840" cy="6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5315040" y="6326280"/>
            <a:ext cx="395280" cy="342360"/>
            <a:chOff x="5315040" y="6326280"/>
            <a:chExt cx="395280" cy="342360"/>
          </a:xfrm>
        </p:grpSpPr>
        <p:sp>
          <p:nvSpPr>
            <p:cNvPr id="327" name=""/>
            <p:cNvSpPr/>
            <p:nvPr/>
          </p:nvSpPr>
          <p:spPr>
            <a:xfrm>
              <a:off x="5315040" y="6326280"/>
              <a:ext cx="395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5459400" y="6489360"/>
              <a:ext cx="108000" cy="17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" name=""/>
          <p:cNvSpPr/>
          <p:nvPr/>
        </p:nvSpPr>
        <p:spPr>
          <a:xfrm>
            <a:off x="6993000" y="398520"/>
            <a:ext cx="2206440" cy="334800"/>
          </a:xfrm>
          <a:prstGeom prst="rect">
            <a:avLst/>
          </a:prstGeom>
          <a:solidFill>
            <a:srgbClr val="00cc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6993000" y="506520"/>
            <a:ext cx="220644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flipH="1" flipV="1">
            <a:off x="9175320" y="549360"/>
            <a:ext cx="459000" cy="15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993000" y="614520"/>
            <a:ext cx="220644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502320" y="557280"/>
            <a:ext cx="540000" cy="7920"/>
          </a:xfrm>
          <a:prstGeom prst="line">
            <a:avLst/>
          </a:prstGeom>
          <a:ln w="63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6754680" y="181080"/>
            <a:ext cx="262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0-pin DIL BREAK-OUT HEA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9117000" y="584280"/>
            <a:ext cx="87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ll POWER and GND rai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6575400" y="277920"/>
            <a:ext cx="395280" cy="342360"/>
            <a:chOff x="6575400" y="277920"/>
            <a:chExt cx="395280" cy="342360"/>
          </a:xfrm>
        </p:grpSpPr>
        <p:sp>
          <p:nvSpPr>
            <p:cNvPr id="337" name=""/>
            <p:cNvSpPr/>
            <p:nvPr/>
          </p:nvSpPr>
          <p:spPr>
            <a:xfrm>
              <a:off x="6575400" y="277920"/>
              <a:ext cx="395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3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 flipH="1">
              <a:off x="6719760" y="441000"/>
              <a:ext cx="108000" cy="17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" name=""/>
          <p:cNvSpPr/>
          <p:nvPr/>
        </p:nvSpPr>
        <p:spPr>
          <a:xfrm>
            <a:off x="8397720" y="5019840"/>
            <a:ext cx="1274760" cy="34128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8624880" y="6102360"/>
            <a:ext cx="853920" cy="369720"/>
          </a:xfrm>
          <a:prstGeom prst="rect">
            <a:avLst/>
          </a:prstGeom>
          <a:solidFill>
            <a:srgbClr val="00cc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8481960" y="5551560"/>
            <a:ext cx="111240" cy="217440"/>
          </a:xfrm>
          <a:prstGeom prst="flowChartCollat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696160" y="5551560"/>
            <a:ext cx="109800" cy="217440"/>
          </a:xfrm>
          <a:prstGeom prst="flowChartCollat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 rot="5400000">
            <a:off x="8318520" y="4435560"/>
            <a:ext cx="109440" cy="217440"/>
          </a:xfrm>
          <a:prstGeom prst="flowChartCollat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flipV="1">
            <a:off x="8913960" y="5360760"/>
            <a:ext cx="0" cy="107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8535960" y="576864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8756640" y="576864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7932600" y="6273720"/>
            <a:ext cx="71136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flipV="1">
            <a:off x="8745480" y="5376600"/>
            <a:ext cx="0" cy="176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8913960" y="4781520"/>
            <a:ext cx="0" cy="231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V="1">
            <a:off x="8542440" y="5373360"/>
            <a:ext cx="0" cy="174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8596440" y="6093000"/>
            <a:ext cx="893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XT.        +5V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7832880" y="5553000"/>
            <a:ext cx="90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US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8206200" y="4616280"/>
            <a:ext cx="1605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3V3 +2V5 +1V8 +1V2 -5V -2V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9126360" y="5551560"/>
            <a:ext cx="111240" cy="217440"/>
          </a:xfrm>
          <a:prstGeom prst="flowChartCollat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 flipV="1">
            <a:off x="9180360" y="576864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9188280" y="5370480"/>
            <a:ext cx="0" cy="177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8445600" y="5049720"/>
            <a:ext cx="11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6x  DC-D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 flipH="1">
            <a:off x="6501960" y="1881360"/>
            <a:ext cx="235764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8664480" y="3824280"/>
            <a:ext cx="1764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9058320" y="3068640"/>
            <a:ext cx="576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 rot="5400000">
            <a:off x="8387280" y="3116880"/>
            <a:ext cx="1222200" cy="335160"/>
          </a:xfrm>
          <a:prstGeom prst="rect">
            <a:avLst/>
          </a:prstGeom>
          <a:solidFill>
            <a:srgbClr val="00cc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6501960" y="3141720"/>
            <a:ext cx="232884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 rot="5400000">
            <a:off x="8387280" y="1786680"/>
            <a:ext cx="1222200" cy="335160"/>
          </a:xfrm>
          <a:prstGeom prst="rect">
            <a:avLst/>
          </a:prstGeom>
          <a:solidFill>
            <a:srgbClr val="00cc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rot="5400000">
            <a:off x="7884000" y="2999520"/>
            <a:ext cx="955800" cy="33480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rot="5400000">
            <a:off x="7854840" y="1681200"/>
            <a:ext cx="1014480" cy="33480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9058320" y="1731960"/>
            <a:ext cx="576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8620200" y="4437000"/>
            <a:ext cx="401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5V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8157600" y="4292640"/>
            <a:ext cx="453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U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rot="16200000">
            <a:off x="8053200" y="1675440"/>
            <a:ext cx="624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uff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799400" y="836640"/>
            <a:ext cx="1339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ME BASE ADDR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502400" y="828720"/>
            <a:ext cx="465120" cy="368280"/>
          </a:xfrm>
          <a:prstGeom prst="rect">
            <a:avLst/>
          </a:prstGeom>
          <a:solidFill>
            <a:srgbClr val="00cc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7629480" y="1001880"/>
            <a:ext cx="466920" cy="368280"/>
          </a:xfrm>
          <a:prstGeom prst="rect">
            <a:avLst/>
          </a:prstGeom>
          <a:solidFill>
            <a:srgbClr val="00cc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6494400" y="1015920"/>
            <a:ext cx="1008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 rot="16200000">
            <a:off x="6975360" y="867960"/>
            <a:ext cx="336600" cy="27288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 flipV="1">
            <a:off x="7726320" y="1052280"/>
            <a:ext cx="258840" cy="191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 flipH="1">
            <a:off x="6501960" y="4292640"/>
            <a:ext cx="49068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 flipH="1">
            <a:off x="6501960" y="4724280"/>
            <a:ext cx="49068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6539040" y="4022640"/>
            <a:ext cx="395280" cy="343080"/>
            <a:chOff x="6539040" y="4022640"/>
            <a:chExt cx="395280" cy="343080"/>
          </a:xfrm>
        </p:grpSpPr>
        <p:sp>
          <p:nvSpPr>
            <p:cNvPr id="379" name=""/>
            <p:cNvSpPr/>
            <p:nvPr/>
          </p:nvSpPr>
          <p:spPr>
            <a:xfrm>
              <a:off x="6539040" y="4022640"/>
              <a:ext cx="395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 flipH="1">
              <a:off x="6683400" y="4186080"/>
              <a:ext cx="108000" cy="17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6539040" y="4473720"/>
            <a:ext cx="395280" cy="342360"/>
            <a:chOff x="6539040" y="4473720"/>
            <a:chExt cx="395280" cy="342360"/>
          </a:xfrm>
        </p:grpSpPr>
        <p:sp>
          <p:nvSpPr>
            <p:cNvPr id="382" name=""/>
            <p:cNvSpPr/>
            <p:nvPr/>
          </p:nvSpPr>
          <p:spPr>
            <a:xfrm>
              <a:off x="6539040" y="4473720"/>
              <a:ext cx="395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 flipH="1">
              <a:off x="6683400" y="4636800"/>
              <a:ext cx="108000" cy="17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6924600" y="4149720"/>
            <a:ext cx="7840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Mbx1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7827840" y="6561000"/>
            <a:ext cx="2273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 u="sng">
                <a:solidFill>
                  <a:srgbClr val="0000ff"/>
                </a:solidFill>
                <a:uFillTx/>
                <a:latin typeface="Arial"/>
              </a:rPr>
              <a:t>MP-UCL,  21 February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46080" y="2492280"/>
            <a:ext cx="336600" cy="17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rot="10800000">
            <a:off x="-15840" y="2930040"/>
            <a:ext cx="332640" cy="15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20x LEMO-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9561600" y="5551560"/>
            <a:ext cx="110880" cy="217440"/>
          </a:xfrm>
          <a:prstGeom prst="flowChartCollat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9342360" y="5551560"/>
            <a:ext cx="111240" cy="217440"/>
          </a:xfrm>
          <a:prstGeom prst="flowChartCollat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V="1">
            <a:off x="9404280" y="576864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9404280" y="5373360"/>
            <a:ext cx="0" cy="174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flipV="1">
            <a:off x="9610560" y="576864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 flipV="1">
            <a:off x="9610560" y="5369040"/>
            <a:ext cx="0" cy="179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rot="16200000">
            <a:off x="8040600" y="3135960"/>
            <a:ext cx="624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uff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flipH="1">
            <a:off x="8631360" y="2529000"/>
            <a:ext cx="1440" cy="12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8631000" y="2530440"/>
            <a:ext cx="190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8601120" y="3789360"/>
            <a:ext cx="61920" cy="6840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7908840" y="4508640"/>
            <a:ext cx="61920" cy="6804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8408880" y="4005360"/>
            <a:ext cx="1081080" cy="29520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8238960" y="4041720"/>
            <a:ext cx="1393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ll POWER Monito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V="1">
            <a:off x="6539040" y="3968640"/>
            <a:ext cx="1557360" cy="504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8085240" y="3967200"/>
            <a:ext cx="0" cy="189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8085240" y="4149720"/>
            <a:ext cx="312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6537240" y="3716280"/>
            <a:ext cx="395280" cy="343080"/>
            <a:chOff x="6537240" y="3716280"/>
            <a:chExt cx="395280" cy="343080"/>
          </a:xfrm>
        </p:grpSpPr>
        <p:sp>
          <p:nvSpPr>
            <p:cNvPr id="405" name=""/>
            <p:cNvSpPr/>
            <p:nvPr/>
          </p:nvSpPr>
          <p:spPr>
            <a:xfrm>
              <a:off x="6537240" y="3716280"/>
              <a:ext cx="395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6681600" y="3879720"/>
              <a:ext cx="108000" cy="17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8013600" y="3897360"/>
            <a:ext cx="395280" cy="342360"/>
            <a:chOff x="8013600" y="3897360"/>
            <a:chExt cx="395280" cy="342360"/>
          </a:xfrm>
        </p:grpSpPr>
        <p:sp>
          <p:nvSpPr>
            <p:cNvPr id="408" name=""/>
            <p:cNvSpPr/>
            <p:nvPr/>
          </p:nvSpPr>
          <p:spPr>
            <a:xfrm>
              <a:off x="8013600" y="3897360"/>
              <a:ext cx="395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>
              <a:off x="8157960" y="4060440"/>
              <a:ext cx="108000" cy="17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0" name=""/>
          <p:cNvSpPr/>
          <p:nvPr/>
        </p:nvSpPr>
        <p:spPr>
          <a:xfrm>
            <a:off x="9632880" y="4149720"/>
            <a:ext cx="196920" cy="179280"/>
          </a:xfrm>
          <a:prstGeom prst="flowChartSummingJunction">
            <a:avLst/>
          </a:prstGeom>
          <a:solidFill>
            <a:srgbClr val="00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9632880" y="3968640"/>
            <a:ext cx="196920" cy="179640"/>
          </a:xfrm>
          <a:prstGeom prst="flowChartSummingJunction">
            <a:avLst/>
          </a:prstGeom>
          <a:solidFill>
            <a:srgbClr val="ff00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9474120" y="413856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9328320" y="3789360"/>
            <a:ext cx="664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2x LE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1930320" y="3240"/>
            <a:ext cx="394668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0000ff"/>
                </a:solidFill>
                <a:uFillTx/>
                <a:latin typeface="Arial"/>
              </a:rPr>
              <a:t>ATLAS-SCT  “DAVE-1” Programmable VME Module</a:t>
            </a:r>
            <a:r>
              <a:rPr b="1" i="1" lang="en-US" sz="800" spc="-1" strike="noStrike">
                <a:solidFill>
                  <a:srgbClr val="0000ff"/>
                </a:solidFill>
                <a:latin typeface="Arial"/>
              </a:rPr>
              <a:t> M.Goodrick, D.Robinson,</a:t>
            </a:r>
            <a:r>
              <a:rPr b="1" lang="en-US" sz="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en-US" sz="800" spc="-1" strike="noStrike">
                <a:solidFill>
                  <a:srgbClr val="0000ff"/>
                </a:solidFill>
                <a:latin typeface="Arial"/>
              </a:rPr>
              <a:t>R.Shaw @ University of Cambridge, Cavendish Lab</a:t>
            </a:r>
            <a:r>
              <a:rPr b="1" lang="en-US" sz="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en-US" sz="800" spc="-1" strike="noStrike">
                <a:solidFill>
                  <a:srgbClr val="0000ff"/>
                </a:solidFill>
                <a:latin typeface="Arial"/>
              </a:rPr>
              <a:t>M.Postranecky, M.Warren @ UC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 flipH="1">
            <a:off x="8542440" y="5481720"/>
            <a:ext cx="387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 flipV="1">
            <a:off x="9163080" y="4781520"/>
            <a:ext cx="0" cy="255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 flipV="1">
            <a:off x="9381960" y="4781520"/>
            <a:ext cx="0" cy="225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9597960" y="4781520"/>
            <a:ext cx="0" cy="238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8451720" y="4781520"/>
            <a:ext cx="0" cy="2541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8663040" y="4781520"/>
            <a:ext cx="1440" cy="238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7966080" y="4545000"/>
            <a:ext cx="298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8488440" y="4545000"/>
            <a:ext cx="209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V="1">
            <a:off x="9345600" y="4289040"/>
            <a:ext cx="0" cy="266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9274320" y="4365720"/>
            <a:ext cx="3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>
            <a:off x="9272160" y="4481640"/>
            <a:ext cx="144360" cy="55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8078760" y="5913360"/>
            <a:ext cx="1562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8724960" y="5883120"/>
            <a:ext cx="61920" cy="6840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9148680" y="5881680"/>
            <a:ext cx="61920" cy="6840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9372600" y="5881680"/>
            <a:ext cx="61920" cy="6840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8059680" y="4513320"/>
            <a:ext cx="61920" cy="6804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8504280" y="5881680"/>
            <a:ext cx="61920" cy="6840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 flipV="1">
            <a:off x="7940520" y="3824280"/>
            <a:ext cx="0" cy="6811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 flipH="1" flipV="1">
            <a:off x="7932240" y="3824280"/>
            <a:ext cx="768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7940520" y="4584600"/>
            <a:ext cx="0" cy="16891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6716880" y="5554800"/>
            <a:ext cx="323640" cy="93492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6" name=""/>
          <p:cNvGrpSpPr/>
          <p:nvPr/>
        </p:nvGrpSpPr>
        <p:grpSpPr>
          <a:xfrm>
            <a:off x="7113600" y="5388120"/>
            <a:ext cx="395280" cy="342360"/>
            <a:chOff x="7113600" y="5388120"/>
            <a:chExt cx="395280" cy="342360"/>
          </a:xfrm>
        </p:grpSpPr>
        <p:sp>
          <p:nvSpPr>
            <p:cNvPr id="437" name=""/>
            <p:cNvSpPr/>
            <p:nvPr/>
          </p:nvSpPr>
          <p:spPr>
            <a:xfrm>
              <a:off x="7113600" y="5388120"/>
              <a:ext cx="395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 flipH="1">
              <a:off x="7257960" y="5551200"/>
              <a:ext cx="108000" cy="17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7113600" y="6146640"/>
            <a:ext cx="395280" cy="343080"/>
            <a:chOff x="7113600" y="6146640"/>
            <a:chExt cx="395280" cy="343080"/>
          </a:xfrm>
        </p:grpSpPr>
        <p:sp>
          <p:nvSpPr>
            <p:cNvPr id="440" name=""/>
            <p:cNvSpPr/>
            <p:nvPr/>
          </p:nvSpPr>
          <p:spPr>
            <a:xfrm>
              <a:off x="7113600" y="6146640"/>
              <a:ext cx="395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 flipH="1">
              <a:off x="7257960" y="6310080"/>
              <a:ext cx="108000" cy="17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2" name=""/>
          <p:cNvSpPr/>
          <p:nvPr/>
        </p:nvSpPr>
        <p:spPr>
          <a:xfrm flipH="1">
            <a:off x="6539040" y="5624640"/>
            <a:ext cx="180720" cy="2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 flipH="1">
            <a:off x="6535440" y="6381000"/>
            <a:ext cx="18108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6572160" y="5769000"/>
            <a:ext cx="6127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HI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EG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 flipH="1">
            <a:off x="3405240" y="3573360"/>
            <a:ext cx="241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3405240" y="3409920"/>
            <a:ext cx="0" cy="1634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3765600" y="3206880"/>
            <a:ext cx="0" cy="3664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3743280" y="3535200"/>
            <a:ext cx="42840" cy="7308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5T14:48:38Z</dcterms:created>
  <dc:creator>ucapmpo</dc:creator>
  <dc:description/>
  <dc:language>en-US</dc:language>
  <cp:lastModifiedBy>ucapmpo</cp:lastModifiedBy>
  <cp:lastPrinted>2010-06-17T14:45:37Z</cp:lastPrinted>
  <dcterms:modified xsi:type="dcterms:W3CDTF">2011-02-21T17:42:21Z</dcterms:modified>
  <cp:revision>38</cp:revision>
  <dc:subject/>
  <dc:title>Slide 1</dc:title>
</cp:coreProperties>
</file>