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CC9-C057-4904-BC83-F11ED080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C87-CF86-4BE9-BA4A-3E26B9A3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2CC-31F9-430E-9E5F-2E1263EE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7AD-B785-41FE-9CCB-FD19853C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FB3-CD19-4D65-A211-8F5D9A1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643-55B2-48EE-B9CA-A5C0758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EB3-105F-4E75-A85C-6219006D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9EC-DD99-4670-A1A8-0C2B86C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2DD-DEF9-467E-953E-67A8D701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EF2-6A2D-4C50-BAEF-2DB0881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ECB-4D19-403E-915E-EDAB59A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254-2720-464B-9B16-21DED37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2FD2-9CCC-4BE1-8195-3F91090AD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24600" y="828720"/>
            <a:ext cx="43020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7020000" y="907920"/>
            <a:ext cx="23796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040" y="181080"/>
            <a:ext cx="79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8880" y="2182680"/>
            <a:ext cx="5000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52440" y="425520"/>
            <a:ext cx="546120" cy="179280"/>
            <a:chOff x="352440" y="425520"/>
            <a:chExt cx="546120" cy="179280"/>
          </a:xfrm>
        </p:grpSpPr>
        <p:grpSp>
          <p:nvGrpSpPr>
            <p:cNvPr id="46" name=""/>
            <p:cNvGrpSpPr/>
            <p:nvPr/>
          </p:nvGrpSpPr>
          <p:grpSpPr>
            <a:xfrm>
              <a:off x="352440" y="425520"/>
              <a:ext cx="363960" cy="179280"/>
              <a:chOff x="352440" y="425520"/>
              <a:chExt cx="363960" cy="179280"/>
            </a:xfrm>
          </p:grpSpPr>
          <p:sp>
            <p:nvSpPr>
              <p:cNvPr id="47" name=""/>
              <p:cNvSpPr/>
              <p:nvPr/>
            </p:nvSpPr>
            <p:spPr>
              <a:xfrm>
                <a:off x="352440" y="425520"/>
                <a:ext cx="18180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4240" y="425520"/>
                <a:ext cx="18216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716400" y="425520"/>
              <a:ext cx="18216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52440" y="801720"/>
            <a:ext cx="546120" cy="179280"/>
            <a:chOff x="352440" y="801720"/>
            <a:chExt cx="546120" cy="179280"/>
          </a:xfrm>
        </p:grpSpPr>
        <p:grpSp>
          <p:nvGrpSpPr>
            <p:cNvPr id="51" name=""/>
            <p:cNvGrpSpPr/>
            <p:nvPr/>
          </p:nvGrpSpPr>
          <p:grpSpPr>
            <a:xfrm>
              <a:off x="352440" y="801720"/>
              <a:ext cx="363960" cy="179280"/>
              <a:chOff x="352440" y="801720"/>
              <a:chExt cx="363960" cy="179280"/>
            </a:xfrm>
          </p:grpSpPr>
          <p:sp>
            <p:nvSpPr>
              <p:cNvPr id="52" name=""/>
              <p:cNvSpPr/>
              <p:nvPr/>
            </p:nvSpPr>
            <p:spPr>
              <a:xfrm>
                <a:off x="352440" y="801720"/>
                <a:ext cx="18180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4240" y="801720"/>
                <a:ext cx="18216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716400" y="801720"/>
              <a:ext cx="18216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52440" y="981000"/>
            <a:ext cx="546120" cy="179640"/>
            <a:chOff x="352440" y="981000"/>
            <a:chExt cx="546120" cy="179640"/>
          </a:xfrm>
        </p:grpSpPr>
        <p:grpSp>
          <p:nvGrpSpPr>
            <p:cNvPr id="56" name=""/>
            <p:cNvGrpSpPr/>
            <p:nvPr/>
          </p:nvGrpSpPr>
          <p:grpSpPr>
            <a:xfrm>
              <a:off x="352440" y="981000"/>
              <a:ext cx="363960" cy="179640"/>
              <a:chOff x="352440" y="981000"/>
              <a:chExt cx="363960" cy="179640"/>
            </a:xfrm>
          </p:grpSpPr>
          <p:sp>
            <p:nvSpPr>
              <p:cNvPr id="57" name=""/>
              <p:cNvSpPr/>
              <p:nvPr/>
            </p:nvSpPr>
            <p:spPr>
              <a:xfrm>
                <a:off x="352440" y="981000"/>
                <a:ext cx="18180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4240" y="981000"/>
                <a:ext cx="18216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716400" y="981000"/>
              <a:ext cx="18216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52440" y="1162080"/>
            <a:ext cx="546120" cy="179280"/>
            <a:chOff x="352440" y="1162080"/>
            <a:chExt cx="546120" cy="179280"/>
          </a:xfrm>
        </p:grpSpPr>
        <p:grpSp>
          <p:nvGrpSpPr>
            <p:cNvPr id="61" name=""/>
            <p:cNvGrpSpPr/>
            <p:nvPr/>
          </p:nvGrpSpPr>
          <p:grpSpPr>
            <a:xfrm>
              <a:off x="352440" y="1162080"/>
              <a:ext cx="363960" cy="179280"/>
              <a:chOff x="352440" y="1162080"/>
              <a:chExt cx="363960" cy="179280"/>
            </a:xfrm>
          </p:grpSpPr>
          <p:sp>
            <p:nvSpPr>
              <p:cNvPr id="62" name=""/>
              <p:cNvSpPr/>
              <p:nvPr/>
            </p:nvSpPr>
            <p:spPr>
              <a:xfrm>
                <a:off x="352440" y="1162080"/>
                <a:ext cx="181800" cy="17928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4240" y="1162080"/>
                <a:ext cx="182160" cy="17928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716400" y="1162080"/>
              <a:ext cx="182160" cy="17928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2440" y="1341360"/>
            <a:ext cx="546120" cy="179640"/>
            <a:chOff x="352440" y="1341360"/>
            <a:chExt cx="546120" cy="179640"/>
          </a:xfrm>
        </p:grpSpPr>
        <p:grpSp>
          <p:nvGrpSpPr>
            <p:cNvPr id="66" name=""/>
            <p:cNvGrpSpPr/>
            <p:nvPr/>
          </p:nvGrpSpPr>
          <p:grpSpPr>
            <a:xfrm>
              <a:off x="352440" y="1341360"/>
              <a:ext cx="363960" cy="179640"/>
              <a:chOff x="352440" y="1341360"/>
              <a:chExt cx="363960" cy="179640"/>
            </a:xfrm>
          </p:grpSpPr>
          <p:sp>
            <p:nvSpPr>
              <p:cNvPr id="67" name=""/>
              <p:cNvSpPr/>
              <p:nvPr/>
            </p:nvSpPr>
            <p:spPr>
              <a:xfrm>
                <a:off x="352440" y="1341360"/>
                <a:ext cx="181800" cy="179640"/>
              </a:xfrm>
              <a:prstGeom prst="flowChartSummingJunction">
                <a:avLst/>
              </a:prstGeom>
              <a:solidFill>
                <a:srgbClr val="00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4240" y="1341360"/>
                <a:ext cx="182160" cy="179640"/>
              </a:xfrm>
              <a:prstGeom prst="flowChartSummingJunction">
                <a:avLst/>
              </a:prstGeom>
              <a:solidFill>
                <a:srgbClr val="ff99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716400" y="1341360"/>
              <a:ext cx="182160" cy="179640"/>
            </a:xfrm>
            <a:prstGeom prst="flowChartSummingJunction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4160" y="58428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98560" y="225360"/>
            <a:ext cx="650520" cy="379440"/>
            <a:chOff x="898560" y="225360"/>
            <a:chExt cx="650520" cy="379440"/>
          </a:xfrm>
        </p:grpSpPr>
        <p:grpSp>
          <p:nvGrpSpPr>
            <p:cNvPr id="72" name=""/>
            <p:cNvGrpSpPr/>
            <p:nvPr/>
          </p:nvGrpSpPr>
          <p:grpSpPr>
            <a:xfrm>
              <a:off x="898560" y="425520"/>
              <a:ext cx="617040" cy="179280"/>
              <a:chOff x="898560" y="425520"/>
              <a:chExt cx="617040" cy="179280"/>
            </a:xfrm>
          </p:grpSpPr>
          <p:sp>
            <p:nvSpPr>
              <p:cNvPr id="73" name=""/>
              <p:cNvSpPr/>
              <p:nvPr/>
            </p:nvSpPr>
            <p:spPr>
              <a:xfrm flipH="1">
                <a:off x="898560" y="512640"/>
                <a:ext cx="617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283400" y="425520"/>
                <a:ext cx="1155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184400" y="225360"/>
              <a:ext cx="36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884160" y="620640"/>
            <a:ext cx="763200" cy="342720"/>
            <a:chOff x="884160" y="620640"/>
            <a:chExt cx="763200" cy="342720"/>
          </a:xfrm>
        </p:grpSpPr>
        <p:grpSp>
          <p:nvGrpSpPr>
            <p:cNvPr id="77" name=""/>
            <p:cNvGrpSpPr/>
            <p:nvPr/>
          </p:nvGrpSpPr>
          <p:grpSpPr>
            <a:xfrm>
              <a:off x="884160" y="784080"/>
              <a:ext cx="615600" cy="179280"/>
              <a:chOff x="884160" y="784080"/>
              <a:chExt cx="615600" cy="179280"/>
            </a:xfrm>
          </p:grpSpPr>
          <p:sp>
            <p:nvSpPr>
              <p:cNvPr id="78" name=""/>
              <p:cNvSpPr/>
              <p:nvPr/>
            </p:nvSpPr>
            <p:spPr>
              <a:xfrm flipH="1">
                <a:off x="884160" y="871200"/>
                <a:ext cx="615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268640" y="784080"/>
                <a:ext cx="1152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283400" y="620640"/>
              <a:ext cx="36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84160" y="836640"/>
            <a:ext cx="763200" cy="323640"/>
            <a:chOff x="884160" y="836640"/>
            <a:chExt cx="763200" cy="323640"/>
          </a:xfrm>
        </p:grpSpPr>
        <p:grpSp>
          <p:nvGrpSpPr>
            <p:cNvPr id="82" name=""/>
            <p:cNvGrpSpPr/>
            <p:nvPr/>
          </p:nvGrpSpPr>
          <p:grpSpPr>
            <a:xfrm>
              <a:off x="884160" y="981000"/>
              <a:ext cx="615600" cy="179280"/>
              <a:chOff x="884160" y="981000"/>
              <a:chExt cx="615600" cy="17928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884160" y="1068120"/>
                <a:ext cx="615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268640" y="981000"/>
                <a:ext cx="1152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283400" y="836640"/>
              <a:ext cx="36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84160" y="1023840"/>
            <a:ext cx="763200" cy="299880"/>
            <a:chOff x="884160" y="1023840"/>
            <a:chExt cx="763200" cy="299880"/>
          </a:xfrm>
        </p:grpSpPr>
        <p:grpSp>
          <p:nvGrpSpPr>
            <p:cNvPr id="87" name=""/>
            <p:cNvGrpSpPr/>
            <p:nvPr/>
          </p:nvGrpSpPr>
          <p:grpSpPr>
            <a:xfrm>
              <a:off x="884160" y="1144440"/>
              <a:ext cx="615600" cy="179280"/>
              <a:chOff x="884160" y="1144440"/>
              <a:chExt cx="615600" cy="17928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884160" y="1231560"/>
                <a:ext cx="615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268640" y="1144440"/>
                <a:ext cx="1152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283400" y="1023840"/>
              <a:ext cx="36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884160" y="1197000"/>
            <a:ext cx="763200" cy="323640"/>
            <a:chOff x="884160" y="1197000"/>
            <a:chExt cx="763200" cy="323640"/>
          </a:xfrm>
        </p:grpSpPr>
        <p:grpSp>
          <p:nvGrpSpPr>
            <p:cNvPr id="92" name=""/>
            <p:cNvGrpSpPr/>
            <p:nvPr/>
          </p:nvGrpSpPr>
          <p:grpSpPr>
            <a:xfrm>
              <a:off x="884160" y="1341360"/>
              <a:ext cx="615600" cy="179280"/>
              <a:chOff x="884160" y="1341360"/>
              <a:chExt cx="615600" cy="17928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884160" y="1428480"/>
                <a:ext cx="615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1268640" y="1341360"/>
                <a:ext cx="1152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283400" y="1197000"/>
              <a:ext cx="36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514520" y="425520"/>
            <a:ext cx="466560" cy="109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2840" y="692280"/>
            <a:ext cx="56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865080"/>
            <a:ext cx="3456000" cy="6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4073400"/>
            <a:ext cx="693720" cy="847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46400" y="620640"/>
            <a:ext cx="365040" cy="343080"/>
            <a:chOff x="2246400" y="620640"/>
            <a:chExt cx="365040" cy="343080"/>
          </a:xfrm>
        </p:grpSpPr>
        <p:sp>
          <p:nvSpPr>
            <p:cNvPr id="101" name=""/>
            <p:cNvSpPr/>
            <p:nvPr/>
          </p:nvSpPr>
          <p:spPr>
            <a:xfrm>
              <a:off x="2246400" y="620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379240" y="784080"/>
              <a:ext cx="9972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2520" y="2390760"/>
            <a:ext cx="398520" cy="216000"/>
            <a:chOff x="452520" y="2390760"/>
            <a:chExt cx="398520" cy="216000"/>
          </a:xfrm>
        </p:grpSpPr>
        <p:sp>
          <p:nvSpPr>
            <p:cNvPr id="104" name=""/>
            <p:cNvSpPr/>
            <p:nvPr/>
          </p:nvSpPr>
          <p:spPr>
            <a:xfrm>
              <a:off x="452520" y="239076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1960" y="239076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2520" y="2678040"/>
            <a:ext cx="398520" cy="216000"/>
            <a:chOff x="452520" y="2678040"/>
            <a:chExt cx="398520" cy="216000"/>
          </a:xfrm>
        </p:grpSpPr>
        <p:sp>
          <p:nvSpPr>
            <p:cNvPr id="107" name=""/>
            <p:cNvSpPr/>
            <p:nvPr/>
          </p:nvSpPr>
          <p:spPr>
            <a:xfrm>
              <a:off x="452520" y="267804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1960" y="267804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2520" y="2894040"/>
            <a:ext cx="398520" cy="216000"/>
            <a:chOff x="452520" y="2894040"/>
            <a:chExt cx="398520" cy="216000"/>
          </a:xfrm>
        </p:grpSpPr>
        <p:sp>
          <p:nvSpPr>
            <p:cNvPr id="110" name=""/>
            <p:cNvSpPr/>
            <p:nvPr/>
          </p:nvSpPr>
          <p:spPr>
            <a:xfrm>
              <a:off x="452520" y="289404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960" y="289404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52520" y="3110040"/>
            <a:ext cx="398520" cy="215640"/>
            <a:chOff x="452520" y="3110040"/>
            <a:chExt cx="398520" cy="215640"/>
          </a:xfrm>
        </p:grpSpPr>
        <p:sp>
          <p:nvSpPr>
            <p:cNvPr id="113" name=""/>
            <p:cNvSpPr/>
            <p:nvPr/>
          </p:nvSpPr>
          <p:spPr>
            <a:xfrm>
              <a:off x="452520" y="3110040"/>
              <a:ext cx="1994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1960" y="3110040"/>
              <a:ext cx="19908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2520" y="3325680"/>
            <a:ext cx="398520" cy="216000"/>
            <a:chOff x="452520" y="3325680"/>
            <a:chExt cx="398520" cy="216000"/>
          </a:xfrm>
        </p:grpSpPr>
        <p:sp>
          <p:nvSpPr>
            <p:cNvPr id="116" name=""/>
            <p:cNvSpPr/>
            <p:nvPr/>
          </p:nvSpPr>
          <p:spPr>
            <a:xfrm>
              <a:off x="452520" y="332568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1960" y="332568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85840" y="2236680"/>
            <a:ext cx="426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00" y="2709720"/>
            <a:ext cx="290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925720"/>
            <a:ext cx="290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357720"/>
            <a:ext cx="290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141720"/>
            <a:ext cx="290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5720" y="2236680"/>
            <a:ext cx="46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IN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2520" y="3753000"/>
            <a:ext cx="398520" cy="215640"/>
            <a:chOff x="452520" y="3753000"/>
            <a:chExt cx="398520" cy="215640"/>
          </a:xfrm>
        </p:grpSpPr>
        <p:sp>
          <p:nvSpPr>
            <p:cNvPr id="125" name=""/>
            <p:cNvSpPr/>
            <p:nvPr/>
          </p:nvSpPr>
          <p:spPr>
            <a:xfrm>
              <a:off x="452520" y="3753000"/>
              <a:ext cx="1994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1960" y="3753000"/>
              <a:ext cx="19908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2520" y="4041720"/>
            <a:ext cx="398520" cy="216000"/>
            <a:chOff x="452520" y="4041720"/>
            <a:chExt cx="398520" cy="216000"/>
          </a:xfrm>
        </p:grpSpPr>
        <p:sp>
          <p:nvSpPr>
            <p:cNvPr id="128" name=""/>
            <p:cNvSpPr/>
            <p:nvPr/>
          </p:nvSpPr>
          <p:spPr>
            <a:xfrm>
              <a:off x="452520" y="404172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960" y="404172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2520" y="4257720"/>
            <a:ext cx="398520" cy="216000"/>
            <a:chOff x="452520" y="4257720"/>
            <a:chExt cx="398520" cy="216000"/>
          </a:xfrm>
        </p:grpSpPr>
        <p:sp>
          <p:nvSpPr>
            <p:cNvPr id="131" name=""/>
            <p:cNvSpPr/>
            <p:nvPr/>
          </p:nvSpPr>
          <p:spPr>
            <a:xfrm>
              <a:off x="452520" y="425772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1960" y="425772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2520" y="4473720"/>
            <a:ext cx="398520" cy="215640"/>
            <a:chOff x="452520" y="4473720"/>
            <a:chExt cx="398520" cy="215640"/>
          </a:xfrm>
        </p:grpSpPr>
        <p:sp>
          <p:nvSpPr>
            <p:cNvPr id="134" name=""/>
            <p:cNvSpPr/>
            <p:nvPr/>
          </p:nvSpPr>
          <p:spPr>
            <a:xfrm>
              <a:off x="452520" y="4473720"/>
              <a:ext cx="19944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1960" y="4473720"/>
              <a:ext cx="199080" cy="21564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2520" y="4689360"/>
            <a:ext cx="398520" cy="216000"/>
            <a:chOff x="452520" y="4689360"/>
            <a:chExt cx="398520" cy="216000"/>
          </a:xfrm>
        </p:grpSpPr>
        <p:sp>
          <p:nvSpPr>
            <p:cNvPr id="137" name=""/>
            <p:cNvSpPr/>
            <p:nvPr/>
          </p:nvSpPr>
          <p:spPr>
            <a:xfrm>
              <a:off x="452520" y="4689360"/>
              <a:ext cx="19944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960" y="4689360"/>
              <a:ext cx="199080" cy="216000"/>
            </a:xfrm>
            <a:prstGeom prst="donut">
              <a:avLst>
                <a:gd name="adj" fmla="val 25000"/>
              </a:avLst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85760" y="3605040"/>
            <a:ext cx="55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0600" y="4073400"/>
            <a:ext cx="389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360" y="4289400"/>
            <a:ext cx="48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600" y="4721400"/>
            <a:ext cx="389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0600" y="4505400"/>
            <a:ext cx="389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UT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2600" y="3605040"/>
            <a:ext cx="563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KOUT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2520" y="1592280"/>
            <a:ext cx="365040" cy="250920"/>
            <a:chOff x="452520" y="1592280"/>
            <a:chExt cx="365040" cy="250920"/>
          </a:xfrm>
        </p:grpSpPr>
        <p:sp>
          <p:nvSpPr>
            <p:cNvPr id="146" name=""/>
            <p:cNvSpPr/>
            <p:nvPr/>
          </p:nvSpPr>
          <p:spPr>
            <a:xfrm>
              <a:off x="502200" y="1606680"/>
              <a:ext cx="27828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2520" y="159228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2520" y="1916280"/>
            <a:ext cx="365040" cy="250200"/>
            <a:chOff x="452520" y="1916280"/>
            <a:chExt cx="365040" cy="250200"/>
          </a:xfrm>
        </p:grpSpPr>
        <p:sp>
          <p:nvSpPr>
            <p:cNvPr id="149" name=""/>
            <p:cNvSpPr/>
            <p:nvPr/>
          </p:nvSpPr>
          <p:spPr>
            <a:xfrm>
              <a:off x="502200" y="1930320"/>
              <a:ext cx="27828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520" y="191628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11920" y="6418440"/>
            <a:ext cx="365040" cy="250200"/>
            <a:chOff x="6811920" y="6418440"/>
            <a:chExt cx="365040" cy="250200"/>
          </a:xfrm>
        </p:grpSpPr>
        <p:sp>
          <p:nvSpPr>
            <p:cNvPr id="152" name=""/>
            <p:cNvSpPr/>
            <p:nvPr/>
          </p:nvSpPr>
          <p:spPr>
            <a:xfrm>
              <a:off x="6861600" y="6432480"/>
              <a:ext cx="278280" cy="23616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11920" y="641844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 rot="5400000">
            <a:off x="1129320" y="2307240"/>
            <a:ext cx="190440" cy="147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1128600" y="2504880"/>
            <a:ext cx="189000" cy="14760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01600" y="235908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1600" y="2355840"/>
            <a:ext cx="6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8720" y="2592360"/>
            <a:ext cx="6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44600" y="237564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345680" y="2463840"/>
            <a:ext cx="90036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277640" y="257508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279080" y="238428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36680" y="2463840"/>
            <a:ext cx="2556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4320" y="2463840"/>
            <a:ext cx="252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47920" y="3860640"/>
            <a:ext cx="79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129320" y="2945520"/>
            <a:ext cx="190440" cy="147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128600" y="3143160"/>
            <a:ext cx="189000" cy="147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101600" y="299736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01600" y="2994120"/>
            <a:ext cx="6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8720" y="3230640"/>
            <a:ext cx="6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30146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45680" y="3110040"/>
            <a:ext cx="113364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277640" y="321300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79080" y="302256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6680" y="3102120"/>
            <a:ext cx="2556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4320" y="3102120"/>
            <a:ext cx="2520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1213560" y="3874320"/>
            <a:ext cx="190800" cy="147600"/>
          </a:xfrm>
          <a:prstGeom prst="triangle">
            <a:avLst>
              <a:gd name="adj" fmla="val 50000"/>
            </a:avLst>
          </a:prstGeom>
          <a:solidFill>
            <a:srgbClr val="eeb0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1213560" y="3675240"/>
            <a:ext cx="190440" cy="147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28840" y="3726000"/>
            <a:ext cx="0" cy="24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69800" y="3973680"/>
            <a:ext cx="6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70160" y="3736800"/>
            <a:ext cx="6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5840" y="375444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51040" y="3851280"/>
            <a:ext cx="320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9080" y="375300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4400" y="394488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1171080" y="3838680"/>
            <a:ext cx="2412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422000" y="3838680"/>
            <a:ext cx="25560" cy="237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213560" y="4484880"/>
            <a:ext cx="190440" cy="147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1215000" y="4286520"/>
            <a:ext cx="190440" cy="147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0280" y="4336200"/>
            <a:ext cx="0" cy="2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371600" y="4584600"/>
            <a:ext cx="6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371600" y="4348080"/>
            <a:ext cx="6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187280" y="4365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7560" y="445932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90520" y="4363920"/>
            <a:ext cx="6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5840" y="455616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171080" y="4449240"/>
            <a:ext cx="2556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1424160" y="4449240"/>
            <a:ext cx="25200" cy="24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456920" y="4473720"/>
            <a:ext cx="5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51040" y="2487600"/>
            <a:ext cx="23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81200" y="3101760"/>
            <a:ext cx="3031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50760" y="2397240"/>
            <a:ext cx="1000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434960" y="2386080"/>
            <a:ext cx="9864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950760" y="3011400"/>
            <a:ext cx="10008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422360" y="3035160"/>
            <a:ext cx="10008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17360" y="3753000"/>
            <a:ext cx="982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514520" y="3789360"/>
            <a:ext cx="1000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017360" y="4365720"/>
            <a:ext cx="982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514520" y="4402080"/>
            <a:ext cx="1000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49280" y="224172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4160" y="224784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6680" y="28893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6880" y="288936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30280" y="363060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60828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30280" y="4229280"/>
            <a:ext cx="21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32040" y="422100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28880" y="3551400"/>
            <a:ext cx="50004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500520" y="6391080"/>
            <a:ext cx="361800" cy="4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35000" y="4156200"/>
            <a:ext cx="4986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493720" y="2241720"/>
            <a:ext cx="29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15920" y="2816280"/>
            <a:ext cx="498600" cy="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0840" y="6021360"/>
            <a:ext cx="430200" cy="36828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1200" y="6116400"/>
            <a:ext cx="24120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1040" y="6200640"/>
            <a:ext cx="45860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080" y="5843520"/>
            <a:ext cx="100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9440" y="5172120"/>
            <a:ext cx="57132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9440" y="4892760"/>
            <a:ext cx="114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6-pin AUX. CONN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7040" y="6497640"/>
            <a:ext cx="727200" cy="246240"/>
            <a:chOff x="257040" y="6497640"/>
            <a:chExt cx="727200" cy="246240"/>
          </a:xfrm>
        </p:grpSpPr>
        <p:sp>
          <p:nvSpPr>
            <p:cNvPr id="230" name=""/>
            <p:cNvSpPr/>
            <p:nvPr/>
          </p:nvSpPr>
          <p:spPr>
            <a:xfrm>
              <a:off x="350640" y="6510240"/>
              <a:ext cx="571680" cy="20484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7040" y="6497640"/>
              <a:ext cx="72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79440" y="5529240"/>
            <a:ext cx="571320" cy="204840"/>
          </a:xfrm>
          <a:prstGeom prst="rect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7640" y="6597720"/>
            <a:ext cx="451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50760" y="5624640"/>
            <a:ext cx="448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81200" y="1720800"/>
            <a:ext cx="468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80840" y="2060640"/>
            <a:ext cx="46558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50760" y="5265720"/>
            <a:ext cx="4486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3080" y="3753000"/>
            <a:ext cx="2394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0520" y="2708280"/>
            <a:ext cx="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73440" y="2822400"/>
            <a:ext cx="12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040920" y="2672280"/>
            <a:ext cx="888840" cy="376200"/>
          </a:xfrm>
          <a:custGeom>
            <a:avLst/>
            <a:gdLst>
              <a:gd name="textAreaLeft" fmla="*/ 195480 w 888840"/>
              <a:gd name="textAreaRight" fmla="*/ 693360 w 888840"/>
              <a:gd name="textAreaTop" fmla="*/ 82800 h 376200"/>
              <a:gd name="textAreaBottom" fmla="*/ 2934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4640" y="3897360"/>
            <a:ext cx="428760" cy="368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76600" y="3500280"/>
            <a:ext cx="311040" cy="273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73240" y="303372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68200" y="2349360"/>
            <a:ext cx="4680" cy="84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4720" y="3773520"/>
            <a:ext cx="0" cy="123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59080" y="3890880"/>
            <a:ext cx="1182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68560" y="2602080"/>
            <a:ext cx="1006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68560" y="2349360"/>
            <a:ext cx="246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43360" y="2995560"/>
            <a:ext cx="3960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4640" y="3141720"/>
            <a:ext cx="465120" cy="268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4720" y="3413160"/>
            <a:ext cx="0" cy="8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3080" y="3414600"/>
            <a:ext cx="0" cy="47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44920" y="3544920"/>
            <a:ext cx="39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7040" y="31147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0/80MHz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2117880" y="2333520"/>
            <a:ext cx="504720" cy="2476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3716280"/>
            <a:ext cx="3960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71760" y="3130560"/>
            <a:ext cx="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81120" y="25844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0520" y="2706840"/>
            <a:ext cx="11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25800" y="2604960"/>
            <a:ext cx="58752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087800" y="2457360"/>
            <a:ext cx="252360" cy="40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995560"/>
            <a:ext cx="16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10080" y="281772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 Master DE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81440" y="2784600"/>
            <a:ext cx="55440" cy="871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13320" y="2637000"/>
            <a:ext cx="923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46400" y="3860640"/>
            <a:ext cx="0" cy="9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048040" y="4464000"/>
            <a:ext cx="14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471400" y="4545000"/>
            <a:ext cx="296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244600" y="4754520"/>
            <a:ext cx="319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48040" y="4968360"/>
            <a:ext cx="33890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0520" y="3139920"/>
            <a:ext cx="11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25800" y="3057480"/>
            <a:ext cx="587520" cy="1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087800" y="2973240"/>
            <a:ext cx="171360" cy="3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440" y="3429000"/>
            <a:ext cx="162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10080" y="325116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x Slave DEL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513320" y="3068640"/>
            <a:ext cx="923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0520" y="3141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1240" y="2744640"/>
            <a:ext cx="91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6840" y="3198960"/>
            <a:ext cx="91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40200" y="3251160"/>
            <a:ext cx="36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24360" y="3033720"/>
            <a:ext cx="36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005080" y="3139920"/>
            <a:ext cx="8244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05440" y="3321000"/>
            <a:ext cx="1159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87800" y="3036960"/>
            <a:ext cx="36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66760" y="2679840"/>
            <a:ext cx="6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KIN 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86320" y="398520"/>
            <a:ext cx="647640" cy="6307200"/>
          </a:xfrm>
          <a:prstGeom prst="rect">
            <a:avLst/>
          </a:prstGeom>
          <a:solidFill>
            <a:srgbClr val="8299f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86320" y="1015920"/>
            <a:ext cx="58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021280" y="620640"/>
            <a:ext cx="365040" cy="343080"/>
            <a:chOff x="5021280" y="620640"/>
            <a:chExt cx="365040" cy="343080"/>
          </a:xfrm>
        </p:grpSpPr>
        <p:sp>
          <p:nvSpPr>
            <p:cNvPr id="290" name=""/>
            <p:cNvSpPr/>
            <p:nvPr/>
          </p:nvSpPr>
          <p:spPr>
            <a:xfrm>
              <a:off x="5021280" y="620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154120" y="784080"/>
              <a:ext cx="9972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38680" y="4292640"/>
            <a:ext cx="365040" cy="342360"/>
            <a:chOff x="4738680" y="4292640"/>
            <a:chExt cx="365040" cy="342360"/>
          </a:xfrm>
        </p:grpSpPr>
        <p:sp>
          <p:nvSpPr>
            <p:cNvPr id="293" name=""/>
            <p:cNvSpPr/>
            <p:nvPr/>
          </p:nvSpPr>
          <p:spPr>
            <a:xfrm>
              <a:off x="4738680" y="4292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871520" y="445572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60640" y="5950080"/>
            <a:ext cx="365040" cy="342360"/>
            <a:chOff x="1160640" y="5950080"/>
            <a:chExt cx="365040" cy="342360"/>
          </a:xfrm>
        </p:grpSpPr>
        <p:sp>
          <p:nvSpPr>
            <p:cNvPr id="296" name=""/>
            <p:cNvSpPr/>
            <p:nvPr/>
          </p:nvSpPr>
          <p:spPr>
            <a:xfrm>
              <a:off x="1160640" y="595008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293480" y="611316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740120" y="4741920"/>
            <a:ext cx="365400" cy="342360"/>
            <a:chOff x="4740120" y="4741920"/>
            <a:chExt cx="365400" cy="342360"/>
          </a:xfrm>
        </p:grpSpPr>
        <p:sp>
          <p:nvSpPr>
            <p:cNvPr id="299" name=""/>
            <p:cNvSpPr/>
            <p:nvPr/>
          </p:nvSpPr>
          <p:spPr>
            <a:xfrm>
              <a:off x="4740120" y="4741920"/>
              <a:ext cx="3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872960" y="490500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905360" y="5013360"/>
            <a:ext cx="363600" cy="342360"/>
            <a:chOff x="4905360" y="5013360"/>
            <a:chExt cx="363600" cy="342360"/>
          </a:xfrm>
        </p:grpSpPr>
        <p:sp>
          <p:nvSpPr>
            <p:cNvPr id="302" name=""/>
            <p:cNvSpPr/>
            <p:nvPr/>
          </p:nvSpPr>
          <p:spPr>
            <a:xfrm>
              <a:off x="4905360" y="501336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037480" y="5176440"/>
              <a:ext cx="99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95560" y="5373720"/>
            <a:ext cx="365040" cy="342360"/>
            <a:chOff x="1195560" y="5373720"/>
            <a:chExt cx="365040" cy="342360"/>
          </a:xfrm>
        </p:grpSpPr>
        <p:sp>
          <p:nvSpPr>
            <p:cNvPr id="305" name=""/>
            <p:cNvSpPr/>
            <p:nvPr/>
          </p:nvSpPr>
          <p:spPr>
            <a:xfrm>
              <a:off x="1195560" y="537372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328400" y="553680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870440" y="4508640"/>
            <a:ext cx="365040" cy="342360"/>
            <a:chOff x="4870440" y="4508640"/>
            <a:chExt cx="365040" cy="342360"/>
          </a:xfrm>
        </p:grpSpPr>
        <p:sp>
          <p:nvSpPr>
            <p:cNvPr id="308" name=""/>
            <p:cNvSpPr/>
            <p:nvPr/>
          </p:nvSpPr>
          <p:spPr>
            <a:xfrm>
              <a:off x="4870440" y="4508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003280" y="467172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285920" y="5013360"/>
            <a:ext cx="23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  ( incl. 2x diff. pairs 2V5 LVD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481040" y="5176800"/>
            <a:ext cx="1000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1738800" y="5487120"/>
            <a:ext cx="336600" cy="25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738800" y="6063480"/>
            <a:ext cx="336600" cy="25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1753200" y="6458400"/>
            <a:ext cx="336600" cy="252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920" y="6138720"/>
            <a:ext cx="365040" cy="250920"/>
            <a:chOff x="6811920" y="6138720"/>
            <a:chExt cx="365040" cy="250920"/>
          </a:xfrm>
        </p:grpSpPr>
        <p:sp>
          <p:nvSpPr>
            <p:cNvPr id="316" name=""/>
            <p:cNvSpPr/>
            <p:nvPr/>
          </p:nvSpPr>
          <p:spPr>
            <a:xfrm>
              <a:off x="6861600" y="6153120"/>
              <a:ext cx="27828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11920" y="613872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566040" y="5951520"/>
            <a:ext cx="79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IAL N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2360" y="5194440"/>
            <a:ext cx="9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D.  RE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800760" y="5662440"/>
            <a:ext cx="365040" cy="250920"/>
            <a:chOff x="6800760" y="5662440"/>
            <a:chExt cx="365040" cy="250920"/>
          </a:xfrm>
        </p:grpSpPr>
        <p:sp>
          <p:nvSpPr>
            <p:cNvPr id="321" name=""/>
            <p:cNvSpPr/>
            <p:nvPr/>
          </p:nvSpPr>
          <p:spPr>
            <a:xfrm>
              <a:off x="6850440" y="5676840"/>
              <a:ext cx="27828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00760" y="566244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799320" y="5373720"/>
            <a:ext cx="365040" cy="250920"/>
            <a:chOff x="6799320" y="5373720"/>
            <a:chExt cx="365040" cy="250920"/>
          </a:xfrm>
        </p:grpSpPr>
        <p:sp>
          <p:nvSpPr>
            <p:cNvPr id="324" name=""/>
            <p:cNvSpPr/>
            <p:nvPr/>
          </p:nvSpPr>
          <p:spPr>
            <a:xfrm>
              <a:off x="6849000" y="5388120"/>
              <a:ext cx="278280" cy="236520"/>
            </a:xfrm>
            <a:prstGeom prst="rect">
              <a:avLst/>
            </a:prstGeom>
            <a:solidFill>
              <a:srgbClr val="00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99320" y="5373720"/>
              <a:ext cx="36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H="1" flipV="1">
            <a:off x="6499080" y="5632200"/>
            <a:ext cx="363600" cy="6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905360" y="6326280"/>
            <a:ext cx="365040" cy="342360"/>
            <a:chOff x="4905360" y="6326280"/>
            <a:chExt cx="365040" cy="342360"/>
          </a:xfrm>
        </p:grpSpPr>
        <p:sp>
          <p:nvSpPr>
            <p:cNvPr id="328" name=""/>
            <p:cNvSpPr/>
            <p:nvPr/>
          </p:nvSpPr>
          <p:spPr>
            <a:xfrm>
              <a:off x="4905360" y="632628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038200" y="648936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454800" y="398520"/>
            <a:ext cx="2036880" cy="33480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54800" y="506520"/>
            <a:ext cx="203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486640" y="549360"/>
            <a:ext cx="32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54800" y="614520"/>
            <a:ext cx="2036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02280" y="557280"/>
            <a:ext cx="498600" cy="7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35640" y="44280"/>
            <a:ext cx="2217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-pin DIL BREAK-OUT HEAD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incl. 4x diff. pairs 2V5 LVDS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461440" y="22536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x POWER 2x GND pi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068880" y="277920"/>
            <a:ext cx="365400" cy="342360"/>
            <a:chOff x="6068880" y="277920"/>
            <a:chExt cx="365400" cy="342360"/>
          </a:xfrm>
        </p:grpSpPr>
        <p:sp>
          <p:nvSpPr>
            <p:cNvPr id="338" name=""/>
            <p:cNvSpPr/>
            <p:nvPr/>
          </p:nvSpPr>
          <p:spPr>
            <a:xfrm>
              <a:off x="6068880" y="277920"/>
              <a:ext cx="3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201720" y="44100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7751880" y="5019840"/>
            <a:ext cx="1176120" cy="34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61400" y="6102360"/>
            <a:ext cx="788760" cy="36972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29640" y="5551560"/>
            <a:ext cx="10296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28000" y="5551560"/>
            <a:ext cx="1000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228160" y="536076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87860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08344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23120" y="6273720"/>
            <a:ext cx="655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072280" y="5376600"/>
            <a:ext cx="0" cy="17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8228160" y="4781520"/>
            <a:ext cx="0" cy="2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885080" y="53733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934400" y="609300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380360" y="4781520"/>
            <a:ext cx="587160" cy="1095480"/>
            <a:chOff x="7380360" y="4781520"/>
            <a:chExt cx="587160" cy="1095480"/>
          </a:xfrm>
        </p:grpSpPr>
        <p:sp>
          <p:nvSpPr>
            <p:cNvPr id="353" name=""/>
            <p:cNvSpPr/>
            <p:nvPr/>
          </p:nvSpPr>
          <p:spPr>
            <a:xfrm>
              <a:off x="7488360" y="4781520"/>
              <a:ext cx="0" cy="10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7432200" y="5356080"/>
              <a:ext cx="109800" cy="200160"/>
            </a:xfrm>
            <a:prstGeom prst="flowChartCollat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80360" y="5553000"/>
              <a:ext cx="587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US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12480" y="4616280"/>
            <a:ext cx="160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3V3 +2V5 +1V8 +1V2 -5V -2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424720" y="5551560"/>
            <a:ext cx="1018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847404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8481960" y="5370480"/>
            <a:ext cx="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796160" y="5049720"/>
            <a:ext cx="103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x  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02280" y="1881360"/>
            <a:ext cx="2176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997760" y="3824280"/>
            <a:ext cx="16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61360" y="3068640"/>
            <a:ext cx="53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695360" y="3129480"/>
            <a:ext cx="1222200" cy="30960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001920" y="3141720"/>
            <a:ext cx="2149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7695360" y="1799280"/>
            <a:ext cx="1222200" cy="30960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7241040" y="3012120"/>
            <a:ext cx="955800" cy="309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7211880" y="1693800"/>
            <a:ext cx="1014480" cy="309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61360" y="1731960"/>
            <a:ext cx="531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72360" y="4616280"/>
            <a:ext cx="3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5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7426080" y="16610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04120" y="873000"/>
            <a:ext cx="141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BASE ADDRESS A&lt;31-24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20000" y="1044720"/>
            <a:ext cx="43164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6566040" y="1182600"/>
            <a:ext cx="358560" cy="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6293520" y="1046520"/>
            <a:ext cx="336600" cy="25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32680" y="1112760"/>
            <a:ext cx="23796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001920" y="4292640"/>
            <a:ext cx="4525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001920" y="4724280"/>
            <a:ext cx="4525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35760" y="4022640"/>
            <a:ext cx="365040" cy="343080"/>
            <a:chOff x="6035760" y="4022640"/>
            <a:chExt cx="365040" cy="343080"/>
          </a:xfrm>
        </p:grpSpPr>
        <p:sp>
          <p:nvSpPr>
            <p:cNvPr id="380" name=""/>
            <p:cNvSpPr/>
            <p:nvPr/>
          </p:nvSpPr>
          <p:spPr>
            <a:xfrm>
              <a:off x="6035760" y="4022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168600" y="4186080"/>
              <a:ext cx="9972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35760" y="4473720"/>
            <a:ext cx="365040" cy="342360"/>
            <a:chOff x="6035760" y="4473720"/>
            <a:chExt cx="365040" cy="342360"/>
          </a:xfrm>
        </p:grpSpPr>
        <p:sp>
          <p:nvSpPr>
            <p:cNvPr id="383" name=""/>
            <p:cNvSpPr/>
            <p:nvPr/>
          </p:nvSpPr>
          <p:spPr>
            <a:xfrm>
              <a:off x="6035760" y="447372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168600" y="463680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392880" y="4149720"/>
            <a:ext cx="78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Mbx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8000" y="656100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MP-UCL,  02 March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840" y="2492280"/>
            <a:ext cx="3366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-58680" y="2930040"/>
            <a:ext cx="33264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0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6480" y="5551560"/>
            <a:ext cx="10152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623440" y="5551560"/>
            <a:ext cx="10296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68032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8680320" y="5373360"/>
            <a:ext cx="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8871120" y="5768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871120" y="53690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7413480" y="312156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967160" y="2529000"/>
            <a:ext cx="1800" cy="12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967520" y="2530440"/>
            <a:ext cx="17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39080" y="3789360"/>
            <a:ext cx="5724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96120" y="5878440"/>
            <a:ext cx="5724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63040" y="4005360"/>
            <a:ext cx="996840" cy="2952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05720" y="4041720"/>
            <a:ext cx="128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 POWER Moni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35760" y="3973680"/>
            <a:ext cx="1438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2800" y="396720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6280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620040" y="944640"/>
            <a:ext cx="365040" cy="342360"/>
            <a:chOff x="6620040" y="944640"/>
            <a:chExt cx="365040" cy="342360"/>
          </a:xfrm>
        </p:grpSpPr>
        <p:sp>
          <p:nvSpPr>
            <p:cNvPr id="406" name=""/>
            <p:cNvSpPr/>
            <p:nvPr/>
          </p:nvSpPr>
          <p:spPr>
            <a:xfrm>
              <a:off x="6620040" y="944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752880" y="110772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397640" y="3897360"/>
            <a:ext cx="365400" cy="342360"/>
            <a:chOff x="7397640" y="3897360"/>
            <a:chExt cx="365400" cy="342360"/>
          </a:xfrm>
        </p:grpSpPr>
        <p:sp>
          <p:nvSpPr>
            <p:cNvPr id="409" name=""/>
            <p:cNvSpPr/>
            <p:nvPr/>
          </p:nvSpPr>
          <p:spPr>
            <a:xfrm>
              <a:off x="7397640" y="3897360"/>
              <a:ext cx="3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530480" y="406044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859960" y="4149720"/>
            <a:ext cx="180720" cy="179280"/>
          </a:xfrm>
          <a:prstGeom prst="flowChartSummingJunction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859960" y="3968640"/>
            <a:ext cx="180720" cy="179640"/>
          </a:xfrm>
          <a:prstGeom prst="flowChartSummingJunction">
            <a:avLst/>
          </a:prstGeom>
          <a:solidFill>
            <a:srgbClr val="ff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45480" y="4138560"/>
            <a:ext cx="1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93200" y="3789360"/>
            <a:ext cx="61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x L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14600" y="0"/>
            <a:ext cx="39654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ATLAS-SCT  “DAVE-1” Programmable VME Module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 M.Goodrick, D.Robinson,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R.Shaw @ University of Cambridge, Cavendish Lab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ff"/>
                </a:solidFill>
                <a:latin typeface="Arial"/>
              </a:rPr>
              <a:t>M.Postranecky, M.Warren @ UC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885080" y="548172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8458200" y="4781520"/>
            <a:ext cx="0" cy="255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659800" y="4781520"/>
            <a:ext cx="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859960" y="47815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800840" y="4781520"/>
            <a:ext cx="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996320" y="4781520"/>
            <a:ext cx="1440" cy="238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8626320" y="4289040"/>
            <a:ext cx="0" cy="266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61520" y="4365720"/>
            <a:ext cx="36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559360" y="4481640"/>
            <a:ext cx="133560" cy="5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23120" y="5913360"/>
            <a:ext cx="157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53560" y="5883120"/>
            <a:ext cx="5688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445600" y="5881680"/>
            <a:ext cx="5688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51880" y="5881680"/>
            <a:ext cx="5724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62800" y="5877000"/>
            <a:ext cx="57240" cy="68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850160" y="5881680"/>
            <a:ext cx="5724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329600" y="3824280"/>
            <a:ext cx="0" cy="2052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322760" y="3825720"/>
            <a:ext cx="70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29600" y="595476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00640" y="5554800"/>
            <a:ext cx="298440" cy="934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66040" y="5388120"/>
            <a:ext cx="365040" cy="342360"/>
            <a:chOff x="6566040" y="5388120"/>
            <a:chExt cx="365040" cy="342360"/>
          </a:xfrm>
        </p:grpSpPr>
        <p:sp>
          <p:nvSpPr>
            <p:cNvPr id="436" name=""/>
            <p:cNvSpPr/>
            <p:nvPr/>
          </p:nvSpPr>
          <p:spPr>
            <a:xfrm>
              <a:off x="6566040" y="538812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698880" y="5551200"/>
              <a:ext cx="9972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566040" y="6146640"/>
            <a:ext cx="365040" cy="343080"/>
            <a:chOff x="6566040" y="6146640"/>
            <a:chExt cx="365040" cy="343080"/>
          </a:xfrm>
        </p:grpSpPr>
        <p:sp>
          <p:nvSpPr>
            <p:cNvPr id="439" name=""/>
            <p:cNvSpPr/>
            <p:nvPr/>
          </p:nvSpPr>
          <p:spPr>
            <a:xfrm>
              <a:off x="6566040" y="614664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698880" y="6310080"/>
              <a:ext cx="9972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>
            <a:off x="6035400" y="5624640"/>
            <a:ext cx="1666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032160" y="6381000"/>
            <a:ext cx="168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67440" y="5769000"/>
            <a:ext cx="565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142800" y="3573360"/>
            <a:ext cx="22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43160" y="34099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76520" y="3206880"/>
            <a:ext cx="0" cy="36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56000" y="3535200"/>
            <a:ext cx="3960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27520" y="1089000"/>
            <a:ext cx="164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Xilinx Spartan3e XC3S1600E-FGG400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2520" y="117468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167520" y="3716280"/>
            <a:ext cx="365040" cy="343080"/>
            <a:chOff x="6167520" y="3716280"/>
            <a:chExt cx="365040" cy="343080"/>
          </a:xfrm>
        </p:grpSpPr>
        <p:sp>
          <p:nvSpPr>
            <p:cNvPr id="451" name=""/>
            <p:cNvSpPr/>
            <p:nvPr/>
          </p:nvSpPr>
          <p:spPr>
            <a:xfrm>
              <a:off x="6167520" y="3716280"/>
              <a:ext cx="36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00360" y="3879720"/>
              <a:ext cx="9972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8820000" y="531720"/>
            <a:ext cx="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0800000">
            <a:off x="8760960" y="707760"/>
            <a:ext cx="109800" cy="199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745480" y="60336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6x FUS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82000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cp:lastPrinted>2010-06-17T14:45:37Z</cp:lastPrinted>
  <dcterms:modified xsi:type="dcterms:W3CDTF">2011-03-02T15:51:53Z</dcterms:modified>
  <cp:revision>51</cp:revision>
  <dc:subject/>
  <dc:title>Slide 1</dc:title>
</cp:coreProperties>
</file>