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82188" cy="674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EEC-DCB8-44BC-8311-50120804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557-A973-4E2B-B6EA-3A9DD5DD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6DC-8507-4FDE-847D-678395B7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E12-7296-47C1-AF03-D635D938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0BA-EC19-43FB-AE0D-32D14CD3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79F-D870-4038-8FCF-CBB9047B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F92-FAB6-46E3-9AC5-DEBA7376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3B9-C21D-4670-A7F9-8B25D40E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61F-ACBE-451B-B14B-5979D7C5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219-7A30-44C6-A8D4-9C6D78EE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296-53FD-41F8-9A57-39D79CAC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943-A21E-44A5-9C43-44909972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F5E9-A6E6-4AC3-8EA7-22CCCE1F6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66800" y="19890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523880"/>
            <a:ext cx="412920" cy="9144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7758000" y="1434960"/>
            <a:ext cx="1520640" cy="577800"/>
          </a:xfrm>
          <a:custGeom>
            <a:avLst/>
            <a:gdLst>
              <a:gd name="textAreaLeft" fmla="*/ 334440 w 1520640"/>
              <a:gd name="textAreaRight" fmla="*/ 1186200 w 1520640"/>
              <a:gd name="textAreaTop" fmla="*/ 127080 h 577800"/>
              <a:gd name="textAreaBottom" fmla="*/ 450720 h 57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5971320" y="4498920"/>
            <a:ext cx="82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90" y="3261"/>
                  <a:pt x="18180" y="5080"/>
                  <a:pt x="18180" y="10800"/>
                </a:cubicBezTo>
                <a:cubicBezTo>
                  <a:pt x="18180" y="16520"/>
                  <a:pt x="19890" y="183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66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3040" y="4876920"/>
            <a:ext cx="608040" cy="609480"/>
          </a:xfrm>
          <a:prstGeom prst="flowChartDelay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5943600"/>
            <a:ext cx="914400" cy="914400"/>
          </a:xfrm>
          <a:prstGeom prst="donut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3040" y="5105520"/>
            <a:ext cx="912960" cy="914400"/>
          </a:xfrm>
          <a:prstGeom prst="donut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33520"/>
            <a:ext cx="381240" cy="380880"/>
          </a:xfrm>
          <a:prstGeom prst="donut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787400"/>
            <a:ext cx="381240" cy="381240"/>
          </a:xfrm>
          <a:prstGeom prst="donut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29120" y="5249880"/>
            <a:ext cx="609840" cy="609480"/>
          </a:xfrm>
          <a:prstGeom prst="flowChartDelay">
            <a:avLst/>
          </a:prstGeom>
          <a:solidFill>
            <a:srgbClr val="ff9966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29120" y="3699000"/>
            <a:ext cx="609840" cy="609480"/>
          </a:xfrm>
          <a:prstGeom prst="flowChartDelay">
            <a:avLst/>
          </a:prstGeom>
          <a:solidFill>
            <a:srgbClr val="ff9966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67520" y="1109520"/>
            <a:ext cx="609480" cy="609840"/>
          </a:xfrm>
          <a:prstGeom prst="flowChartDelay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27520" y="2440080"/>
            <a:ext cx="412920" cy="5587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66800" y="72864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79360"/>
            <a:ext cx="412920" cy="9144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567160" y="472680"/>
            <a:ext cx="180720" cy="165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3760" y="728640"/>
            <a:ext cx="56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w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3760" y="1989000"/>
            <a:ext cx="56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w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67160" y="1719360"/>
            <a:ext cx="18072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2193840"/>
            <a:ext cx="11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LK0 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47880" y="934920"/>
            <a:ext cx="107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LK1 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2664000"/>
            <a:ext cx="1801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7320" y="2438280"/>
            <a:ext cx="83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IM/E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27320" y="1179360"/>
            <a:ext cx="83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IM/E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3240" y="171936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LK0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3240" y="48420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LK1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19680" y="385920"/>
            <a:ext cx="412560" cy="18288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8040" y="124920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w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951440" y="968040"/>
            <a:ext cx="181080" cy="165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32240" y="126828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87880" y="2214720"/>
            <a:ext cx="170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elect Clock 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23000" y="1494000"/>
            <a:ext cx="34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77000" y="1424160"/>
            <a:ext cx="1452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23000" y="1494000"/>
            <a:ext cx="0" cy="94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716440" y="2484000"/>
            <a:ext cx="181080" cy="165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41840" y="2754360"/>
            <a:ext cx="56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w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22880" y="29797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nable CLK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62640" y="1193760"/>
            <a:ext cx="66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LK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67520" y="1279440"/>
            <a:ext cx="56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42400" y="1449360"/>
            <a:ext cx="960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L/M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62120" y="540072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2160" y="4935600"/>
            <a:ext cx="412560" cy="9144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7753320" y="4846320"/>
            <a:ext cx="1521000" cy="577800"/>
          </a:xfrm>
          <a:custGeom>
            <a:avLst/>
            <a:gdLst>
              <a:gd name="textAreaLeft" fmla="*/ 334440 w 1521000"/>
              <a:gd name="textAreaRight" fmla="*/ 1186560 w 1521000"/>
              <a:gd name="textAreaTop" fmla="*/ 127080 h 577800"/>
              <a:gd name="textAreaBottom" fmla="*/ 450720 h 57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66920" y="8288280"/>
            <a:ext cx="609480" cy="609480"/>
          </a:xfrm>
          <a:prstGeom prst="flowChartDelay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4280" y="9354960"/>
            <a:ext cx="914400" cy="914400"/>
          </a:xfrm>
          <a:prstGeom prst="donut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66920" y="8516880"/>
            <a:ext cx="914400" cy="914400"/>
          </a:xfrm>
          <a:prstGeom prst="donut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0600" y="3944880"/>
            <a:ext cx="380880" cy="380880"/>
          </a:xfrm>
          <a:prstGeom prst="donut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0600" y="5199120"/>
            <a:ext cx="380880" cy="380880"/>
          </a:xfrm>
          <a:prstGeom prst="donut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62120" y="414036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3600" y="3691080"/>
            <a:ext cx="412920" cy="9144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62120" y="3884760"/>
            <a:ext cx="18108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57280" y="4140360"/>
            <a:ext cx="56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w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7280" y="5457960"/>
            <a:ext cx="56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w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3240" y="558000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LK0 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3240" y="4336920"/>
            <a:ext cx="111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LK1 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22640" y="5850000"/>
            <a:ext cx="83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IM/E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38560" y="5130720"/>
            <a:ext cx="91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LK0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38560" y="3895560"/>
            <a:ext cx="91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LK1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30680" y="4014720"/>
            <a:ext cx="2318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62520" y="4959360"/>
            <a:ext cx="31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72320" y="4835520"/>
            <a:ext cx="1452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62520" y="4959360"/>
            <a:ext cx="0" cy="584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28000" y="4624560"/>
            <a:ext cx="70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LK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39160" y="4861080"/>
            <a:ext cx="95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L/M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38960" y="5543640"/>
            <a:ext cx="2235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62520" y="4689360"/>
            <a:ext cx="300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62520" y="4014720"/>
            <a:ext cx="0" cy="673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35880" y="5950080"/>
            <a:ext cx="25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Enable CLK0IN ( from FPGA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22520" y="5094360"/>
            <a:ext cx="18108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05200" y="3884760"/>
            <a:ext cx="223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240" y="351936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05200" y="6111720"/>
            <a:ext cx="19940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86560" y="3384720"/>
            <a:ext cx="25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Enable CLK1IN ( from FPGA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240" y="5724360"/>
            <a:ext cx="2235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05200" y="5724360"/>
            <a:ext cx="0" cy="387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05200" y="3525840"/>
            <a:ext cx="0" cy="387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00920" y="6443640"/>
            <a:ext cx="29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P &amp; MW @ UCL, 24-02-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135000" y="1089000"/>
            <a:ext cx="129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33cc"/>
                </a:solidFill>
                <a:uFillTx/>
                <a:latin typeface="Arial"/>
              </a:rPr>
              <a:t>EXISTING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42840" y="4599000"/>
            <a:ext cx="157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3300"/>
                </a:solidFill>
                <a:uFillTx/>
                <a:latin typeface="Arial"/>
              </a:rPr>
              <a:t>SUGGESTED NEW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97520" y="142920"/>
            <a:ext cx="3735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ggested circuit change on DAVE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ee circuit schematics p.5 &amp;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338640"/>
            <a:ext cx="99061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27320" y="4579920"/>
            <a:ext cx="83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IM/E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6:06:34Z</dcterms:created>
  <dc:creator>mp</dc:creator>
  <dc:description/>
  <dc:language>en-US</dc:language>
  <cp:lastModifiedBy>ucapmpo</cp:lastModifiedBy>
  <dcterms:modified xsi:type="dcterms:W3CDTF">2011-02-24T15:41:42Z</dcterms:modified>
  <cp:revision>44</cp:revision>
  <dc:subject/>
  <dc:title>Slide 1</dc:title>
</cp:coreProperties>
</file>