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CEA-E0A5-4253-97FB-102C4A21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071-D849-4347-9759-BB8AA665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A37-FAC9-42D3-85F1-0DCC2B4A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5A4-0774-4570-8C27-60BDD345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0B5-9DF5-4B40-A792-8EBBC794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F79-35D2-4B59-AFC6-4B87B447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17E8-A292-4513-9C0A-CB6A0464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3F9-3793-41C9-8A51-E274B431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34E-0183-4B7D-AD74-78974F78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471-B443-4078-94A2-9B3B8BAE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EFA-DA2E-4B4C-877A-80FF90D7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053-EC5E-450D-B53B-2F333E5D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C451-47A0-4C2F-AE12-24CB6E3BA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1032480" y="957960"/>
            <a:ext cx="309240" cy="273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1024560" y="1275480"/>
            <a:ext cx="309240" cy="273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1038960" y="1678680"/>
            <a:ext cx="309240" cy="272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1036800" y="2000880"/>
            <a:ext cx="309600" cy="273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1045440" y="2399400"/>
            <a:ext cx="309240" cy="272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1043280" y="2721600"/>
            <a:ext cx="309600" cy="273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1042200" y="3120120"/>
            <a:ext cx="309240" cy="272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050120" y="3442680"/>
            <a:ext cx="309600" cy="272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7436160" y="951480"/>
            <a:ext cx="309600" cy="273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7435080" y="1283400"/>
            <a:ext cx="309240" cy="272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7431840" y="1685160"/>
            <a:ext cx="309600" cy="272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7431840" y="2015280"/>
            <a:ext cx="309600" cy="272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7435080" y="2396520"/>
            <a:ext cx="309600" cy="272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7440840" y="2730960"/>
            <a:ext cx="309600" cy="273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7440840" y="3142080"/>
            <a:ext cx="309600" cy="273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1800" y="1096920"/>
            <a:ext cx="29052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0360" y="1816200"/>
            <a:ext cx="29052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6840" y="2536920"/>
            <a:ext cx="29052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7120" y="3273480"/>
            <a:ext cx="29052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39040" y="1092240"/>
            <a:ext cx="29052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54880" y="2546280"/>
            <a:ext cx="29052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52000" y="1830240"/>
            <a:ext cx="29052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61360" y="3295800"/>
            <a:ext cx="29052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7439760" y="3474360"/>
            <a:ext cx="309600" cy="272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08320" y="5961240"/>
            <a:ext cx="571320" cy="2044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6320" y="5973840"/>
            <a:ext cx="588960" cy="191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16440" y="5958000"/>
            <a:ext cx="227628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08720" y="5965920"/>
            <a:ext cx="227664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24200" y="2932200"/>
            <a:ext cx="588960" cy="19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6680" y="933480"/>
            <a:ext cx="2032200" cy="3224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2839680" y="3498840"/>
            <a:ext cx="889200" cy="377640"/>
          </a:xfrm>
          <a:custGeom>
            <a:avLst/>
            <a:gdLst>
              <a:gd name="textAreaLeft" fmla="*/ 195480 w 889200"/>
              <a:gd name="textAreaRight" fmla="*/ 693720 w 889200"/>
              <a:gd name="textAreaTop" fmla="*/ 82800 h 377640"/>
              <a:gd name="textAreaBottom" fmla="*/ 294840 h 37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83000" y="4514760"/>
            <a:ext cx="4302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24200" y="3344760"/>
            <a:ext cx="588960" cy="192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78160" y="5256360"/>
            <a:ext cx="4302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33760" y="4118040"/>
            <a:ext cx="309600" cy="272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47880" y="105408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69960" y="1244160"/>
            <a:ext cx="2746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47880" y="1049400"/>
            <a:ext cx="96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44640" y="1434960"/>
            <a:ext cx="9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68400" y="177804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46200" y="1968120"/>
            <a:ext cx="317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68400" y="1773360"/>
            <a:ext cx="11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63720" y="2158920"/>
            <a:ext cx="11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968400" y="2496600"/>
            <a:ext cx="0" cy="3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46200" y="2687760"/>
            <a:ext cx="3175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68400" y="2492280"/>
            <a:ext cx="11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63720" y="2878200"/>
            <a:ext cx="11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968400" y="321804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46200" y="3408480"/>
            <a:ext cx="3175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68400" y="3213000"/>
            <a:ext cx="11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63720" y="3598920"/>
            <a:ext cx="11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340760" y="18097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08880" y="2006640"/>
            <a:ext cx="726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40760" y="1805040"/>
            <a:ext cx="11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35720" y="2190600"/>
            <a:ext cx="1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56640" y="1066680"/>
            <a:ext cx="0" cy="34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860960" y="1239120"/>
            <a:ext cx="4777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745040" y="1414440"/>
            <a:ext cx="11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746840" y="1076400"/>
            <a:ext cx="1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340760" y="25081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13560" y="2698920"/>
            <a:ext cx="72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40760" y="2503440"/>
            <a:ext cx="11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35720" y="2889360"/>
            <a:ext cx="1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340760" y="10573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08880" y="1239840"/>
            <a:ext cx="72684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40760" y="1052640"/>
            <a:ext cx="11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35720" y="1438200"/>
            <a:ext cx="1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40760" y="32497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4360" y="3429000"/>
            <a:ext cx="171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40760" y="3244680"/>
            <a:ext cx="11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35720" y="3630600"/>
            <a:ext cx="1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56640" y="18043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860960" y="1994040"/>
            <a:ext cx="477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745400" y="216864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746840" y="1819440"/>
            <a:ext cx="11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51600" y="2548080"/>
            <a:ext cx="0" cy="34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854480" y="2708280"/>
            <a:ext cx="50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740720" y="287352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41800" y="2540160"/>
            <a:ext cx="11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53400" y="3280680"/>
            <a:ext cx="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7860960" y="3443040"/>
            <a:ext cx="50004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741800" y="3614760"/>
            <a:ext cx="11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743600" y="3294000"/>
            <a:ext cx="11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19120" y="1076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424160" y="1233360"/>
            <a:ext cx="314784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324080" y="1414440"/>
            <a:ext cx="9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25520" y="1089000"/>
            <a:ext cx="9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17680" y="1808280"/>
            <a:ext cx="0" cy="3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420560" y="1974960"/>
            <a:ext cx="31510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293480" y="2131920"/>
            <a:ext cx="12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94920" y="1820880"/>
            <a:ext cx="12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2880" y="2530440"/>
            <a:ext cx="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436400" y="2703600"/>
            <a:ext cx="313524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332000" y="288432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333080" y="2543040"/>
            <a:ext cx="11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33520" y="324720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436760" y="3416400"/>
            <a:ext cx="16588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332000" y="3575160"/>
            <a:ext cx="10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333080" y="3260880"/>
            <a:ext cx="1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771640" y="364500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71640" y="3630600"/>
            <a:ext cx="0" cy="48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4390920"/>
            <a:ext cx="0" cy="12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92360" y="5589360"/>
            <a:ext cx="0" cy="369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65640" y="4157280"/>
            <a:ext cx="1854000" cy="1792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40360" y="4157280"/>
            <a:ext cx="576360" cy="1792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264360" y="4157280"/>
            <a:ext cx="503280" cy="1808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887640" y="2846520"/>
            <a:ext cx="252720" cy="36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87640" y="3174840"/>
            <a:ext cx="252720" cy="40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13160" y="3068640"/>
            <a:ext cx="25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13160" y="3500280"/>
            <a:ext cx="25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0360" y="3022560"/>
            <a:ext cx="0" cy="141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0360" y="302256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00360" y="346536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73280" y="3645000"/>
            <a:ext cx="12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95680" y="3860640"/>
            <a:ext cx="9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0360" y="4440240"/>
            <a:ext cx="356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164360" y="3424320"/>
            <a:ext cx="0" cy="10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08360" y="4157640"/>
            <a:ext cx="2016000" cy="1287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12800" y="2960640"/>
            <a:ext cx="258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312800" y="3392640"/>
            <a:ext cx="258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404640"/>
            <a:ext cx="2036880" cy="335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12640"/>
            <a:ext cx="2036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256360" y="584280"/>
            <a:ext cx="0" cy="355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620640"/>
            <a:ext cx="2036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940360" y="512280"/>
            <a:ext cx="0" cy="4273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5013360"/>
            <a:ext cx="7207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63720" y="5950080"/>
            <a:ext cx="631800" cy="35064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4616280"/>
            <a:ext cx="10188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68360" y="4616280"/>
            <a:ext cx="10152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08000" y="4616280"/>
            <a:ext cx="10152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57400" y="5553000"/>
            <a:ext cx="10152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09080" y="5589720"/>
            <a:ext cx="10152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61320" y="5586480"/>
            <a:ext cx="10620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589720"/>
            <a:ext cx="10152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4000" y="57700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224000" y="5381640"/>
            <a:ext cx="0" cy="17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1042560" y="483408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223640" y="483408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402920" y="483408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223640" y="4437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402920" y="4437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042560" y="4437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7584840" y="5793840"/>
            <a:ext cx="1116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7908480" y="580392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8243640" y="5769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8243640" y="5409720"/>
            <a:ext cx="1116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902720" y="5407200"/>
            <a:ext cx="108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559280" y="5409720"/>
            <a:ext cx="1116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080" y="3573360"/>
            <a:ext cx="74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CLK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81000" y="360828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CLK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1760" y="4616280"/>
            <a:ext cx="1182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-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.15733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4184640"/>
            <a:ext cx="47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3460680"/>
            <a:ext cx="100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72000" y="35002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0" y="692280"/>
            <a:ext cx="103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xLEMO-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29800" y="765000"/>
            <a:ext cx="86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xLEMO-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88360" y="800280"/>
            <a:ext cx="5000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8000" y="20829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81920" y="1376280"/>
            <a:ext cx="10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20000" y="2104920"/>
            <a:ext cx="112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00" y="138420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56720" y="285768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TRIGG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889360"/>
            <a:ext cx="117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VETO/BC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64280" y="5983200"/>
            <a:ext cx="9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- J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64600" y="60213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- J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17600" y="5950080"/>
            <a:ext cx="72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58360" y="5324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14680" y="5973840"/>
            <a:ext cx="588960" cy="191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79640" y="5472000"/>
            <a:ext cx="376200" cy="4780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5956200"/>
            <a:ext cx="79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-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76440" y="5950080"/>
            <a:ext cx="79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-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0160" y="591336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.        +5V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12680" y="5079960"/>
            <a:ext cx="6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C-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5680" y="4624560"/>
            <a:ext cx="83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24280" y="554976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81920" y="4245120"/>
            <a:ext cx="4302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05760" y="4330800"/>
            <a:ext cx="4302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21680" y="4440240"/>
            <a:ext cx="4302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10600" y="4581360"/>
            <a:ext cx="430200" cy="36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8412120" y="4676760"/>
            <a:ext cx="239760" cy="1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64280" y="4245120"/>
            <a:ext cx="124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21480" y="4941720"/>
            <a:ext cx="180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A16-31 PRE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70160" y="371520"/>
            <a:ext cx="43020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244680" y="441000"/>
            <a:ext cx="23976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0080" y="739800"/>
            <a:ext cx="1231920" cy="3571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27280" y="441360"/>
            <a:ext cx="100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X 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4360" y="260280"/>
            <a:ext cx="23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16720" y="4046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 BREAK-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62440" y="1566720"/>
            <a:ext cx="164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PGA &amp; P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72360" y="5237280"/>
            <a:ext cx="133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5V  +12V  -12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7120" y="4149720"/>
            <a:ext cx="137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3V3 +2V5 +1V8 -5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672920" y="5121360"/>
            <a:ext cx="588636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47640" y="4616280"/>
            <a:ext cx="10188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584000" y="483408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584000" y="4437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9640" y="5121360"/>
            <a:ext cx="0" cy="13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49440" y="368280"/>
            <a:ext cx="43020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55720" y="747720"/>
            <a:ext cx="1916280" cy="80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24000" y="728640"/>
            <a:ext cx="2448000" cy="104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9800" y="368280"/>
            <a:ext cx="43020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8000" y="404640"/>
            <a:ext cx="3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03640" y="404640"/>
            <a:ext cx="70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770040"/>
            <a:ext cx="5000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280" y="6437160"/>
            <a:ext cx="42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 u="sng">
                <a:solidFill>
                  <a:srgbClr val="0033cc"/>
                </a:solidFill>
                <a:uFillTx/>
                <a:latin typeface="Arial"/>
              </a:rPr>
              <a:t>ATLAS-SCT  DAVE VME Board Draft 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645336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33cc"/>
                </a:solidFill>
                <a:uFillTx/>
                <a:latin typeface="Arial"/>
              </a:rPr>
              <a:t>MP-UCL, 25-03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6613200" y="3933360"/>
            <a:ext cx="1368360" cy="5065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73040" y="368280"/>
            <a:ext cx="347760" cy="358920"/>
          </a:xfrm>
          <a:prstGeom prst="flowChartSummingJunction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1595160" y="727200"/>
            <a:ext cx="2981160" cy="1573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404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6x L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08360" y="5381640"/>
            <a:ext cx="121140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5381640"/>
            <a:ext cx="122400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65640" y="5381640"/>
            <a:ext cx="92700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84720" y="53802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10880" y="535932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47040" y="538020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4:48:38Z</dcterms:created>
  <dc:creator>ucapmpo</dc:creator>
  <dc:description/>
  <dc:language>en-US</dc:language>
  <cp:lastModifiedBy>ucapmpo</cp:lastModifiedBy>
  <dcterms:modified xsi:type="dcterms:W3CDTF">2010-03-25T17:40:23Z</dcterms:modified>
  <cp:revision>12</cp:revision>
  <dc:subject/>
  <dc:title>Slide 1</dc:title>
</cp:coreProperties>
</file>