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46875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043-8EBD-42E7-AC89-8C1E7A896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FF7-B2D7-4A06-BACE-848C96D8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6A4-8A33-4E6B-863E-C43572CE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EE5-DB89-4583-89A9-29203F64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B30-4A72-4B20-84E5-3582C3D6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33C-8D3A-45C6-90C9-68F24B15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D40-42B4-460A-B98C-A3FE5038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C92-4AA3-4745-AF7E-D60DB2A9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17F-F950-48E0-9F5C-3480B764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5E3-95A7-429C-B85E-92B6EF64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C1C-2972-4BAF-9AC5-3C085910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BA5-D928-40B9-9E0C-F6D68F90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54A8-6130-454B-8F33-C2BEC3DD29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5400000">
            <a:off x="1131840" y="946080"/>
            <a:ext cx="309240" cy="296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5400000">
            <a:off x="1123200" y="126432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1139040" y="166752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1136160" y="1989000"/>
            <a:ext cx="309600" cy="297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1145160" y="2388240"/>
            <a:ext cx="309240" cy="2955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1143720" y="271080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1142280" y="3108960"/>
            <a:ext cx="30924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1150200" y="343152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8068680" y="939600"/>
            <a:ext cx="309600" cy="297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8067600" y="1271520"/>
            <a:ext cx="309240" cy="2966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5400000">
            <a:off x="8063640" y="167400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8063640" y="200412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8067600" y="2384640"/>
            <a:ext cx="309600" cy="296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8074800" y="272016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8074800" y="3131280"/>
            <a:ext cx="309600" cy="2952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040" y="1096920"/>
            <a:ext cx="3142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0600" y="181620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2536920"/>
            <a:ext cx="3160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7360" y="327348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34560" y="109224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051840" y="2546280"/>
            <a:ext cx="3142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47160" y="1830240"/>
            <a:ext cx="316080" cy="30024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58320" y="3295800"/>
            <a:ext cx="314280" cy="299880"/>
          </a:xfrm>
          <a:prstGeom prst="donut">
            <a:avLst>
              <a:gd name="adj" fmla="val 25000"/>
            </a:avLst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8072640" y="3462840"/>
            <a:ext cx="309600" cy="295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0200" y="5961240"/>
            <a:ext cx="619200" cy="2044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00480" y="5973840"/>
            <a:ext cx="638280" cy="191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43320" y="5958000"/>
            <a:ext cx="246528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42240" y="5965920"/>
            <a:ext cx="246672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35600" y="2852640"/>
            <a:ext cx="636480" cy="19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57920" y="933480"/>
            <a:ext cx="2201760" cy="3224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3113640" y="3483720"/>
            <a:ext cx="889200" cy="407880"/>
          </a:xfrm>
          <a:custGeom>
            <a:avLst/>
            <a:gdLst>
              <a:gd name="textAreaLeft" fmla="*/ 195480 w 889200"/>
              <a:gd name="textAreaRight" fmla="*/ 693720 w 889200"/>
              <a:gd name="textAreaTop" fmla="*/ 89640 h 407880"/>
              <a:gd name="textAreaBottom" fmla="*/ 318240 h 40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98640" y="451476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5600" y="3429000"/>
            <a:ext cx="636480" cy="192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76520" y="525636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52640" y="4118040"/>
            <a:ext cx="336600" cy="272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027080" y="105408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5400" y="1244160"/>
            <a:ext cx="29844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27080" y="1049400"/>
            <a:ext cx="104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23840" y="1434960"/>
            <a:ext cx="10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049400" y="17780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00200" y="1968120"/>
            <a:ext cx="344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9400" y="177336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4720" y="215892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049400" y="2496600"/>
            <a:ext cx="0" cy="3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00200" y="2687760"/>
            <a:ext cx="3445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49400" y="249228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44720" y="28782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049400" y="321804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00200" y="3408480"/>
            <a:ext cx="3445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9400" y="321300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44720" y="359892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951680" y="18097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59680" y="2006640"/>
            <a:ext cx="78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1680" y="18050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47000" y="21906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10760" y="1066680"/>
            <a:ext cx="0" cy="34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516880" y="1239120"/>
            <a:ext cx="51768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391240" y="141444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393040" y="10764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951680" y="25081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4360" y="269892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51680" y="25034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947000" y="288936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7951680" y="10573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59680" y="1239840"/>
            <a:ext cx="7873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1680" y="105264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47000" y="14382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951680" y="3249720"/>
            <a:ext cx="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61240" y="3429000"/>
            <a:ext cx="185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1680" y="324468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47000" y="36306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510760" y="18043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516880" y="1994040"/>
            <a:ext cx="517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391600" y="2168640"/>
            <a:ext cx="11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393040" y="1819440"/>
            <a:ext cx="12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505720" y="2548080"/>
            <a:ext cx="0" cy="34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508960" y="2708280"/>
            <a:ext cx="542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384760" y="287352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386560" y="2540160"/>
            <a:ext cx="12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507520" y="3280680"/>
            <a:ext cx="0" cy="328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8516880" y="3443040"/>
            <a:ext cx="54144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8386560" y="3614760"/>
            <a:ext cx="120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8389800" y="3294000"/>
            <a:ext cx="123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38280" y="1076400"/>
            <a:ext cx="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1542960" y="1233360"/>
            <a:ext cx="3409920" cy="1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434600" y="1414440"/>
            <a:ext cx="103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436400" y="1089000"/>
            <a:ext cx="10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35040" y="1808280"/>
            <a:ext cx="0" cy="3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539360" y="1974960"/>
            <a:ext cx="34131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401840" y="2131920"/>
            <a:ext cx="13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402920" y="1820880"/>
            <a:ext cx="136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63840" y="2530440"/>
            <a:ext cx="0" cy="349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1555920" y="2703600"/>
            <a:ext cx="339696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442520" y="2884320"/>
            <a:ext cx="119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444320" y="2543040"/>
            <a:ext cx="122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52680" y="324720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555920" y="3416400"/>
            <a:ext cx="179856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442520" y="3575160"/>
            <a:ext cx="10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444320" y="3260880"/>
            <a:ext cx="11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03120" y="3645000"/>
            <a:ext cx="35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998440" y="3176280"/>
            <a:ext cx="4680" cy="94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03480" y="4390920"/>
            <a:ext cx="0" cy="12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808360" y="5589360"/>
            <a:ext cx="0" cy="3697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646440" y="4157280"/>
            <a:ext cx="2008080" cy="17924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460840" y="4157280"/>
            <a:ext cx="623880" cy="17924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786720" y="4157280"/>
            <a:ext cx="544320" cy="18082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11640" y="2744280"/>
            <a:ext cx="272880" cy="366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211640" y="3281040"/>
            <a:ext cx="27288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72080" y="2997360"/>
            <a:ext cx="28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72080" y="3573360"/>
            <a:ext cx="280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00600" y="3537000"/>
            <a:ext cx="0" cy="90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00600" y="296064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00600" y="353700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360" y="3645000"/>
            <a:ext cx="1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95560" y="386064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00600" y="4440240"/>
            <a:ext cx="3860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761240" y="3424320"/>
            <a:ext cx="0" cy="10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041640" y="4157640"/>
            <a:ext cx="2184480" cy="1287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4672080" y="2889360"/>
            <a:ext cx="280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72080" y="3465360"/>
            <a:ext cx="280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33360"/>
            <a:ext cx="2206800" cy="33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441360"/>
            <a:ext cx="2206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654520" y="504360"/>
            <a:ext cx="0" cy="43524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52880" y="549360"/>
            <a:ext cx="22068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435720" y="404280"/>
            <a:ext cx="0" cy="5353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52640" y="5013360"/>
            <a:ext cx="7808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4720" y="5950080"/>
            <a:ext cx="684000" cy="35064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5920" y="4616280"/>
            <a:ext cx="1112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82840" y="4616280"/>
            <a:ext cx="1094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92240" y="4616280"/>
            <a:ext cx="10944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254240" y="5553000"/>
            <a:ext cx="1094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893080" y="5589720"/>
            <a:ext cx="10980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516880" y="5586480"/>
            <a:ext cx="11448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51840" y="5589720"/>
            <a:ext cx="109440" cy="21744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325520" y="5770080"/>
            <a:ext cx="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325520" y="5381640"/>
            <a:ext cx="0" cy="171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1130040" y="483408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1325160" y="483408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1521000" y="4834080"/>
            <a:ext cx="108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1325160" y="443700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521000" y="4437000"/>
            <a:ext cx="108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1130040" y="4437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8216640" y="5793840"/>
            <a:ext cx="1260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8567640" y="5803920"/>
            <a:ext cx="129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8930880" y="57690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8930880" y="5409720"/>
            <a:ext cx="1116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8561160" y="5407200"/>
            <a:ext cx="1116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8189640" y="5409720"/>
            <a:ext cx="11160" cy="17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" y="3573360"/>
            <a:ext cx="80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CLK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62120" y="3608280"/>
            <a:ext cx="744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CLK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86080" y="461628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-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0.15733MH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68760" y="4184640"/>
            <a:ext cx="51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98800" y="3429000"/>
            <a:ext cx="1090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P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78360" y="3579840"/>
            <a:ext cx="78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692280"/>
            <a:ext cx="112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...x 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98320" y="76500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…x LEMO-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12240" y="800280"/>
            <a:ext cx="541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360" y="2082960"/>
            <a:ext cx="8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47200" y="1376280"/>
            <a:ext cx="110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580600" y="210492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7360" y="1384200"/>
            <a:ext cx="89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Spar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20200" y="2857680"/>
            <a:ext cx="120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TRIGG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89360"/>
            <a:ext cx="12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66"/>
                </a:solidFill>
                <a:latin typeface="Arial"/>
              </a:rPr>
              <a:t>VETO/BC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53240" y="5983200"/>
            <a:ext cx="100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- J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90120" y="60213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- J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01920" y="5950080"/>
            <a:ext cx="78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72560" y="532440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57240" y="5973840"/>
            <a:ext cx="638280" cy="1918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144880" y="5472000"/>
            <a:ext cx="407880" cy="47808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59000" y="595620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08200" y="5950080"/>
            <a:ext cx="8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-TA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0000" y="5913360"/>
            <a:ext cx="89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.        +5V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6920" y="5079960"/>
            <a:ext cx="7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C-D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920" y="462456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43200" y="554976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47200" y="4365720"/>
            <a:ext cx="4665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82200" y="446580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907480" y="4573440"/>
            <a:ext cx="465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002880" y="4681440"/>
            <a:ext cx="4665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9113760" y="4760640"/>
            <a:ext cx="25884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85240" y="4076640"/>
            <a:ext cx="14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-bit SERIAL No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48600" y="5013360"/>
            <a:ext cx="19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ME A16-31 PRE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33680" y="371520"/>
            <a:ext cx="46692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514680" y="441000"/>
            <a:ext cx="260280" cy="191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18000" y="739800"/>
            <a:ext cx="1334880" cy="3571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21040" y="441360"/>
            <a:ext cx="108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X 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61240" y="260280"/>
            <a:ext cx="257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67160" y="123840"/>
            <a:ext cx="148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L BREAK-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59520" y="1566720"/>
            <a:ext cx="178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PGA &amp; P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78600" y="5237280"/>
            <a:ext cx="144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5V  +12V  -12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36920" y="4149720"/>
            <a:ext cx="137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3V3 +2V5 +1V8 -5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812960" y="5121360"/>
            <a:ext cx="637704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616280"/>
            <a:ext cx="110880" cy="217800"/>
          </a:xfrm>
          <a:prstGeom prst="flowChartCollat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715760" y="483408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1715760" y="4437000"/>
            <a:ext cx="12600" cy="17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190000" y="5121360"/>
            <a:ext cx="0" cy="13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54280" y="368280"/>
            <a:ext cx="46512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76400" y="747720"/>
            <a:ext cx="2076480" cy="8096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01840" y="728640"/>
            <a:ext cx="2651040" cy="1044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68560" y="368280"/>
            <a:ext cx="466560" cy="368280"/>
          </a:xfrm>
          <a:prstGeom prst="rect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66760" y="4046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95520" y="404640"/>
            <a:ext cx="76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30400" y="770040"/>
            <a:ext cx="5410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760" y="64371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33cc"/>
                </a:solidFill>
                <a:uFillTx/>
                <a:latin typeface="Arial"/>
              </a:rPr>
              <a:t>ATLAS-SCT  DAVE VME Board Draft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48240" y="6477120"/>
            <a:ext cx="34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 u="sng">
                <a:solidFill>
                  <a:srgbClr val="0033cc"/>
                </a:solidFill>
                <a:uFillTx/>
                <a:latin typeface="Arial"/>
              </a:rPr>
              <a:t>MP, MW - UCL, 28-03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7159320" y="4076640"/>
            <a:ext cx="1500120" cy="496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487520" y="368280"/>
            <a:ext cx="376200" cy="358920"/>
          </a:xfrm>
          <a:prstGeom prst="flowChartSummingJunction">
            <a:avLst/>
          </a:prstGeom>
          <a:solidFill>
            <a:srgbClr val="00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1728720" y="727200"/>
            <a:ext cx="3229200" cy="15732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41240" y="40464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6…x LE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92840" y="5381640"/>
            <a:ext cx="131256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91240" y="5381640"/>
            <a:ext cx="132732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46440" y="5381640"/>
            <a:ext cx="1003320" cy="2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66960" y="5380200"/>
            <a:ext cx="85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969600" y="535932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75800" y="5380200"/>
            <a:ext cx="6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141680" y="476280"/>
            <a:ext cx="47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84880" y="260280"/>
            <a:ext cx="1022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 POWER and GND r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98800" y="3176640"/>
            <a:ext cx="1954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48160" y="4040280"/>
            <a:ext cx="14047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08520" y="2529000"/>
            <a:ext cx="10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90880" y="2529000"/>
            <a:ext cx="0" cy="44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624880" y="3816360"/>
            <a:ext cx="466560" cy="301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726400" y="3860640"/>
            <a:ext cx="258840" cy="1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7159680" y="3823920"/>
            <a:ext cx="1465200" cy="144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148520" y="3429000"/>
            <a:ext cx="78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78280" y="3833640"/>
            <a:ext cx="61920" cy="68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78280" y="3608280"/>
            <a:ext cx="60480" cy="874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73240" y="3608280"/>
            <a:ext cx="42840" cy="7308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724880" y="3411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481960" y="342756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1960" y="267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02480" y="1986120"/>
            <a:ext cx="5112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02480" y="1230480"/>
            <a:ext cx="5112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26480" y="123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926480" y="198612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926480" y="267012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926480" y="342756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17760" y="119700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17760" y="195120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31800" y="267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31800" y="339084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92160" y="123048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14480" y="1951200"/>
            <a:ext cx="50760" cy="378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14480" y="339084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14480" y="2673360"/>
            <a:ext cx="50760" cy="381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4:48:38Z</dcterms:created>
  <dc:creator>ucapmpo</dc:creator>
  <dc:description/>
  <dc:language>en-US</dc:language>
  <cp:lastModifiedBy>ucapmpo</cp:lastModifiedBy>
  <cp:lastPrinted>2010-06-17T14:45:37Z</cp:lastPrinted>
  <dcterms:modified xsi:type="dcterms:W3CDTF">2010-06-17T14:46:27Z</dcterms:modified>
  <cp:revision>16</cp:revision>
  <dc:subject/>
  <dc:title>Slide 1</dc:title>
</cp:coreProperties>
</file>