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8A2-237B-4464-8109-56558BFD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8C5-62BD-4D9C-9323-7CA180B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A5D-159B-43BE-B08D-F7FDE258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7D5-D5B9-4BF9-8B2E-34DCECB9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FBF-8336-44D9-8828-A7FF57AC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CA7-4A46-492D-830A-6D5F535E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31D-5C05-4024-887E-AEE39DE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87B-8CAE-42AD-8C20-54D4FD12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366-94AE-4852-B116-A8D8FAA4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78C-350B-43A5-97C8-3F885DB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684-FD75-40C4-94AE-ED2C4DE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FB7-E3EB-41C1-A727-C277B7A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17CA-4752-4B22-B25C-989649A2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LAS-SCT  TIM 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Arial Black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Arial Black"/>
              </a:rPr>
              <a:t>TC ( Timing, Trigger and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Arial Black"/>
              </a:rPr>
              <a:t>    </a:t>
            </a: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Arial Black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Arial Black"/>
              </a:rPr>
              <a:t>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Arial Black"/>
              </a:rPr>
              <a:t>	</a:t>
            </a: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Arial Black"/>
              </a:rPr>
              <a:t>   </a:t>
            </a: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Arial Black"/>
              </a:rPr>
              <a:t>M</a:t>
            </a:r>
            <a:r>
              <a:rPr b="0" lang="en-US" sz="1600" spc="-1" strike="noStrike">
                <a:solidFill>
                  <a:srgbClr val="0033cc"/>
                </a:solidFill>
                <a:latin typeface="Arial Black"/>
              </a:rPr>
              <a:t>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clock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C   Bunch Crossing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fast comman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1A  Level-1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R  Event Counter Res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CR  Bunch Counter 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  Calibrate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  Front End 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event I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1ID 24-bit Level-1 trigger 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CID 12-bit Bunch Crossing 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TID  8-bit Trigger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he TIM transmits the clock, fast commands and event ID from the TTC system to the RODs. The clock is sent via the back-of-crate (BOC) opto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he TIM passes the Busy from the RODs via a Busy module to the CTP in order to stop it sending trig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he TIM can send stand-alone clock, fast commands and event ID to the RODs under control of the loc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The TIM is configured by the local processor setting up its registers. They can be inspected by the loc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Ref: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http://www.hep.ucl.ac.uk/~jbl/SCT/TIM_overview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http://www.hep.ucl.ac.uk/atlas/sct/tim/TIM_essential_model.p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http://www.hep.ucl.ac.uk/atlas/sct/tim/TIM_context.p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CT TTC Syst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The SCT has been allocated 4 partitions, each capable of running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The TTCvi module receives global ATLAS Level-1 signals such as the LHC clock and Level-1 Accept triggers. It can be programmed to generate SCT specific signals like Front-End Reset and Calibrate, and to run stand-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With only two ROD crates per partition, we expect to use a TTC VME transmitter (TTCvx) module instead of a TTC transmitter c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TTCex encoder/transmitter module delivers the optimum optical sig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The ROD Busy signals are combined into a Busy signal per partition, and then into the SCT Busy to the CTP in order to stop it sending triggers. Note that a partition Busy signal is input to both the SCT Busy and the Local Trigger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ef :  </a:t>
            </a: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http://www.hep.ucl.ac.uk/atlas/sct/tim/SCT_Partitions_TTC_Bus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5:25Z</dcterms:created>
  <dc:creator>mp</dc:creator>
  <dc:description/>
  <dc:language>en-US</dc:language>
  <cp:lastModifiedBy>mp</cp:lastModifiedBy>
  <dcterms:modified xsi:type="dcterms:W3CDTF">2004-06-16T16:24:25Z</dcterms:modified>
  <cp:revision>7</cp:revision>
  <dc:subject/>
  <dc:title>ATLAS-SCT  TIM  OVERVIEW</dc:title>
</cp:coreProperties>
</file>