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66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556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0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66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556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240" y="92160"/>
            <a:ext cx="77281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66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556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80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66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556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240" y="92160"/>
            <a:ext cx="77281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9772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52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gradFill rotWithShape="0">
            <a:gsLst>
              <a:gs pos="0">
                <a:srgbClr val="3a525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12000" cy="63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17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2864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8000" y="6649920"/>
            <a:ext cx="9921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9506b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506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6920" y="6649920"/>
            <a:ext cx="66978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9506b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9506b"/>
                </a:solidFill>
                <a:latin typeface="Century School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615360"/>
            <a:ext cx="239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453-3C41-468C-BCFF-8D5B74846218}" type="slidenum">
              <a:rPr b="1" lang="en-US" sz="1400" spc="-1" strike="noStrike">
                <a:solidFill>
                  <a:srgbClr val="29506b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364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192720"/>
            <a:ext cx="9144000" cy="7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52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989000"/>
          </a:xfrm>
          <a:prstGeom prst="rect">
            <a:avLst/>
          </a:prstGeom>
          <a:gradFill rotWithShape="0">
            <a:gsLst>
              <a:gs pos="0">
                <a:srgbClr val="3a525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8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496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Georgia"/>
              </a:rPr>
              <a:t>Tracker Upgrade Electronics,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Georgia"/>
              </a:rPr>
              <a:t>Readout and DAQ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3068280"/>
            <a:ext cx="8496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4520" y="60213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t War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eorgia"/>
              </a:rPr>
              <a:t>The End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eorgia"/>
              </a:rPr>
              <a:t>ATLAS Event Data Flow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4895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data a stored on-detector in pipelines waiting for trigg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o/Muon data is used directly by Level-1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evel-1 Accept (L1A) is distributed 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 send data from pipeline off-detector to ReadOut Drivers (R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s assemble event fragments and forward to ReadOut Buffers (R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5126" t="0" r="628" b="648"/>
          <a:stretch/>
        </p:blipFill>
        <p:spPr>
          <a:xfrm>
            <a:off x="4932360" y="981000"/>
            <a:ext cx="4211640" cy="561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eorgia"/>
              </a:rPr>
              <a:t>The existing SCT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5472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0 individual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2 ASICs per module (us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module has bi-dir opt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0m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ck/contro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s connected to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s build event fragments and send to 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s receive Timing, Trigger and Control (TTC) signals and distribute 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no fast path, no ‘early da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37440" y="3500280"/>
            <a:ext cx="1008000" cy="1008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7a9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37440" y="5013360"/>
            <a:ext cx="1008000" cy="100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399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88360" y="4797360"/>
            <a:ext cx="1008000" cy="1008000"/>
          </a:xfrm>
          <a:prstGeom prst="rect">
            <a:avLst/>
          </a:prstGeom>
          <a:gradFill rotWithShape="0">
            <a:gsLst>
              <a:gs pos="0">
                <a:srgbClr val="ff8c75"/>
              </a:gs>
              <a:gs pos="100000">
                <a:srgbClr val="c86d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a T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345440" y="4365360"/>
            <a:ext cx="503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69080" y="292428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0" y="292428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0360" y="4508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96000" y="836640"/>
            <a:ext cx="2808360" cy="2151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0360" y="6021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1916280"/>
            <a:ext cx="1008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eorgia"/>
              </a:rPr>
              <a:t>An Upgraded Tracker Design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728640"/>
            <a:ext cx="4387680" cy="28018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724360" y="3213000"/>
            <a:ext cx="3051000" cy="2995560"/>
            <a:chOff x="5724360" y="3213000"/>
            <a:chExt cx="3051000" cy="299556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5724360" y="3213000"/>
              <a:ext cx="3008520" cy="28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839000" y="3425760"/>
              <a:ext cx="865440" cy="35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932520" y="3641760"/>
              <a:ext cx="1771920" cy="2448000"/>
            </a:xfrm>
            <a:prstGeom prst="line">
              <a:avLst/>
            </a:prstGeom>
            <a:ln w="7632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003800" y="3684600"/>
              <a:ext cx="1771560" cy="2448000"/>
            </a:xfrm>
            <a:prstGeom prst="line">
              <a:avLst/>
            </a:prstGeom>
            <a:ln w="7632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613800">
              <a:off x="5956200" y="5891040"/>
              <a:ext cx="1162080" cy="215640"/>
            </a:xfrm>
            <a:prstGeom prst="parallelogram">
              <a:avLst>
                <a:gd name="adj" fmla="val 45108"/>
              </a:avLst>
            </a:prstGeom>
            <a:solidFill>
              <a:srgbClr val="7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714600">
              <a:off x="6543720" y="5936760"/>
              <a:ext cx="322200" cy="216000"/>
            </a:xfrm>
            <a:prstGeom prst="parallelogram">
              <a:avLst>
                <a:gd name="adj" fmla="val 42098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714600">
              <a:off x="6346440" y="5896080"/>
              <a:ext cx="250920" cy="216000"/>
            </a:xfrm>
            <a:prstGeom prst="parallelogram">
              <a:avLst>
                <a:gd name="adj" fmla="val 44122"/>
              </a:avLst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651640" y="2852640"/>
            <a:ext cx="216036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8360" y="5373720"/>
            <a:ext cx="16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uper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1700280"/>
            <a:ext cx="10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616572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732360" y="609300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125360"/>
            <a:ext cx="7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932000" y="1483920"/>
            <a:ext cx="576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17080" y="1700280"/>
            <a:ext cx="431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5661000"/>
            <a:ext cx="122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Opto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651640" y="6021000"/>
            <a:ext cx="79200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75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s of 20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Cs managed by a Module Controller (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2 M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Modules grouped into a Super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Cs connect to a SuperModule Controller (SMC) at an end of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-directional optical link off-detector next to 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bandwidth 5-10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nce single readout link services 400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52400">
            <a:off x="4557240" y="2617560"/>
            <a:ext cx="1144800" cy="576000"/>
          </a:xfrm>
          <a:prstGeom prst="parallelogram">
            <a:avLst>
              <a:gd name="adj" fmla="val 521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52400">
            <a:off x="5435280" y="2491920"/>
            <a:ext cx="241200" cy="198360"/>
          </a:xfrm>
          <a:prstGeom prst="parallelogram">
            <a:avLst>
              <a:gd name="adj" fmla="val 51448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093080" y="112536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72360" y="907920"/>
            <a:ext cx="7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85080" y="5877000"/>
            <a:ext cx="86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. Wilm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00200">
            <a:off x="6659640" y="2420640"/>
            <a:ext cx="86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. Wilm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084360" y="6093000"/>
            <a:ext cx="3589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3480" y="6256440"/>
            <a:ext cx="217800" cy="21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eorgia"/>
              </a:rPr>
              <a:t>More on the module design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56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C(s) received data from each ASIC in sequence (tok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be in smaller subgroups (dotted red lines) – useful for track trigger rea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ICs grouped by layer (no way to compare top and bottom 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time top and bottom data have any chance of being compared is via MCC-M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628640"/>
            <a:ext cx="3025800" cy="3098880"/>
          </a:xfrm>
          <a:prstGeom prst="rect">
            <a:avLst/>
          </a:prstGeom>
          <a:solidFill>
            <a:srgbClr val="808080">
              <a:alpha val="1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5280" y="1824120"/>
            <a:ext cx="17784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2106720"/>
            <a:ext cx="17784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387520"/>
            <a:ext cx="17784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2668680"/>
            <a:ext cx="17784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294624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322740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9960" y="351000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49960" y="379080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49960" y="407196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9960" y="435132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0" y="182556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5400" y="210816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5400" y="2389320"/>
            <a:ext cx="1792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5400" y="2670120"/>
            <a:ext cx="17928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5400" y="2949480"/>
            <a:ext cx="17928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5400" y="322884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8640" y="351144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8640" y="3792600"/>
            <a:ext cx="1792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8640" y="407340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8640" y="435276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29560" y="1822320"/>
            <a:ext cx="179280" cy="198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32800" y="2104920"/>
            <a:ext cx="179280" cy="198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32800" y="2386080"/>
            <a:ext cx="17928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32800" y="266544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32800" y="294480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0" y="3225960"/>
            <a:ext cx="1792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36040" y="3508200"/>
            <a:ext cx="1774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36040" y="3789360"/>
            <a:ext cx="1774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36040" y="4070520"/>
            <a:ext cx="1774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36040" y="4349880"/>
            <a:ext cx="1774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27880" y="1822320"/>
            <a:ext cx="179640" cy="198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31120" y="210492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31120" y="2386080"/>
            <a:ext cx="17784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31120" y="2666880"/>
            <a:ext cx="177840" cy="198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31120" y="294480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31120" y="3225960"/>
            <a:ext cx="17784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34360" y="350820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34360" y="378936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34360" y="4070520"/>
            <a:ext cx="17784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34360" y="4349880"/>
            <a:ext cx="17784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7800" y="1704960"/>
            <a:ext cx="952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47120" y="1700280"/>
            <a:ext cx="95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7800" y="1704960"/>
            <a:ext cx="0" cy="296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0360" y="1704960"/>
            <a:ext cx="0" cy="296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51800" y="1704960"/>
            <a:ext cx="0" cy="296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04360" y="1703520"/>
            <a:ext cx="0" cy="296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10360" y="4670280"/>
            <a:ext cx="209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08800" y="467028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319880" y="4430520"/>
            <a:ext cx="0" cy="239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08800" y="4430520"/>
            <a:ext cx="0" cy="239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19880" y="4430880"/>
            <a:ext cx="88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7800" y="4670280"/>
            <a:ext cx="90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08960" y="4668840"/>
            <a:ext cx="9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4670280"/>
            <a:ext cx="0" cy="560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08960" y="4670280"/>
            <a:ext cx="0" cy="560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230800"/>
            <a:ext cx="2260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37440" y="4551480"/>
            <a:ext cx="104760" cy="318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802200" y="4551480"/>
            <a:ext cx="129960" cy="318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24960" y="4551480"/>
            <a:ext cx="129960" cy="318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317080" y="4551480"/>
            <a:ext cx="101520" cy="317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88040" y="3189240"/>
            <a:ext cx="2984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3480" y="3189240"/>
            <a:ext cx="2966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88040" y="1746360"/>
            <a:ext cx="2984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3480" y="1746360"/>
            <a:ext cx="2966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77000" y="3189240"/>
            <a:ext cx="29700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71000" y="3187800"/>
            <a:ext cx="2984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77000" y="1746360"/>
            <a:ext cx="29700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71000" y="1744560"/>
            <a:ext cx="2984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26360" y="3067200"/>
            <a:ext cx="149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4560" y="3067200"/>
            <a:ext cx="149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75400" y="3067200"/>
            <a:ext cx="12600" cy="180180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668640" y="3067200"/>
            <a:ext cx="25560" cy="180180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13520" y="3067200"/>
            <a:ext cx="1494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182080" y="3065400"/>
            <a:ext cx="149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62920" y="3065400"/>
            <a:ext cx="7920" cy="179568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162640" y="3065400"/>
            <a:ext cx="19080" cy="179388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53480" y="4871880"/>
            <a:ext cx="360360" cy="358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0400" y="4871880"/>
            <a:ext cx="360360" cy="3589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80360" y="5373720"/>
            <a:ext cx="86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A. Green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eorgia"/>
              </a:rPr>
              <a:t>Track Trigger Idea: Level Zero Accept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on/Calo Level-1 identifies Region of Interest (R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e/tower radiating from ce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I mapped to affected modules/supermodules/RODs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vel Zero Trigger (LZA) sent to the affected modul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ZA copies data from the pipeline earlier than a L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s returned as high-priority via MCC and SMC to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passing FIFO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metry means few modules on a supermodule will be in a given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s assume 10% - so minimal impact on readout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 forwards data to L1 Track F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a a dedicated, fa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 dedicated Trigger link on supermodule handles LZA an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eorgia"/>
              </a:rPr>
              <a:t>LZA (2)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I finder system must be FAST, or we need longer pip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SLHC runs at 20MHz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signal/command on 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1 additional signal/command on AS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u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s to ASIC are quite smal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w command and command-deco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 4 bit LZID counter (like the L1ID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 MUX for selecting which counter (LZID or L1ID) is sent with dat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 data extract point added mid pipeli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X to select LZ data or L1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Georgia"/>
              </a:rPr>
              <a:t>DAQ Now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system connects Modules -&gt; RODs -&gt; ROBs via optic-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fibres into the ROD, 1 out (sounds like an SMC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D is “hosted” in a VME c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uration bus (over backpl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data flows in-the-front and out-the-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OB is a PC with PCI (ROB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s transferred of the PC bus now, 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transferred out from card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eorgia"/>
              </a:rPr>
              <a:t>A future ATCA based DAQ</a:t>
            </a:r>
            <a:endParaRPr b="0" i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643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CA is a telecom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s are communicate using an array of links provided by the back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the fibres connecting RODs to R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planes have HUB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-to-point links from all other s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clock links, config lin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D could talk to a ROB in the same c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rther ATCA cards can host Mezzanines – mini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or 2 supermodules/miniR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048440" y="1268280"/>
            <a:ext cx="2095560" cy="4324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13150" t="10594" r="13150" b="12550"/>
          <a:stretch/>
        </p:blipFill>
        <p:spPr>
          <a:xfrm>
            <a:off x="4643280" y="620640"/>
            <a:ext cx="2519640" cy="2502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27640" y="5013360"/>
            <a:ext cx="2838240" cy="16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2:26:50Z</dcterms:created>
  <dc:creator>Simon Brown</dc:creator>
  <dc:description/>
  <dc:language>en-US</dc:language>
  <cp:lastModifiedBy>Matt Warren</cp:lastModifiedBy>
  <dcterms:modified xsi:type="dcterms:W3CDTF">2008-09-18T09:50:18Z</dcterms:modified>
  <cp:revision>86</cp:revision>
  <dc:subject/>
  <dc:title>Slide 1</dc:title>
</cp:coreProperties>
</file>