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200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2864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8000" y="6649920"/>
            <a:ext cx="9921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506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6920" y="6649920"/>
            <a:ext cx="66978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9506b"/>
                </a:solidFill>
                <a:latin typeface="Century School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615360"/>
            <a:ext cx="23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456-33A3-43EC-A778-9111CD33AC84}" type="slidenum">
              <a:rPr b="1" lang="en-US" sz="1400" spc="-1" strike="noStrike">
                <a:solidFill>
                  <a:srgbClr val="29506b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364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192720"/>
            <a:ext cx="9144000" cy="7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555920"/>
            <a:ext cx="8496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Tracker Upgrade Electronics,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Readout and DAQ</a:t>
            </a:r>
            <a:br>
              <a:rPr sz="3200"/>
            </a:br>
            <a:br>
              <a:rPr sz="3200"/>
            </a:b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ATLAS Upgrade Workshop, Nikhef</a:t>
            </a:r>
            <a:br>
              <a:rPr sz="2400"/>
            </a:br>
            <a:br>
              <a:rPr sz="3200"/>
            </a:br>
            <a:br>
              <a:rPr sz="3200"/>
            </a:b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4 November 2008</a:t>
            </a:r>
            <a:br>
              <a:rPr sz="2400"/>
            </a:br>
            <a:br>
              <a:rPr sz="3200"/>
            </a:br>
            <a:endParaRPr b="0" i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3068280"/>
            <a:ext cx="849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4520" y="60213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 War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On-detector Event Selection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65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trigg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pecial trigg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keep as regular module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detection logic on ASIC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incidence between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ereo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fers spaced optimally for track f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span both sides of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t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-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rack detection to be pr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eeds to exit detector quickl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3789360"/>
            <a:ext cx="244944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412840" y="3486240"/>
            <a:ext cx="26424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1203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12036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53440" y="377352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75680" y="34862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11320" y="3341520"/>
            <a:ext cx="149760" cy="1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" y="6622"/>
                </a:moveTo>
                <a:arcTo wR="10800" hR="10800" stAng="-9434445" swAng="11097104"/>
                <a:lnTo>
                  <a:pt x="10800" y="10800"/>
                </a:lnTo>
                <a:close/>
              </a:path>
              <a:path fill="none" w="21600" h="21600">
                <a:moveTo>
                  <a:pt x="841" y="6622"/>
                </a:moveTo>
                <a:arcTo wR="10800" hR="10800" stAng="-9434445" swAng="1109710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3389400"/>
            <a:ext cx="244944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8304480" y="3709800"/>
            <a:ext cx="150120" cy="19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1" y="13246"/>
                </a:moveTo>
                <a:arcTo wR="10800" hR="10800" stAng="10014483" swAng="9448954"/>
                <a:lnTo>
                  <a:pt x="10800" y="10800"/>
                </a:lnTo>
                <a:close/>
              </a:path>
              <a:path fill="none" w="21600" h="21600">
                <a:moveTo>
                  <a:pt x="281" y="13246"/>
                </a:moveTo>
                <a:arcTo wR="10800" hR="10800" stAng="10014483" swAng="944895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66600" y="3633840"/>
            <a:ext cx="150120" cy="1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" y="6622"/>
                </a:moveTo>
                <a:arcTo wR="10800" hR="10800" stAng="-9434445" swAng="11097104"/>
                <a:lnTo>
                  <a:pt x="10800" y="10800"/>
                </a:lnTo>
                <a:close/>
              </a:path>
              <a:path fill="none" w="21600" h="21600">
                <a:moveTo>
                  <a:pt x="841" y="6622"/>
                </a:moveTo>
                <a:arcTo wR="10800" hR="10800" stAng="-9434445" swAng="1109710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26160" y="3630600"/>
            <a:ext cx="148320" cy="1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" y="6622"/>
                </a:moveTo>
                <a:arcTo wR="10800" hR="10800" stAng="-9434445" swAng="11097104"/>
                <a:lnTo>
                  <a:pt x="10800" y="10800"/>
                </a:lnTo>
                <a:close/>
              </a:path>
              <a:path fill="none" w="21600" h="21600">
                <a:moveTo>
                  <a:pt x="841" y="6622"/>
                </a:moveTo>
                <a:arcTo wR="10800" hR="10800" stAng="-9434445" swAng="1109710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97800" y="3676680"/>
            <a:ext cx="647640" cy="7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38920" y="5546880"/>
            <a:ext cx="244944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09520" y="5099040"/>
            <a:ext cx="149760" cy="1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" y="6622"/>
                </a:moveTo>
                <a:arcTo wR="10800" hR="10800" stAng="-9434445" swAng="11097104"/>
                <a:lnTo>
                  <a:pt x="10800" y="10800"/>
                </a:lnTo>
                <a:close/>
              </a:path>
              <a:path fill="none" w="21600" h="21600">
                <a:moveTo>
                  <a:pt x="841" y="6622"/>
                </a:moveTo>
                <a:arcTo wR="10800" hR="10800" stAng="-9434445" swAng="1109710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38920" y="5146560"/>
            <a:ext cx="244944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8303040" y="5466960"/>
            <a:ext cx="150120" cy="19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1" y="13246"/>
                </a:moveTo>
                <a:arcTo wR="10800" hR="10800" stAng="10014483" swAng="9448954"/>
                <a:lnTo>
                  <a:pt x="10800" y="10800"/>
                </a:lnTo>
                <a:close/>
              </a:path>
              <a:path fill="none" w="21600" h="21600">
                <a:moveTo>
                  <a:pt x="281" y="13246"/>
                </a:moveTo>
                <a:arcTo wR="10800" hR="10800" stAng="10014483" swAng="944895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8253000" y="5341680"/>
            <a:ext cx="358560" cy="7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247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3716280"/>
            <a:ext cx="142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4437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lex-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8360" y="3068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Level Zero Accept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on/Calo Level-1 identifies Region of Interest (R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e/tower radiating from cen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I mapped to affected modules/supermodules/R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Zero Trigger (L0A) sent to the affected modules/region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0A copies data from middle of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turned as high-priority via MCC and SMC to 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y means few modules on a supermodule will be in a given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s assume &lt;10% - so minimal impact on readout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ume no need to cater for multiple triggers in readout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-path buffer only 1 event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0A ‘overlaps’ later events return “busy, no 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D forwards data to L1 Track 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a a dedicated, fast link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dedicated Trigger link on supermodule handles L0A an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L0A L1/ASIC Integration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more latency than in curr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ipelines required for ALL sub-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N ASIC already has 255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s already have 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heard of any show stoppers from other sub-det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ast path from module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ore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logic on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readout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leap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0A is much like our current L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L1A happens la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us for L0 (old L1, sortof) to identify features, issue L0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us cable to detector (and back ag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us for us to rea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us for L1 decision. Issue L1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us cable to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u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The Latency Problem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7488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er designed to readout at a sustained 100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Cs in groups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sy chain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readout at 8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M/100k = 800 bits/chain/event = 80bits per chip/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verage latency is 10us. Needs to be 1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vent readout in progress, need to wait, hence the 42 readout buf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0 event can jump to head of readou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till wait for current event to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it has a separate path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ASIC adds head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bits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bits chip-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bit separator per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% of data is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latency in MCC for packe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6920" y="105264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6920" y="148428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6920" y="191628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604360" y="1341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177480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6920" y="234792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6920" y="277956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04360" y="307008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04360" y="2206800"/>
            <a:ext cx="0" cy="142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86920" y="321300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6920" y="364500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6920" y="407664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04360" y="350208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04360" y="393552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6920" y="450864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6920" y="494028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604360" y="4797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604360" y="5230800"/>
            <a:ext cx="0" cy="57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43671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8459640" y="479700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8459640" y="13413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8459640" y="17715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459640" y="2204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459640" y="2636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459640" y="306828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459640" y="350028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459640" y="393192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459640" y="436392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8210160" y="3821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780320" y="2596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01080" y="5805360"/>
            <a:ext cx="863640" cy="576360"/>
          </a:xfrm>
          <a:prstGeom prst="rect">
            <a:avLst/>
          </a:prstGeom>
          <a:solidFill>
            <a:srgbClr val="7fa1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Latency ‘Solutions’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7488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module for faster rea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he transmission speed from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0 MH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r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number of strips per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opti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 fixed packet size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to point links to M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protocol overhead – MCC knows ch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ming event size is still 80b/128 strips = 200b/320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178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is 320MHz*200 = .7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uble for delay sending previous event, add MCC = 1.5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12000" y="1052640"/>
            <a:ext cx="28908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01080" y="3284280"/>
            <a:ext cx="35856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2781360"/>
            <a:ext cx="502920" cy="504720"/>
          </a:xfrm>
          <a:prstGeom prst="rect">
            <a:avLst/>
          </a:prstGeom>
          <a:solidFill>
            <a:srgbClr val="7fa1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812000" y="2060640"/>
            <a:ext cx="28908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3068640"/>
            <a:ext cx="28908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12000" y="4076640"/>
            <a:ext cx="289080" cy="865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101080" y="3213000"/>
            <a:ext cx="21600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101080" y="2565360"/>
            <a:ext cx="216000" cy="35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01080" y="1628640"/>
            <a:ext cx="28728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Other problems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 processor will want synchronous in time with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ised data is a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Other options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onal routing on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onal trigger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ATLAS Event Data Flow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data a stored on-detector in pipelines waiting for trigg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o/Muon data is used directly by Level-1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evel-1 Accept (L1A) is distributed 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send data from pipeline off-detector to ReadOut Drivers (R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assemble event fragments and forward to ReadOut Buffers (R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5126" t="0" r="628" b="648"/>
          <a:stretch/>
        </p:blipFill>
        <p:spPr>
          <a:xfrm>
            <a:off x="4932360" y="981000"/>
            <a:ext cx="4211640" cy="561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The existing SCT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630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0 individua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 ASICs per module (us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odule has bi-dir opt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m long (.5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output (2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ck/control input (1 fib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 connected to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build event fragments and send to 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s receive Timing, Trigger and Control (TTC) signals and distribute 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no fast path, no ‘early da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7440" y="3500280"/>
            <a:ext cx="1008000" cy="1008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7a9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37440" y="5013360"/>
            <a:ext cx="1008000" cy="100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9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88360" y="4797360"/>
            <a:ext cx="1008000" cy="1008000"/>
          </a:xfrm>
          <a:prstGeom prst="rect">
            <a:avLst/>
          </a:prstGeom>
          <a:gradFill rotWithShape="0">
            <a:gsLst>
              <a:gs pos="0">
                <a:srgbClr val="ff8c75"/>
              </a:gs>
              <a:gs pos="100000">
                <a:srgbClr val="c86d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a T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45440" y="4365360"/>
            <a:ext cx="503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6908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0360" y="4508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35640" y="836640"/>
            <a:ext cx="2808360" cy="2151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0360" y="6021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191628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entury Schoolbook"/>
              </a:rPr>
              <a:t>DAQ Now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system connects Modules -&gt; RODs -&gt; ROBs via optic-f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fibres into the ROD, 1 out (sounds like an SMC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 is “hosted” in a VME c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ation bus (over backpl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ata flows in-the-front and out-the-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OB is a PC with PCI (ROB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is transferred of the PC bus now, b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transferred out from card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24320" y="728640"/>
            <a:ext cx="4388040" cy="2801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An Upgraded Tracker Design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6012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 ASICs = 1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‘fingers’ of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ICs managed by a Module Controller (M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2 MC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Modules grouped into a Super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Cs connect to a SuperModule Controller (SMC) at an end of unit (copper, LV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C connect via bi-directional optical link off-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bandwidth 5-10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single readout link services 400 A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54680" y="3284640"/>
            <a:ext cx="2964960" cy="2868840"/>
            <a:chOff x="5854680" y="3284640"/>
            <a:chExt cx="2964960" cy="286884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854680" y="3284640"/>
              <a:ext cx="2923560" cy="275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09560" y="3488040"/>
              <a:ext cx="840960" cy="34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28280" y="3695040"/>
              <a:ext cx="1721880" cy="2343240"/>
            </a:xfrm>
            <a:prstGeom prst="line">
              <a:avLst/>
            </a:prstGeom>
            <a:ln w="7632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098120" y="3736080"/>
              <a:ext cx="1721520" cy="2343240"/>
            </a:xfrm>
            <a:prstGeom prst="line">
              <a:avLst/>
            </a:prstGeom>
            <a:ln w="7632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613800">
              <a:off x="6079680" y="5848200"/>
              <a:ext cx="1128960" cy="206280"/>
            </a:xfrm>
            <a:prstGeom prst="parallelogram">
              <a:avLst>
                <a:gd name="adj" fmla="val 45811"/>
              </a:avLst>
            </a:prstGeom>
            <a:solidFill>
              <a:srgbClr val="7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14600">
              <a:off x="6650640" y="5892120"/>
              <a:ext cx="312840" cy="206640"/>
            </a:xfrm>
            <a:prstGeom prst="parallelogram">
              <a:avLst>
                <a:gd name="adj" fmla="val 42726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714600">
              <a:off x="6459480" y="5852520"/>
              <a:ext cx="243720" cy="206640"/>
            </a:xfrm>
            <a:prstGeom prst="parallelogram">
              <a:avLst>
                <a:gd name="adj" fmla="val 44797"/>
              </a:avLst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948360" y="5373720"/>
            <a:ext cx="16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uper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4720" y="1700280"/>
            <a:ext cx="104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616572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732360" y="609300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8100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6920" y="1267920"/>
            <a:ext cx="109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748360" y="1700280"/>
            <a:ext cx="36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3080" y="4437000"/>
            <a:ext cx="115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Opto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52400">
            <a:off x="5190840" y="2637000"/>
            <a:ext cx="1144440" cy="576000"/>
          </a:xfrm>
          <a:prstGeom prst="parallelogram">
            <a:avLst>
              <a:gd name="adj" fmla="val 5209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52400">
            <a:off x="5903640" y="2491920"/>
            <a:ext cx="241200" cy="198360"/>
          </a:xfrm>
          <a:prstGeom prst="parallelogram">
            <a:avLst>
              <a:gd name="adj" fmla="val 51448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8360" y="90792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01080" y="580536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. Wilm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600200">
            <a:off x="7128000" y="242064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. Wilm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6000" y="6021360"/>
            <a:ext cx="35892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3480" y="6256440"/>
            <a:ext cx="217800" cy="21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9640" y="2852640"/>
            <a:ext cx="1837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61440" y="1125360"/>
            <a:ext cx="8982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508464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5867280" y="1628640"/>
            <a:ext cx="3025800" cy="3095640"/>
            <a:chOff x="5867280" y="1628640"/>
            <a:chExt cx="3025800" cy="3095640"/>
          </a:xfrm>
        </p:grpSpPr>
        <p:sp>
          <p:nvSpPr>
            <p:cNvPr id="137" name=""/>
            <p:cNvSpPr/>
            <p:nvPr/>
          </p:nvSpPr>
          <p:spPr>
            <a:xfrm>
              <a:off x="7402680" y="1628640"/>
              <a:ext cx="720720" cy="309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72360" y="1628640"/>
              <a:ext cx="720720" cy="30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43800" y="1628640"/>
              <a:ext cx="720720" cy="3095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28640"/>
              <a:ext cx="720720" cy="309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67640" y="1714680"/>
            <a:ext cx="936720" cy="295272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1714680"/>
            <a:ext cx="936720" cy="295272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7099200" y="3852360"/>
            <a:ext cx="560520" cy="219240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More on the module design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5796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out in 2 ‘fing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ASICs/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per readou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C(s) receives data from readout group se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ASIC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r subgroups (dotted red lines)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ful for track trigger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and bottom side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628640"/>
            <a:ext cx="3025800" cy="30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5280" y="182412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10672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8752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66868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294624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2274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9960" y="35100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9960" y="37908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9960" y="40719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435132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0" y="182556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5400" y="21081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5400" y="238932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5400" y="267012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5400" y="294948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5400" y="32288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8640" y="35114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8640" y="379260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8640" y="40734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8640" y="435276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29560" y="1822320"/>
            <a:ext cx="17928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32800" y="2104920"/>
            <a:ext cx="17928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32800" y="2386080"/>
            <a:ext cx="17928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32800" y="266544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32800" y="2944800"/>
            <a:ext cx="1792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32800" y="3225960"/>
            <a:ext cx="1792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36040" y="3508200"/>
            <a:ext cx="1774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36040" y="3789360"/>
            <a:ext cx="17748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36040" y="4070520"/>
            <a:ext cx="1774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36040" y="4349880"/>
            <a:ext cx="17748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7880" y="1822320"/>
            <a:ext cx="17964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31120" y="210492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31120" y="2386080"/>
            <a:ext cx="177840" cy="1983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31120" y="2666880"/>
            <a:ext cx="177840" cy="198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31120" y="29448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31120" y="322596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34360" y="350820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34360" y="3789360"/>
            <a:ext cx="177840" cy="200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34360" y="407052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34360" y="4349880"/>
            <a:ext cx="177840" cy="1998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7800" y="1704960"/>
            <a:ext cx="95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47120" y="1700280"/>
            <a:ext cx="95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780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1036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51800" y="170496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1703520"/>
            <a:ext cx="0" cy="296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10360" y="4670280"/>
            <a:ext cx="209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08800" y="46702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319880" y="4430520"/>
            <a:ext cx="0" cy="23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408800" y="4430520"/>
            <a:ext cx="0" cy="23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19880" y="4430880"/>
            <a:ext cx="8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7800" y="4670280"/>
            <a:ext cx="90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08960" y="4668840"/>
            <a:ext cx="9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670280"/>
            <a:ext cx="0" cy="560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508960" y="4670280"/>
            <a:ext cx="0" cy="560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5230800"/>
            <a:ext cx="2260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7440" y="4551480"/>
            <a:ext cx="1047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802200" y="4551480"/>
            <a:ext cx="1299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24960" y="4551480"/>
            <a:ext cx="129960" cy="318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317080" y="4551480"/>
            <a:ext cx="101520" cy="317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8040" y="318924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3480" y="3189240"/>
            <a:ext cx="2966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88040" y="174636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83480" y="1746360"/>
            <a:ext cx="2966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77000" y="3189240"/>
            <a:ext cx="29700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71000" y="318780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77000" y="1746360"/>
            <a:ext cx="29700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71000" y="1744560"/>
            <a:ext cx="298440" cy="144144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26360" y="30672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94560" y="30672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75400" y="3067200"/>
            <a:ext cx="12600" cy="180180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668640" y="3067200"/>
            <a:ext cx="25560" cy="180180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13520" y="3067200"/>
            <a:ext cx="1494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82080" y="3065400"/>
            <a:ext cx="149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62920" y="3065400"/>
            <a:ext cx="7920" cy="179568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162640" y="3065400"/>
            <a:ext cx="19080" cy="179388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3480" y="4871880"/>
            <a:ext cx="360360" cy="358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0400" y="4871880"/>
            <a:ext cx="360360" cy="3589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80360" y="5373720"/>
            <a:ext cx="86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. Green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141300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112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Track Trigger Options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.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earlier tracking to Level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L1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problem off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etector event-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decide on a good event and ‘push’ out of th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”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I identifies a subset of module that might contain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trigger reads these ou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Level 1.5 + Higher Rate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 1.5 is a pre-processor for Leve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track-f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with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to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detector splits data to Level-1.5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link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 input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RO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Higher Rate L1A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d ‘Simple’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moved off-detector where it can be process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.5 (+2 + HLT) performs MORE dat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for track-trigger – eas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IMPL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10x more data,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necessitates fiber optic links to each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pto-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ucapmwa</cp:lastModifiedBy>
  <dcterms:modified xsi:type="dcterms:W3CDTF">2008-11-03T17:49:59Z</dcterms:modified>
  <cp:revision>107</cp:revision>
  <dc:subject/>
  <dc:title>Slide 1</dc:title>
</cp:coreProperties>
</file>