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" y="-8280"/>
            <a:ext cx="7728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892800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8000" y="3776760"/>
            <a:ext cx="892800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240" y="-8280"/>
            <a:ext cx="7728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435672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2880" y="692280"/>
            <a:ext cx="435672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8000" y="3776760"/>
            <a:ext cx="435672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2880" y="3776760"/>
            <a:ext cx="435672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240" y="-8280"/>
            <a:ext cx="7728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287460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26600" y="692280"/>
            <a:ext cx="287460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5560" y="692280"/>
            <a:ext cx="287460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8000" y="3776760"/>
            <a:ext cx="287460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26600" y="3776760"/>
            <a:ext cx="287460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5560" y="3776760"/>
            <a:ext cx="287460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240" y="-8280"/>
            <a:ext cx="7728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8000" y="692280"/>
            <a:ext cx="8928000" cy="59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240" y="-8280"/>
            <a:ext cx="7728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89280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" y="-8280"/>
            <a:ext cx="7728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4356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2880" y="692280"/>
            <a:ext cx="4356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240" y="-8280"/>
            <a:ext cx="7728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2240" y="92160"/>
            <a:ext cx="7728120" cy="204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" y="-8280"/>
            <a:ext cx="7728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435672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2880" y="692280"/>
            <a:ext cx="4356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8000" y="3776760"/>
            <a:ext cx="435672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240" y="-8280"/>
            <a:ext cx="7728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8000" y="692280"/>
            <a:ext cx="8928000" cy="59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240" y="-8280"/>
            <a:ext cx="7728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4356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2880" y="692280"/>
            <a:ext cx="435672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2880" y="3776760"/>
            <a:ext cx="435672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240" y="-8280"/>
            <a:ext cx="7728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435672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2880" y="692280"/>
            <a:ext cx="435672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8000" y="3776760"/>
            <a:ext cx="892800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240" y="-8280"/>
            <a:ext cx="7728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892800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8000" y="3776760"/>
            <a:ext cx="892800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240" y="-8280"/>
            <a:ext cx="7728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435672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2880" y="692280"/>
            <a:ext cx="435672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8000" y="3776760"/>
            <a:ext cx="435672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2880" y="3776760"/>
            <a:ext cx="435672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240" y="-8280"/>
            <a:ext cx="7728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287460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26600" y="692280"/>
            <a:ext cx="287460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45560" y="692280"/>
            <a:ext cx="287460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8000" y="3776760"/>
            <a:ext cx="287460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26600" y="3776760"/>
            <a:ext cx="287460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45560" y="3776760"/>
            <a:ext cx="287460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240" y="-8280"/>
            <a:ext cx="7728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89280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240" y="-8280"/>
            <a:ext cx="7728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4356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2880" y="692280"/>
            <a:ext cx="4356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240" y="-8280"/>
            <a:ext cx="7728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240" y="92160"/>
            <a:ext cx="7728120" cy="204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240" y="-8280"/>
            <a:ext cx="7728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435672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2880" y="692280"/>
            <a:ext cx="4356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8000" y="3776760"/>
            <a:ext cx="435672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240" y="-8280"/>
            <a:ext cx="7728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4356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2880" y="692280"/>
            <a:ext cx="435672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2880" y="3776760"/>
            <a:ext cx="435672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240" y="-8280"/>
            <a:ext cx="7728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435672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2880" y="692280"/>
            <a:ext cx="435672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776760"/>
            <a:ext cx="8928000" cy="28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97720"/>
            <a:ext cx="9144000" cy="28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a52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333360"/>
            <a:ext cx="9144000" cy="647640"/>
          </a:xfrm>
          <a:prstGeom prst="rect">
            <a:avLst/>
          </a:prstGeom>
          <a:gradFill rotWithShape="0">
            <a:gsLst>
              <a:gs pos="0">
                <a:srgbClr val="3a525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812000" cy="63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108000" y="692280"/>
            <a:ext cx="89280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6760" indent="-176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28640" indent="-2286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108000" y="6649920"/>
            <a:ext cx="992160" cy="2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29506b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506b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1186920" y="6649920"/>
            <a:ext cx="6697800" cy="2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29506b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29506b"/>
                </a:solidFill>
                <a:latin typeface="Century Schoolbook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748720" y="6615360"/>
            <a:ext cx="23976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156E8-0B3B-498A-859E-8BB6897DF3D6}" type="slidenum">
              <a:rPr b="1" lang="en-US" sz="1400" spc="-1" strike="noStrike">
                <a:solidFill>
                  <a:srgbClr val="29506b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4643280" y="0"/>
            <a:ext cx="4500720" cy="6364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12240" y="92160"/>
            <a:ext cx="7728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i="1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6192720"/>
            <a:ext cx="9144000" cy="765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a52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1989000"/>
          </a:xfrm>
          <a:prstGeom prst="rect">
            <a:avLst/>
          </a:prstGeom>
          <a:gradFill rotWithShape="0">
            <a:gsLst>
              <a:gs pos="0">
                <a:srgbClr val="3a525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1483920"/>
            <a:ext cx="8496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24000" y="6244920"/>
            <a:ext cx="849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240" y="92160"/>
            <a:ext cx="7728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Century Schoolbook"/>
              </a:rPr>
              <a:t>Level Zero Accept</a:t>
            </a:r>
            <a:endParaRPr b="0" i="1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uon/Calo Level-1 identifies Region of Interest (Ro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e/tower radiating from 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I mapped to affected modules/supermodules/R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vel Zero Trigger (L0A) targeted at individual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dule copies data from middle of pip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 returned as high-priority (queue jump) via MCC and SMC to R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ometry means few modules on a supermodule will be in a Ro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ume &lt;10% - so minimal impact on readout band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ume no need to cater for multiple triggers in readout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-path buffer only 1 event de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L0A ‘pileup’ causes later events to return “busy, no dat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D forwards data to L1 Track Fi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ia a dedicated, fast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acker Upgrade Electronics Readout and DAQ - Matt Warr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Sep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240" y="92160"/>
            <a:ext cx="7728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entury Schoolbook"/>
              </a:rPr>
              <a:t>L0A Level-1/ASIC Integration</a:t>
            </a:r>
            <a:endParaRPr b="0" i="1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8000" y="764640"/>
            <a:ext cx="84247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s more latency than in curren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er pipelines required for ALL sub-detect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-N ASIC already has 256 de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xels already have 2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heard of any show stoppers from other sub-dets ei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fast path from module –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iffic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tional logic on A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ary readout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0A is much like our current L1A, new L1A happens lat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24000" y="4581360"/>
          <a:ext cx="8496000" cy="2009880"/>
        </p:xfrm>
        <a:graphic>
          <a:graphicData uri="http://schemas.openxmlformats.org/drawingml/2006/table">
            <a:tbl>
              <a:tblPr/>
              <a:tblGrid>
                <a:gridCol w="863280"/>
                <a:gridCol w="76327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μ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l-0 (current Level-1...) identifies features. Maps to modules. Issues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0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μ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ble to detector (and back agai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.0μ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evel-0 event readout from track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μ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l-1 decision. Issue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1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μ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ble to detec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μ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acker Upgrade Electronics Readout and DAQ - Matt Warr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Sep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240" y="92160"/>
            <a:ext cx="7728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entury Schoolbook"/>
              </a:rPr>
              <a:t>The Latency Problem</a:t>
            </a:r>
            <a:endParaRPr b="0" i="1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7640" y="692280"/>
            <a:ext cx="748836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ker designed to readout at a sustained 100K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ICs in groups of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isy chained tog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ial readout at 80M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M/100k = 800 bits/chain/event = 80bits per chip/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ver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atency is 10μs. Needs to be 1μ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X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event readout in progress, need to wait (hence the 42 readout buff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0 event can jump to head of readout queue, 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 wait for current event to fin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ASIC adds header 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ers, chip-address, event ids, &gt;10% of data is 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fit into MCC-SMC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1 wants data synchronous to L0A (fixed latenc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386920" y="1052640"/>
            <a:ext cx="288720" cy="2887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386920" y="1484280"/>
            <a:ext cx="288720" cy="2890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386920" y="1916280"/>
            <a:ext cx="288720" cy="2887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604360" y="1341360"/>
            <a:ext cx="0" cy="14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604360" y="1774800"/>
            <a:ext cx="0" cy="14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386920" y="2347920"/>
            <a:ext cx="288720" cy="2890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386920" y="2779560"/>
            <a:ext cx="288720" cy="2890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604360" y="2637000"/>
            <a:ext cx="0" cy="1425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604360" y="3070080"/>
            <a:ext cx="0" cy="14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604360" y="2206800"/>
            <a:ext cx="0" cy="1425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86920" y="3213000"/>
            <a:ext cx="288720" cy="2890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86920" y="3645000"/>
            <a:ext cx="288720" cy="2887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386920" y="4076640"/>
            <a:ext cx="288720" cy="2890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604360" y="3502080"/>
            <a:ext cx="0" cy="14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604360" y="3935520"/>
            <a:ext cx="0" cy="14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86920" y="4508640"/>
            <a:ext cx="288720" cy="2887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6920" y="4940280"/>
            <a:ext cx="288720" cy="2890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604360" y="4797360"/>
            <a:ext cx="0" cy="14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604360" y="5230800"/>
            <a:ext cx="0" cy="14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604360" y="4367160"/>
            <a:ext cx="0" cy="14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8459640" y="4797000"/>
            <a:ext cx="0" cy="14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8459640" y="1341360"/>
            <a:ext cx="0" cy="144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8459640" y="1771560"/>
            <a:ext cx="0" cy="144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8459640" y="2204640"/>
            <a:ext cx="0" cy="14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8459640" y="2636640"/>
            <a:ext cx="0" cy="14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8459640" y="3068280"/>
            <a:ext cx="0" cy="14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8459640" y="3500280"/>
            <a:ext cx="0" cy="144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8459640" y="3931920"/>
            <a:ext cx="0" cy="14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8459640" y="4363920"/>
            <a:ext cx="0" cy="144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5400000">
            <a:off x="8210160" y="38210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7780320" y="25966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To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317080" y="5373720"/>
            <a:ext cx="504720" cy="431640"/>
          </a:xfrm>
          <a:prstGeom prst="rect">
            <a:avLst/>
          </a:prstGeom>
          <a:solidFill>
            <a:srgbClr val="7fa1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317080" y="6237360"/>
            <a:ext cx="504720" cy="431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604360" y="5807160"/>
            <a:ext cx="0" cy="43020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8546760" y="5925960"/>
            <a:ext cx="119160" cy="7164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8546760" y="5961240"/>
            <a:ext cx="119160" cy="7128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acker Upgrade Electronics Readout and DAQ - Matt Warr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Sep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240" y="92160"/>
            <a:ext cx="7728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entury Schoolbook"/>
              </a:rPr>
              <a:t>Latency ‘Solutions’</a:t>
            </a:r>
            <a:endParaRPr b="0" i="1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8920" y="692280"/>
            <a:ext cx="720108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er serial transmiss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160Mb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60Mb ASIC to MCC, requires 320Mb MMC to SM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gger ASIC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Strips increased – 256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ess protocol over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tocol/data-reduction optimis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(event &lt;&lt; 40bits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imit hits (1,2,3,man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packet size – decreased header/separator over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1ID, BCID counting on MCC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cket split/abort – L0 packet transmitted mid L1 pa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 (or short) daisy-chain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reduces overh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(or shorter) chip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807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asier event synchronis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[The MMC-SMC link is the bottleneck, all the above is to reduce event size, with the largest contributution being a reduction in hits reported – we need to understand how little we can get away with – much simulation required (does 1,2, many work?) 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actical example (see diag) – minimal chang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” topology hybrid – direct ASIC-MCC conn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ent size fixed at 40b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0 chips, 128 strips/chip, readout 80M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/event = 10*40=400. Latency thru MCC = 80bit event/80Mb rate =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0μ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451640" y="1197000"/>
            <a:ext cx="360360" cy="3319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458120" y="1657440"/>
            <a:ext cx="353880" cy="3348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458120" y="2117880"/>
            <a:ext cx="353880" cy="33156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458120" y="2576520"/>
            <a:ext cx="353880" cy="3319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458120" y="3030480"/>
            <a:ext cx="353880" cy="33516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458120" y="3489480"/>
            <a:ext cx="353880" cy="3348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461360" y="3951360"/>
            <a:ext cx="350640" cy="3348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461360" y="4410000"/>
            <a:ext cx="350640" cy="33516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461360" y="4869000"/>
            <a:ext cx="350640" cy="3348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461360" y="5326200"/>
            <a:ext cx="350640" cy="3348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956720" y="3138480"/>
            <a:ext cx="576000" cy="577800"/>
          </a:xfrm>
          <a:prstGeom prst="rect">
            <a:avLst/>
          </a:prstGeom>
          <a:solidFill>
            <a:srgbClr val="7fa1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M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675640" y="1197000"/>
            <a:ext cx="349200" cy="3319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969696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682120" y="1657440"/>
            <a:ext cx="347760" cy="3348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969696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682120" y="2117880"/>
            <a:ext cx="347760" cy="3315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969696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682120" y="2576520"/>
            <a:ext cx="347760" cy="3319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969696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682120" y="3030480"/>
            <a:ext cx="347760" cy="3351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969696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682120" y="3489480"/>
            <a:ext cx="347760" cy="3348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969696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685360" y="3951360"/>
            <a:ext cx="350640" cy="3348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969696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685360" y="4410000"/>
            <a:ext cx="350640" cy="3351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969696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685360" y="4869000"/>
            <a:ext cx="350640" cy="3348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969696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685360" y="5326200"/>
            <a:ext cx="350640" cy="3348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969696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812000" y="1341360"/>
            <a:ext cx="360360" cy="1800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812000" y="1844640"/>
            <a:ext cx="289080" cy="1297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812000" y="2276640"/>
            <a:ext cx="216000" cy="865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812000" y="2781360"/>
            <a:ext cx="144720" cy="360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812000" y="3213000"/>
            <a:ext cx="144720" cy="71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812000" y="3573000"/>
            <a:ext cx="144720" cy="71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7812000" y="3716280"/>
            <a:ext cx="144720" cy="4334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7812000" y="3715920"/>
            <a:ext cx="217440" cy="865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7812000" y="3715920"/>
            <a:ext cx="289080" cy="1297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7812000" y="3715920"/>
            <a:ext cx="360360" cy="1800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8314920" y="1341360"/>
            <a:ext cx="360360" cy="4174920"/>
            <a:chOff x="8314920" y="1341360"/>
            <a:chExt cx="360360" cy="4174920"/>
          </a:xfrm>
        </p:grpSpPr>
        <p:sp>
          <p:nvSpPr>
            <p:cNvPr id="163" name=""/>
            <p:cNvSpPr/>
            <p:nvPr/>
          </p:nvSpPr>
          <p:spPr>
            <a:xfrm flipH="1">
              <a:off x="8314920" y="1341360"/>
              <a:ext cx="360360" cy="1800360"/>
            </a:xfrm>
            <a:prstGeom prst="line">
              <a:avLst/>
            </a:prstGeom>
            <a:ln w="9360">
              <a:solidFill>
                <a:srgbClr val="c0c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8386200" y="1844640"/>
              <a:ext cx="289080" cy="1297080"/>
            </a:xfrm>
            <a:prstGeom prst="line">
              <a:avLst/>
            </a:prstGeom>
            <a:ln w="9360">
              <a:solidFill>
                <a:srgbClr val="c0c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8459280" y="2276280"/>
              <a:ext cx="216000" cy="8654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8530920" y="2781360"/>
              <a:ext cx="144360" cy="360360"/>
            </a:xfrm>
            <a:prstGeom prst="line">
              <a:avLst/>
            </a:prstGeom>
            <a:ln w="9360">
              <a:solidFill>
                <a:srgbClr val="c0c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8530920" y="3213000"/>
              <a:ext cx="144360" cy="71280"/>
            </a:xfrm>
            <a:prstGeom prst="line">
              <a:avLst/>
            </a:prstGeom>
            <a:ln w="9360">
              <a:solidFill>
                <a:srgbClr val="c0c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flipV="1">
              <a:off x="8530920" y="3573360"/>
              <a:ext cx="144360" cy="71280"/>
            </a:xfrm>
            <a:prstGeom prst="line">
              <a:avLst/>
            </a:prstGeom>
            <a:ln w="9360">
              <a:solidFill>
                <a:srgbClr val="c0c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8530920" y="3716280"/>
              <a:ext cx="144360" cy="4334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8457840" y="3715920"/>
              <a:ext cx="217440" cy="865080"/>
            </a:xfrm>
            <a:prstGeom prst="line">
              <a:avLst/>
            </a:prstGeom>
            <a:ln w="9360">
              <a:solidFill>
                <a:srgbClr val="c0c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8386200" y="3715920"/>
              <a:ext cx="289080" cy="1297080"/>
            </a:xfrm>
            <a:prstGeom prst="line">
              <a:avLst/>
            </a:prstGeom>
            <a:ln w="9360">
              <a:solidFill>
                <a:srgbClr val="c0c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8314920" y="3715920"/>
              <a:ext cx="360360" cy="1800360"/>
            </a:xfrm>
            <a:prstGeom prst="line">
              <a:avLst/>
            </a:prstGeom>
            <a:ln w="9360">
              <a:solidFill>
                <a:srgbClr val="c0c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8244000" y="3716280"/>
            <a:ext cx="0" cy="230508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956720" y="6022800"/>
            <a:ext cx="576000" cy="5749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M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8197560" y="5770440"/>
            <a:ext cx="119160" cy="7164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8197560" y="5805360"/>
            <a:ext cx="119160" cy="7164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acker Upgrade Electronics Readout and DAQ - Matt Warr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Sep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240" y="92160"/>
            <a:ext cx="7728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Century Schoolbook"/>
              </a:rPr>
              <a:t>Conclusion (Help!)</a:t>
            </a:r>
            <a:endParaRPr b="0" i="1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89280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9280" y="1125360"/>
            <a:ext cx="8964720" cy="54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 eas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tency seems the biggest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8864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ed to reduce event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sy to write a talk, but we need the expert inpu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8864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are the hard limi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8864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can we work 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8864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can we get into the design now (without waiting for a rock-solid physics ca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8864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acker Upgrade Electronics Readout and DAQ - Matt Warr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Sep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3T12:26:50Z</dcterms:created>
  <dc:creator>Simon Brown</dc:creator>
  <dc:description/>
  <dc:language>en-US</dc:language>
  <cp:lastModifiedBy>Matt Warren</cp:lastModifiedBy>
  <dcterms:modified xsi:type="dcterms:W3CDTF">2008-11-06T08:50:30Z</dcterms:modified>
  <cp:revision>129</cp:revision>
  <dc:subject/>
  <dc:title>Slide 1</dc:title>
</cp:coreProperties>
</file>