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10763" cy="6778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910800" cy="677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324080" y="3230640"/>
            <a:ext cx="7262640" cy="29131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3120840" y="507960"/>
            <a:ext cx="3671640" cy="254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3200" spc="-1" strike="noStrike">
                <a:solidFill>
                  <a:srgbClr val="b50069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b500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3189240" y="585720"/>
            <a:ext cx="3432240" cy="23767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566720" y="3244680"/>
            <a:ext cx="7500960" cy="3138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strip Tracker readout System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Silicon Tr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aout chain: Detectors-&gt;APV-&gt;Optical link-&gt;FED-&gt;D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1 rate sustained 100k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ject of this  talk is Front End Driver card,  refer to as F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oreceivers, ADC, Digital processing-sparsification, Memory -&gt; D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tter if called Front-End Receiver c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V and Optical links nearly ready for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al FED still at design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MC prototype used in LHC beam tests this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 to related tal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ff APV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ois Optical link - FED optorece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ncy prototype system in LHC beam test- contr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ila Trigger Thrott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ek Pixel Vertex detector = different readou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3189240" y="585720"/>
            <a:ext cx="3432240" cy="23767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566720" y="3244680"/>
            <a:ext cx="7500960" cy="3138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strip Tracker readout System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Silicon Tr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aout chain: Detectors-&gt;APV-&gt;Optical link-&gt;FED-&gt;D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1 rate sustained 100k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ject of this  talk is Front End Driver card,  refer to as F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oreceivers, ADC, Digital processing-sparsification, Memory -&gt; D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tter if called Front-End Receiver c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V and Optical links nearly ready for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al FED still at design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MC prototype used in LHC beam tests this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 to related tal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ff APV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ois Optical link - FED optorece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ncy prototype system in LHC beam test- contr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ila Trigger Thrott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ek Pixel Vertex detector = different readou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1880" y="19080"/>
            <a:ext cx="866124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32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8680" y="1390320"/>
            <a:ext cx="909324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8680" y="4067280"/>
            <a:ext cx="909324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1880" y="19080"/>
            <a:ext cx="866124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32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8680" y="1390320"/>
            <a:ext cx="443736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8160" y="1390320"/>
            <a:ext cx="443736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8680" y="4067280"/>
            <a:ext cx="443736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8160" y="4067280"/>
            <a:ext cx="443736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1880" y="19080"/>
            <a:ext cx="866124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32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8680" y="1390320"/>
            <a:ext cx="292788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3440" y="1390320"/>
            <a:ext cx="292788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67840" y="1390320"/>
            <a:ext cx="292788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8680" y="4067280"/>
            <a:ext cx="292788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3440" y="4067280"/>
            <a:ext cx="292788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67840" y="4067280"/>
            <a:ext cx="292788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1880" y="19080"/>
            <a:ext cx="866124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32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8680" y="1390320"/>
            <a:ext cx="9093240" cy="51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1880" y="19080"/>
            <a:ext cx="866124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32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390320"/>
            <a:ext cx="9093240" cy="51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1880" y="19080"/>
            <a:ext cx="866124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32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8680" y="1390320"/>
            <a:ext cx="4437360" cy="51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8160" y="1390320"/>
            <a:ext cx="4437360" cy="51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1880" y="19080"/>
            <a:ext cx="866124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3200" spc="-1" strike="noStrike">
              <a:solidFill>
                <a:srgbClr val="b50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91880" y="19080"/>
            <a:ext cx="866124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1880" y="19080"/>
            <a:ext cx="866124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32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390320"/>
            <a:ext cx="443736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8160" y="1390320"/>
            <a:ext cx="4437360" cy="51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8680" y="4067280"/>
            <a:ext cx="443736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1880" y="19080"/>
            <a:ext cx="866124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32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390320"/>
            <a:ext cx="4437360" cy="51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8160" y="1390320"/>
            <a:ext cx="443736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8160" y="4067280"/>
            <a:ext cx="443736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1880" y="19080"/>
            <a:ext cx="866124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32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390320"/>
            <a:ext cx="443736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8160" y="1390320"/>
            <a:ext cx="443736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8680" y="4067280"/>
            <a:ext cx="9093240" cy="24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18680" y="1390320"/>
            <a:ext cx="9093240" cy="51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1920" indent="-331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3240">
              <a:spcBef>
                <a:spcPts val="499"/>
              </a:spcBef>
              <a:buClr>
                <a:srgbClr val="063de8"/>
              </a:buClr>
              <a:buFont typeface="Arial"/>
              <a:buChar char="–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6640" indent="-222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9440" indent="-222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2240" indent="-22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92240" indent="-22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92240" indent="-22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69840" y="0"/>
            <a:ext cx="8880480" cy="1066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2600" y="6622920"/>
            <a:ext cx="9860040" cy="0"/>
          </a:xfrm>
          <a:prstGeom prst="line">
            <a:avLst/>
          </a:prstGeom>
          <a:ln w="25560">
            <a:solidFill>
              <a:srgbClr val="b10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600" y="1123920"/>
            <a:ext cx="9866520" cy="0"/>
          </a:xfrm>
          <a:prstGeom prst="line">
            <a:avLst/>
          </a:prstGeom>
          <a:ln w="25560">
            <a:solidFill>
              <a:srgbClr val="b10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91880" y="19080"/>
            <a:ext cx="866124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3200" spc="-1" strike="noStrike">
                <a:solidFill>
                  <a:srgbClr val="b50069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b5006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836640" cy="1069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851360" y="6591240"/>
            <a:ext cx="2666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ic System Design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573280" y="6591240"/>
            <a:ext cx="2349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mentation De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315200" y="6591240"/>
            <a:ext cx="1503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b Halsall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5560" y="6591240"/>
            <a:ext cx="25272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therford Appleton Labor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405640" y="6591240"/>
            <a:ext cx="15717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 Octo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3200" spc="-1" strike="noStrike">
                <a:solidFill>
                  <a:srgbClr val="b50069"/>
                </a:solidFill>
                <a:latin typeface="Arial"/>
              </a:rPr>
              <a:t>Electronic System Design Group</a:t>
            </a:r>
            <a:br>
              <a:rPr sz="3200"/>
            </a:br>
            <a:br>
              <a:rPr sz="3200"/>
            </a:b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CMS Tracker FED</a:t>
            </a:r>
            <a:endParaRPr b="1" i="1" lang="en-US" sz="24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5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31920" indent="0" algn="ctr">
              <a:spcBef>
                <a:spcPts val="499"/>
              </a:spcBef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sentation to CALICE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ctr">
              <a:spcBef>
                <a:spcPts val="499"/>
              </a:spcBef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ctr">
              <a:spcBef>
                <a:spcPts val="499"/>
              </a:spcBef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2nd October 2002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ctr">
              <a:spcBef>
                <a:spcPts val="499"/>
              </a:spcBef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3:00 - 17:0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ctr">
              <a:spcBef>
                <a:spcPts val="499"/>
              </a:spcBef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C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061480" y="3835440"/>
            <a:ext cx="1409400" cy="324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867880" y="2133720"/>
            <a:ext cx="0" cy="8380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67880" y="2971800"/>
            <a:ext cx="60948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86640" y="3232080"/>
            <a:ext cx="101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09800" y="2432160"/>
            <a:ext cx="247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8280" y="1193760"/>
            <a:ext cx="8458200" cy="533412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43520" y="1397160"/>
            <a:ext cx="495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541600"/>
            <a:ext cx="1256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0"/>
            <a:ext cx="938376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400" spc="-1" strike="noStrike">
                <a:solidFill>
                  <a:srgbClr val="b50069"/>
                </a:solidFill>
                <a:latin typeface="Arial"/>
              </a:rPr>
              <a:t>CMS Tracker FED</a:t>
            </a:r>
            <a:br>
              <a:rPr sz="2000"/>
            </a:b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Functionality</a:t>
            </a:r>
            <a:endParaRPr b="1" i="1" lang="en-US" sz="2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68960" y="3174840"/>
            <a:ext cx="1003320" cy="92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57760" y="1511280"/>
            <a:ext cx="1003320" cy="9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57760" y="1511280"/>
            <a:ext cx="1003320" cy="92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68640" y="2311560"/>
            <a:ext cx="75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nt End FP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55800" y="1549440"/>
            <a:ext cx="1073160" cy="86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6800" y="1600200"/>
            <a:ext cx="379080" cy="73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11240" y="1436760"/>
            <a:ext cx="51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700" spc="-1" strike="noStrike">
                <a:solidFill>
                  <a:srgbClr val="000000"/>
                </a:solidFill>
                <a:latin typeface="Arial"/>
              </a:rPr>
              <a:t>12x Opto R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892800" y="1910880"/>
            <a:ext cx="61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43520" y="1397160"/>
            <a:ext cx="49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4x Pr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la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61080" y="1401840"/>
            <a:ext cx="572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35240" y="1739880"/>
            <a:ext cx="6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ynch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3243240"/>
            <a:ext cx="447840" cy="41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00560" y="327672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TCr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0" y="3429000"/>
            <a:ext cx="4232160" cy="936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479160" y="1873080"/>
            <a:ext cx="27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45200" y="2743200"/>
            <a:ext cx="9907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19720" y="279072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QDR S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05680" y="2666880"/>
            <a:ext cx="572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1736640"/>
            <a:ext cx="24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63560" y="1628640"/>
            <a:ext cx="171720" cy="228600"/>
          </a:xfrm>
          <a:custGeom>
            <a:avLst/>
            <a:gdLst/>
            <a:ahLst/>
            <a:rect l="l" t="t" r="r" b="b"/>
            <a:pathLst>
              <a:path w="263" h="383">
                <a:moveTo>
                  <a:pt x="0" y="8"/>
                </a:moveTo>
                <a:lnTo>
                  <a:pt x="0" y="383"/>
                </a:lnTo>
                <a:lnTo>
                  <a:pt x="263" y="19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31800" y="1606680"/>
            <a:ext cx="379440" cy="72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15880" y="2171880"/>
            <a:ext cx="24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63560" y="2063880"/>
            <a:ext cx="171720" cy="228600"/>
          </a:xfrm>
          <a:custGeom>
            <a:avLst/>
            <a:gdLst/>
            <a:ahLst/>
            <a:rect l="l" t="t" r="r" b="b"/>
            <a:pathLst>
              <a:path w="263" h="383">
                <a:moveTo>
                  <a:pt x="0" y="8"/>
                </a:moveTo>
                <a:lnTo>
                  <a:pt x="0" y="383"/>
                </a:lnTo>
                <a:lnTo>
                  <a:pt x="263" y="19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46360" y="1801800"/>
            <a:ext cx="0" cy="3049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22600" y="1375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0440" y="1255680"/>
            <a:ext cx="1256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41920" y="1255680"/>
            <a:ext cx="2109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77040" y="1349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57880" y="1255680"/>
            <a:ext cx="2109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9760" y="1333440"/>
            <a:ext cx="4827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92920" y="1409760"/>
            <a:ext cx="27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448080" y="1168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65640" y="1179360"/>
            <a:ext cx="2109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97160" y="2158920"/>
            <a:ext cx="4809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80320" y="2235240"/>
            <a:ext cx="27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92520" y="23115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25720" y="1625760"/>
            <a:ext cx="0" cy="6094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46440" y="1246320"/>
            <a:ext cx="572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6160" y="2052720"/>
            <a:ext cx="572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3880" y="17017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695320" y="15494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548080" y="1479600"/>
            <a:ext cx="66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556000" y="147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374920" y="1377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78160" y="16365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95360" y="1378080"/>
            <a:ext cx="1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760" y="1440000"/>
            <a:ext cx="82440" cy="1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68320" y="21398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690640" y="2378160"/>
            <a:ext cx="49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43040" y="247320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35120" y="2139840"/>
            <a:ext cx="180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79600" y="2405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392200" y="2136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05080" y="255420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351160" y="2220120"/>
            <a:ext cx="82440" cy="1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1244520"/>
            <a:ext cx="1256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114720" y="2257560"/>
            <a:ext cx="82080" cy="85680"/>
            <a:chOff x="3114720" y="2257560"/>
            <a:chExt cx="82080" cy="85680"/>
          </a:xfrm>
        </p:grpSpPr>
        <p:sp>
          <p:nvSpPr>
            <p:cNvPr id="118" name=""/>
            <p:cNvSpPr/>
            <p:nvPr/>
          </p:nvSpPr>
          <p:spPr>
            <a:xfrm>
              <a:off x="3114720" y="225756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4720" y="23432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46400" y="1627200"/>
            <a:ext cx="82080" cy="85680"/>
            <a:chOff x="3146400" y="1627200"/>
            <a:chExt cx="82080" cy="85680"/>
          </a:xfrm>
        </p:grpSpPr>
        <p:sp>
          <p:nvSpPr>
            <p:cNvPr id="121" name=""/>
            <p:cNvSpPr/>
            <p:nvPr/>
          </p:nvSpPr>
          <p:spPr>
            <a:xfrm>
              <a:off x="3146400" y="162720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46400" y="171288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900520" y="1778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704960" y="2421000"/>
            <a:ext cx="6480" cy="34776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04960" y="2768760"/>
            <a:ext cx="319392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898880" y="2387160"/>
            <a:ext cx="0" cy="38124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14680" y="2335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57760" y="4416480"/>
            <a:ext cx="1003320" cy="92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57760" y="4416480"/>
            <a:ext cx="1003320" cy="92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68640" y="5197320"/>
            <a:ext cx="75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nt End FP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55800" y="4454640"/>
            <a:ext cx="1073160" cy="86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36800" y="4505400"/>
            <a:ext cx="379080" cy="73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6840" y="4334040"/>
            <a:ext cx="51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700" spc="-1" strike="noStrike">
                <a:solidFill>
                  <a:srgbClr val="000000"/>
                </a:solidFill>
                <a:latin typeface="Arial"/>
              </a:rPr>
              <a:t>12x Opto R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92800" y="4815720"/>
            <a:ext cx="61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5240" y="4645080"/>
            <a:ext cx="6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ynch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15880" y="4641840"/>
            <a:ext cx="24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94040" y="4371840"/>
            <a:ext cx="572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63560" y="4533840"/>
            <a:ext cx="171720" cy="228600"/>
          </a:xfrm>
          <a:custGeom>
            <a:avLst/>
            <a:gdLst/>
            <a:ahLst/>
            <a:rect l="l" t="t" r="r" b="b"/>
            <a:pathLst>
              <a:path w="263" h="383">
                <a:moveTo>
                  <a:pt x="0" y="8"/>
                </a:moveTo>
                <a:lnTo>
                  <a:pt x="0" y="383"/>
                </a:lnTo>
                <a:lnTo>
                  <a:pt x="263" y="19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31800" y="4511520"/>
            <a:ext cx="379440" cy="72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15880" y="5076720"/>
            <a:ext cx="24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63560" y="4968720"/>
            <a:ext cx="171720" cy="228600"/>
          </a:xfrm>
          <a:custGeom>
            <a:avLst/>
            <a:gdLst/>
            <a:ahLst/>
            <a:rect l="l" t="t" r="r" b="b"/>
            <a:pathLst>
              <a:path w="263" h="383">
                <a:moveTo>
                  <a:pt x="0" y="8"/>
                </a:moveTo>
                <a:lnTo>
                  <a:pt x="0" y="383"/>
                </a:lnTo>
                <a:lnTo>
                  <a:pt x="263" y="19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46360" y="4707000"/>
            <a:ext cx="0" cy="3045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60" y="4827600"/>
            <a:ext cx="6094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722600" y="428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9760" y="4218120"/>
            <a:ext cx="4827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92920" y="4294080"/>
            <a:ext cx="27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7160" y="5121360"/>
            <a:ext cx="4809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80320" y="5197320"/>
            <a:ext cx="27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35640" y="4156200"/>
            <a:ext cx="1134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21600" y="5059440"/>
            <a:ext cx="1134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704960" y="5326200"/>
            <a:ext cx="6480" cy="32832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04960" y="5654520"/>
            <a:ext cx="327672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4680" y="52401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660480" y="2463840"/>
            <a:ext cx="33012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6640" y="29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81880" y="2946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47120" y="2948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12000" y="293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57840" y="1981080"/>
            <a:ext cx="592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7440" y="199404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50040" y="3276720"/>
            <a:ext cx="743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67560" y="2062080"/>
            <a:ext cx="49500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67600" y="2057400"/>
            <a:ext cx="0" cy="130500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67600" y="3352680"/>
            <a:ext cx="82548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57840" y="5038560"/>
            <a:ext cx="57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335640" y="38952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5640" y="3895560"/>
            <a:ext cx="743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57840" y="4962600"/>
            <a:ext cx="49536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253200" y="3819240"/>
            <a:ext cx="0" cy="114300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53200" y="3819600"/>
            <a:ext cx="82548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30880" y="3446640"/>
            <a:ext cx="86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adout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ynch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0680" y="1397160"/>
            <a:ext cx="169560" cy="228600"/>
          </a:xfrm>
          <a:custGeom>
            <a:avLst/>
            <a:gdLst/>
            <a:ahLst/>
            <a:rect l="l" t="t" r="r" b="b"/>
            <a:pathLst>
              <a:path w="263" h="383">
                <a:moveTo>
                  <a:pt x="0" y="8"/>
                </a:moveTo>
                <a:lnTo>
                  <a:pt x="0" y="383"/>
                </a:lnTo>
                <a:lnTo>
                  <a:pt x="263" y="19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30680" y="2301840"/>
            <a:ext cx="169560" cy="228600"/>
          </a:xfrm>
          <a:custGeom>
            <a:avLst/>
            <a:gdLst/>
            <a:ahLst/>
            <a:rect l="l" t="t" r="r" b="b"/>
            <a:pathLst>
              <a:path w="263" h="383">
                <a:moveTo>
                  <a:pt x="0" y="8"/>
                </a:moveTo>
                <a:lnTo>
                  <a:pt x="0" y="383"/>
                </a:lnTo>
                <a:lnTo>
                  <a:pt x="263" y="19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73360" y="460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714400" y="4443480"/>
            <a:ext cx="49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590560" y="4381560"/>
            <a:ext cx="61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81280" y="5013360"/>
            <a:ext cx="79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712960" y="5273640"/>
            <a:ext cx="47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584080" y="5349960"/>
            <a:ext cx="61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2560" y="344340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S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600" y="185436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S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15600" y="474012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S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62600" y="1703520"/>
            <a:ext cx="42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29440" y="35053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8280" y="1846440"/>
            <a:ext cx="398520" cy="228600"/>
          </a:xfrm>
          <a:prstGeom prst="rect">
            <a:avLst/>
          </a:prstGeom>
          <a:solidFill>
            <a:srgbClr val="77777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8280" y="4751280"/>
            <a:ext cx="398520" cy="228600"/>
          </a:xfrm>
          <a:prstGeom prst="rect">
            <a:avLst/>
          </a:prstGeom>
          <a:solidFill>
            <a:srgbClr val="77777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64480" y="1949400"/>
            <a:ext cx="690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" y="1906560"/>
            <a:ext cx="609480" cy="8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889520" y="1358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2680" y="2203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042040" y="327672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87480" y="2235240"/>
            <a:ext cx="247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38680" y="2178000"/>
            <a:ext cx="1134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87480" y="1320840"/>
            <a:ext cx="247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00240" y="1263600"/>
            <a:ext cx="572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7560" y="1473120"/>
            <a:ext cx="572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00080" y="5337000"/>
            <a:ext cx="247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18800" y="5356080"/>
            <a:ext cx="22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Sen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18800" y="2451240"/>
            <a:ext cx="22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Sen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981680" y="5349960"/>
            <a:ext cx="0" cy="30456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34815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01880" y="162576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43520" y="2111400"/>
            <a:ext cx="495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43520" y="2111400"/>
            <a:ext cx="49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4x Pr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la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62600" y="2417760"/>
            <a:ext cx="42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24480" y="1625760"/>
            <a:ext cx="23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24480" y="2311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06840" y="1320840"/>
            <a:ext cx="572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06840" y="2036880"/>
            <a:ext cx="572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660480" y="1701720"/>
            <a:ext cx="33012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73400" y="4254480"/>
            <a:ext cx="4953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73400" y="4254480"/>
            <a:ext cx="49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4x Pr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la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527364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7760" y="4483080"/>
            <a:ext cx="0" cy="6094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692160" y="5349960"/>
            <a:ext cx="33012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92840" y="4560840"/>
            <a:ext cx="42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4355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73400" y="4968720"/>
            <a:ext cx="4953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73400" y="4968720"/>
            <a:ext cx="49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4x Pr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la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92840" y="5275440"/>
            <a:ext cx="42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67320" y="4483080"/>
            <a:ext cx="18576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68760" y="5168880"/>
            <a:ext cx="18432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42120" y="4194000"/>
            <a:ext cx="1134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42120" y="4910040"/>
            <a:ext cx="1134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692160" y="4538520"/>
            <a:ext cx="33012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78880" y="4124160"/>
            <a:ext cx="247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97600" y="4143240"/>
            <a:ext cx="22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Sen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073400" y="12333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403880" y="12333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21080" y="1244520"/>
            <a:ext cx="2109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1231920"/>
            <a:ext cx="2109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928960" y="124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44720" y="1149480"/>
            <a:ext cx="1256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35360" y="1778040"/>
            <a:ext cx="15912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917800" y="1549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639280" y="2133720"/>
            <a:ext cx="22860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16600" y="287028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919191"/>
                </a:solidFill>
                <a:latin typeface="Arial"/>
              </a:rPr>
              <a:t>sp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191120" y="3249720"/>
            <a:ext cx="659880" cy="380880"/>
            <a:chOff x="4191120" y="3249720"/>
            <a:chExt cx="659880" cy="380880"/>
          </a:xfrm>
        </p:grpSpPr>
        <p:sp>
          <p:nvSpPr>
            <p:cNvPr id="239" name=""/>
            <p:cNvSpPr/>
            <p:nvPr/>
          </p:nvSpPr>
          <p:spPr>
            <a:xfrm>
              <a:off x="4191120" y="3363840"/>
              <a:ext cx="247320" cy="15192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50000">
                  <a:srgbClr val="919191"/>
                </a:gs>
                <a:gs pos="100000">
                  <a:srgbClr val="424242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38440" y="3249720"/>
              <a:ext cx="4125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03680" y="3325680"/>
              <a:ext cx="169200" cy="228240"/>
            </a:xfrm>
            <a:custGeom>
              <a:avLst/>
              <a:gdLst/>
              <a:ahLst/>
              <a:rect l="l" t="t" r="r" b="b"/>
              <a:pathLst>
                <a:path w="263" h="383">
                  <a:moveTo>
                    <a:pt x="0" y="8"/>
                  </a:moveTo>
                  <a:lnTo>
                    <a:pt x="0" y="383"/>
                  </a:lnTo>
                  <a:lnTo>
                    <a:pt x="263" y="192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4418640" y="3348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660920" y="3375720"/>
            <a:ext cx="509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26840" y="1752480"/>
            <a:ext cx="703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oundary Sc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26440" y="1752480"/>
            <a:ext cx="45720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889760" y="194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867880" y="1873080"/>
            <a:ext cx="7596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53480" y="51055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E-F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ot sw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C-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89920" y="3962520"/>
            <a:ext cx="747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ack End FP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42840" y="64008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334360" y="6019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5640" y="63244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8720" y="3397320"/>
            <a:ext cx="152640" cy="75960"/>
          </a:xfrm>
          <a:prstGeom prst="rect">
            <a:avLst/>
          </a:prstGeom>
          <a:gradFill rotWithShape="0">
            <a:gsLst>
              <a:gs pos="0">
                <a:srgbClr val="5e5e5e"/>
              </a:gs>
              <a:gs pos="50000">
                <a:srgbClr val="cecece"/>
              </a:gs>
              <a:gs pos="100000">
                <a:srgbClr val="5e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53480" y="4343400"/>
            <a:ext cx="0" cy="3808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53480" y="4724280"/>
            <a:ext cx="30456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58040" y="4724280"/>
            <a:ext cx="0" cy="38124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724520" y="4724280"/>
            <a:ext cx="228600" cy="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9480" y="2670120"/>
            <a:ext cx="0" cy="1522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015560" y="2822400"/>
            <a:ext cx="228600" cy="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30400" y="5556240"/>
            <a:ext cx="0" cy="1522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996480" y="5708520"/>
            <a:ext cx="228600" cy="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10680" y="2257560"/>
            <a:ext cx="247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19680" y="2276640"/>
            <a:ext cx="22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Sen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50360" y="2495520"/>
            <a:ext cx="0" cy="1522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416440" y="2647800"/>
            <a:ext cx="228600" cy="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43040" y="3232080"/>
            <a:ext cx="228600" cy="196920"/>
          </a:xfrm>
          <a:prstGeom prst="ellipse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999520" y="1854360"/>
            <a:ext cx="762120" cy="22860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12x trim d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95680" y="1549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95680" y="1962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95680" y="1834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62360" y="1968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999520" y="4740120"/>
            <a:ext cx="762120" cy="22860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12x trim d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2360" y="4842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29560" y="1758960"/>
            <a:ext cx="4572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Jump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86760" y="1949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62720" y="1244520"/>
            <a:ext cx="5335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ompact Fl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1880" y="1955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42400" y="1670040"/>
            <a:ext cx="6094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VME64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10480" y="1447920"/>
            <a:ext cx="4572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39080" y="152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48560" y="152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8040" y="1293840"/>
            <a:ext cx="78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st Connect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91160" y="24638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518680" y="2190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42840" y="621036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4240" y="6134040"/>
            <a:ext cx="2286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4240" y="6324480"/>
            <a:ext cx="2286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1160" y="6039000"/>
            <a:ext cx="10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Hot swap cy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42840" y="62485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ive extract req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029440" y="1219320"/>
            <a:ext cx="4572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E2P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58040" y="1523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62160" y="1854360"/>
            <a:ext cx="3049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Vre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67080" y="1930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19360" y="1521000"/>
            <a:ext cx="0" cy="89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623680" y="24192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623680" y="15159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020160" y="1295280"/>
            <a:ext cx="152280" cy="152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020160" y="3352680"/>
            <a:ext cx="15228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020160" y="2895480"/>
            <a:ext cx="1522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523440" y="3429000"/>
            <a:ext cx="2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A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523440" y="3156120"/>
            <a:ext cx="240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62920" y="3384720"/>
            <a:ext cx="42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8486640" y="3232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555120" y="375912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919191"/>
                </a:solidFill>
                <a:latin typeface="Arial"/>
              </a:rPr>
              <a:t>Sp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705440" y="5181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705440" y="5334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705440" y="5486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705440" y="563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05800" y="551196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05800" y="5181480"/>
            <a:ext cx="24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 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05800" y="5054760"/>
            <a:ext cx="24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0 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05800" y="533412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476360" y="284472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476360" y="25401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47760" y="2540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91160" y="5334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476360" y="572760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476360" y="548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47760" y="5486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8639280" y="4723920"/>
            <a:ext cx="0" cy="3812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639280" y="472428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943840" y="2743200"/>
            <a:ext cx="0" cy="1981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943840" y="2743200"/>
            <a:ext cx="763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7245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74120" y="5664240"/>
            <a:ext cx="24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5.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7157880" y="2576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39080" y="2482920"/>
            <a:ext cx="2109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595600" y="438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397240" y="42638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00480" y="453240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17680" y="4264200"/>
            <a:ext cx="14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59080" y="4341960"/>
            <a:ext cx="82440" cy="1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76520" y="501012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92200" y="5272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405160" y="5006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17680" y="542124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363760" y="5087160"/>
            <a:ext cx="82440" cy="1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22480" y="467352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52640" y="4292640"/>
            <a:ext cx="169920" cy="228600"/>
          </a:xfrm>
          <a:custGeom>
            <a:avLst/>
            <a:gdLst/>
            <a:ahLst/>
            <a:rect l="l" t="t" r="r" b="b"/>
            <a:pathLst>
              <a:path w="263" h="383">
                <a:moveTo>
                  <a:pt x="0" y="8"/>
                </a:moveTo>
                <a:lnTo>
                  <a:pt x="0" y="383"/>
                </a:lnTo>
                <a:lnTo>
                  <a:pt x="263" y="19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52640" y="5197320"/>
            <a:ext cx="169920" cy="228600"/>
          </a:xfrm>
          <a:custGeom>
            <a:avLst/>
            <a:gdLst/>
            <a:ahLst/>
            <a:rect l="l" t="t" r="r" b="b"/>
            <a:pathLst>
              <a:path w="263" h="383">
                <a:moveTo>
                  <a:pt x="0" y="8"/>
                </a:moveTo>
                <a:lnTo>
                  <a:pt x="0" y="383"/>
                </a:lnTo>
                <a:lnTo>
                  <a:pt x="263" y="19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09800" y="5130720"/>
            <a:ext cx="2476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61000" y="5073480"/>
            <a:ext cx="1134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9800" y="4216320"/>
            <a:ext cx="2476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22920" y="4159080"/>
            <a:ext cx="1134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951280" y="413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940120" y="4444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17640" y="4444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17640" y="48578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717640" y="4730760"/>
            <a:ext cx="0" cy="54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84480" y="4749840"/>
            <a:ext cx="3045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Vre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89040" y="48261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41680" y="4416480"/>
            <a:ext cx="0" cy="89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638440" y="5311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646000" y="4411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454880" y="2590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35720" y="2496960"/>
            <a:ext cx="2109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4720" y="1185840"/>
            <a:ext cx="496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Run/Hal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45160" y="1327320"/>
            <a:ext cx="40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920" y="1509840"/>
            <a:ext cx="631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Power Goo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6600" y="1276200"/>
            <a:ext cx="75960" cy="76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6600" y="1403280"/>
            <a:ext cx="75960" cy="76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6600" y="1530360"/>
            <a:ext cx="75960" cy="76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568440" y="1365120"/>
            <a:ext cx="3808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LE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0120" y="5916600"/>
            <a:ext cx="76320" cy="76320"/>
          </a:xfrm>
          <a:prstGeom prst="rect">
            <a:avLst/>
          </a:prstGeom>
          <a:gradFill rotWithShape="0">
            <a:gsLst>
              <a:gs pos="0">
                <a:srgbClr val="021c6a"/>
              </a:gs>
              <a:gs pos="50000">
                <a:srgbClr val="063de8"/>
              </a:gs>
              <a:gs pos="100000">
                <a:srgbClr val="021c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676080" y="5878440"/>
            <a:ext cx="1526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4680" y="5853240"/>
            <a:ext cx="46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extra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8280" y="6172200"/>
            <a:ext cx="7596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562960" y="121932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E2 Pr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715240" y="152388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486640" y="159552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486640" y="1600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73520" y="3510000"/>
            <a:ext cx="509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7840" y="3498840"/>
            <a:ext cx="18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F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4800" y="3537000"/>
            <a:ext cx="76320" cy="76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4800" y="3664080"/>
            <a:ext cx="76320" cy="7596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4800" y="3790800"/>
            <a:ext cx="76320" cy="76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566640" y="3625560"/>
            <a:ext cx="3812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LE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2600" y="3757680"/>
            <a:ext cx="34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F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880" y="4197240"/>
            <a:ext cx="40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Read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9000" y="5943600"/>
            <a:ext cx="713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8440" y="2133720"/>
            <a:ext cx="24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+12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0120" y="2171880"/>
            <a:ext cx="76320" cy="7596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0120" y="2298600"/>
            <a:ext cx="76320" cy="76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0120" y="2425680"/>
            <a:ext cx="76320" cy="76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561960" y="2260440"/>
            <a:ext cx="3808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LE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840" y="2273400"/>
            <a:ext cx="18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+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4440" y="2394000"/>
            <a:ext cx="27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+3.3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920" y="1879560"/>
            <a:ext cx="267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F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920" y="4784760"/>
            <a:ext cx="267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FE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2920" y="3645000"/>
            <a:ext cx="22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EM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6600" y="3943440"/>
            <a:ext cx="75960" cy="7596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6600" y="4070520"/>
            <a:ext cx="75960" cy="7596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6600" y="4197240"/>
            <a:ext cx="75960" cy="76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568080" y="4031640"/>
            <a:ext cx="3812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LE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5480" y="3917880"/>
            <a:ext cx="39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3320" y="4070520"/>
            <a:ext cx="40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4040" y="4033800"/>
            <a:ext cx="513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8000" y="373212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65920" y="3733920"/>
            <a:ext cx="109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6120" y="2533680"/>
            <a:ext cx="27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+2.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6600" y="2571840"/>
            <a:ext cx="75960" cy="7596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6600" y="2698920"/>
            <a:ext cx="75960" cy="7596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6600" y="2825640"/>
            <a:ext cx="75960" cy="76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568080" y="2660040"/>
            <a:ext cx="3812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LE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9640" y="2673360"/>
            <a:ext cx="27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+1.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6120" y="2793960"/>
            <a:ext cx="24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-5.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9840" y="4602240"/>
            <a:ext cx="30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hal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3360" y="4348080"/>
            <a:ext cx="75960" cy="76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3360" y="4475160"/>
            <a:ext cx="75960" cy="76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3360" y="4602240"/>
            <a:ext cx="75960" cy="7596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565200" y="4437000"/>
            <a:ext cx="3808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LE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0920" y="4322880"/>
            <a:ext cx="24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Bu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0000" y="4475160"/>
            <a:ext cx="23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28720" y="4527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892080" y="3686040"/>
            <a:ext cx="0" cy="84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22240" y="36892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160" y="32828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971800"/>
            <a:ext cx="50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Over te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2997360"/>
            <a:ext cx="76320" cy="7596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3124080"/>
            <a:ext cx="76320" cy="76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3251160"/>
            <a:ext cx="76320" cy="7632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571320" y="3085920"/>
            <a:ext cx="3808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LE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899560" y="4070520"/>
            <a:ext cx="7632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826480" y="19447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823240" y="41464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991720" y="4146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517320" y="4070520"/>
            <a:ext cx="27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88240" y="2463840"/>
            <a:ext cx="543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20280" y="4191120"/>
            <a:ext cx="543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4297320"/>
            <a:ext cx="5724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14400" y="4114800"/>
            <a:ext cx="5029200" cy="16765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1219320"/>
            <a:ext cx="5029200" cy="167616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4267080"/>
            <a:ext cx="2109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23200" y="4267080"/>
            <a:ext cx="2109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238880" y="4098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543800" y="4098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91880" y="19080"/>
            <a:ext cx="866124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400" spc="-1" strike="noStrike">
                <a:solidFill>
                  <a:srgbClr val="b50069"/>
                </a:solidFill>
                <a:latin typeface="Arial"/>
              </a:rPr>
              <a:t>FEDv1 </a:t>
            </a:r>
            <a:br>
              <a:rPr sz="2800"/>
            </a:b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Board Layout Primary Side</a:t>
            </a:r>
            <a:endParaRPr b="1" i="1" lang="en-US" sz="2000" spc="-1" strike="noStrike">
              <a:solidFill>
                <a:srgbClr val="b50069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8680" y="1143000"/>
            <a:ext cx="6418440" cy="53434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53080" y="1390320"/>
            <a:ext cx="3200400" cy="51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rcRect l="0" t="0" r="0" b="-1749"/>
          <a:stretch/>
        </p:blipFill>
        <p:spPr>
          <a:xfrm>
            <a:off x="228600" y="1143000"/>
            <a:ext cx="6237360" cy="52578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91880" y="19080"/>
            <a:ext cx="866124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400" spc="-1" strike="noStrike">
                <a:solidFill>
                  <a:srgbClr val="b50069"/>
                </a:solidFill>
                <a:latin typeface="Arial"/>
              </a:rPr>
              <a:t>FEDv1 </a:t>
            </a:r>
            <a:br>
              <a:rPr sz="2800"/>
            </a:b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Board Layout Secondary Side</a:t>
            </a:r>
            <a:endParaRPr b="1" i="1" lang="en-US" sz="2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53080" y="1390320"/>
            <a:ext cx="3200400" cy="51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1920" indent="-331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ew Through board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6T01:06:44Z</dcterms:created>
  <dc:creator>Rob Halsall</dc:creator>
  <dc:description/>
  <dc:language>en-US</dc:language>
  <cp:lastModifiedBy>rha73</cp:lastModifiedBy>
  <cp:lastPrinted>2002-07-29T10:30:05Z</cp:lastPrinted>
  <dcterms:modified xsi:type="dcterms:W3CDTF">2002-10-29T12:36:02Z</dcterms:modified>
  <cp:revision>162</cp:revision>
  <dc:subject/>
  <dc:title>Group Meeting Mar 99</dc:title>
</cp:coreProperties>
</file>