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03F-BA44-44DF-970F-E4FA53BE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6B3-3843-43F0-8168-021D222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16A-0710-4E3D-9FB0-116B89D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13C-EA44-446F-93E5-AB1352B1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2A7-42FF-4D4B-AEE3-D31FBDFB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4B7-FB93-4300-8CA1-30FE3A9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965-DF85-4D1A-8A9C-31169DA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589-FE57-42AB-B831-FC5910D6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3A7-B1B0-4443-974B-6411A02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509-2DCF-4054-9F92-77CDC1A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829-C256-4AA3-A114-2FF8387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93B-644D-4A4C-AF49-EA31577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1AB-444A-4A4F-979C-5898C497E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685800"/>
            <a:ext cx="533520" cy="9144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876920"/>
            <a:ext cx="5335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90" y="3261"/>
                  <a:pt x="18180" y="5080"/>
                  <a:pt x="18180" y="10800"/>
                </a:cubicBezTo>
                <a:cubicBezTo>
                  <a:pt x="18180" y="16520"/>
                  <a:pt x="19890" y="183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620880" y="1334520"/>
            <a:ext cx="1521000" cy="533520"/>
          </a:xfrm>
          <a:custGeom>
            <a:avLst/>
            <a:gdLst>
              <a:gd name="textAreaLeft" fmla="*/ 334440 w 1521000"/>
              <a:gd name="textAreaRight" fmla="*/ 1186560 w 152100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914400"/>
            <a:ext cx="381240" cy="9144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838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1447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71080" y="838080"/>
            <a:ext cx="7621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90" y="3261"/>
                  <a:pt x="18180" y="5080"/>
                  <a:pt x="18180" y="10800"/>
                </a:cubicBezTo>
                <a:cubicBezTo>
                  <a:pt x="18180" y="16520"/>
                  <a:pt x="19890" y="183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914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219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1219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523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828800"/>
            <a:ext cx="609840" cy="4572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057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10666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752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295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514600"/>
            <a:ext cx="609480" cy="685800"/>
          </a:xfrm>
          <a:prstGeom prst="rect">
            <a:avLst/>
          </a:prstGeom>
          <a:solidFill>
            <a:srgbClr val="a5f9c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281952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819520"/>
            <a:ext cx="25146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590920"/>
            <a:ext cx="381240" cy="4572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2971800"/>
            <a:ext cx="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32004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657600"/>
            <a:ext cx="609840" cy="838080"/>
          </a:xfrm>
          <a:prstGeom prst="rect">
            <a:avLst/>
          </a:prstGeom>
          <a:solidFill>
            <a:srgbClr val="a5f9c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3352680"/>
            <a:ext cx="380880" cy="11430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657600"/>
            <a:ext cx="381240" cy="8380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40384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733920"/>
            <a:ext cx="2362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8862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40384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267080"/>
            <a:ext cx="2362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4197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9112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1972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02920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876920"/>
            <a:ext cx="381240" cy="4572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876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5105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724280"/>
            <a:ext cx="381240" cy="6858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800600"/>
            <a:ext cx="609480" cy="609480"/>
          </a:xfrm>
          <a:prstGeom prst="rect">
            <a:avLst/>
          </a:prstGeom>
          <a:solidFill>
            <a:srgbClr val="a5f9c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0040" y="4952880"/>
            <a:ext cx="203040" cy="5040"/>
          </a:xfrm>
          <a:custGeom>
            <a:avLst/>
            <a:gdLst/>
            <a:ahLst/>
            <a:rect l="l" t="t" r="r" b="b"/>
            <a:pathLst>
              <a:path w="128" h="3">
                <a:moveTo>
                  <a:pt x="0" y="0"/>
                </a:moveTo>
                <a:lnTo>
                  <a:pt x="128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105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2578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00600" y="1523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5867280"/>
            <a:ext cx="571500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8108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190760" y="5562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48320" y="37335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5181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914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HD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1430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Black"/>
              </a:rPr>
              <a:t>(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SMA ?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HD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9164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HD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4952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HD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0969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VTTL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255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IM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 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666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5812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x 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763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x NIM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 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600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x NIM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 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371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x LVTTL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48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5334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724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VDS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983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IM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 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211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/c TTL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L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25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 Black"/>
              </a:rPr>
              <a:t>A)  </a:t>
            </a: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 Black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406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 Black"/>
              </a:rPr>
              <a:t>B)  </a:t>
            </a: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 Black"/>
              </a:rPr>
              <a:t>FAST 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64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 Black"/>
              </a:rPr>
              <a:t>D)  </a:t>
            </a: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 Black"/>
              </a:rPr>
              <a:t>BU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048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 Black"/>
              </a:rPr>
              <a:t>C)  </a:t>
            </a: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 Black"/>
              </a:rPr>
              <a:t>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8080" y="19051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2120"/>
            <a:ext cx="5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T.CL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02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3716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PX +P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5909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W-1 2-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7040" y="3809880"/>
            <a:ext cx="6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W-2 5-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769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W-3 2-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80880"/>
            <a:ext cx="457200" cy="304920"/>
          </a:xfrm>
          <a:prstGeom prst="rect">
            <a:avLst/>
          </a:prstGeom>
          <a:solidFill>
            <a:srgbClr val="a5f9c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80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W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5331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533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8975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CB-1  HEADER /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364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53334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983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59400" y="5256360"/>
            <a:ext cx="193680" cy="1440"/>
          </a:xfrm>
          <a:custGeom>
            <a:avLst/>
            <a:gdLst/>
            <a:ahLst/>
            <a:rect l="l" t="t" r="r" b="b"/>
            <a:pathLst>
              <a:path w="122" h="1">
                <a:moveTo>
                  <a:pt x="0" y="0"/>
                </a:moveTo>
                <a:lnTo>
                  <a:pt x="12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983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3334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5627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30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990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30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040" y="5638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91120" y="3505320"/>
            <a:ext cx="30456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475" y="2395"/>
                  <a:pt x="13350" y="5080"/>
                  <a:pt x="13350" y="10800"/>
                </a:cubicBezTo>
                <a:cubicBezTo>
                  <a:pt x="13350" y="16520"/>
                  <a:pt x="17475" y="192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6360" y="4191120"/>
            <a:ext cx="22860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475" y="2395"/>
                  <a:pt x="13350" y="5080"/>
                  <a:pt x="13350" y="10800"/>
                </a:cubicBezTo>
                <a:cubicBezTo>
                  <a:pt x="13350" y="16520"/>
                  <a:pt x="17475" y="192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5592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514600"/>
            <a:ext cx="381240" cy="4572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819520"/>
            <a:ext cx="3808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80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UTO / X-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3276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1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VDS TRIGG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 Black"/>
              </a:rPr>
              <a:t>on RJ-45 ?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50532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828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~ 5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P + MW, UCL, 29-10-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19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276720"/>
            <a:ext cx="4038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276720"/>
            <a:ext cx="0" cy="2286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43200" y="3276720"/>
            <a:ext cx="36576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276720"/>
            <a:ext cx="0" cy="22860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43200" y="5562720"/>
            <a:ext cx="3657600" cy="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4290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3276720"/>
            <a:ext cx="609480" cy="3045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0960" y="3306600"/>
            <a:ext cx="595080" cy="276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P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228600"/>
            <a:ext cx="914400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CALICE  C&amp;C 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- DRAFT -5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OR COMMENTS &amp;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)     CLOCK 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 3x EXTERNAL  IN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LVTTL/CMOS (?)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 INTERNAL  X-TAL OSCILLATOR ( 100MHz clk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Inputs a1+a2+a3 converted to single-ended LVTTL/CMOS (?) level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three plain OR-ed together to produce single EXT-CLK-IN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 output divided-by-two to produce INT-CLK at 50MHz, LVTTL/CMOS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XT-CLK-IN and INT-CLK input into Mux-PLL ( ICS581 ? ) to produce single clock CLK-OU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switching from EXT-CLK-IN to INT-CLK if external clock missing for &gt; 3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Hardware switch SW-0 to force Mux. to switch to 50MHz INT-CLK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ux-PLL output : 45min/55max Duty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/- 150ps max absolute period j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-OUT OUTPUTS : 1) 8/10/12x Diff. LVDS outputs ( on HDMI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[ 8/10/12x Diff. LVDS outputs ( 2x SMA each ) ??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2x LVTTL/CMOS (?)  ( 1x Lemo 00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 2x NIM ( 1x LEMO 00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 1x Diff. LVDS on PCB-1 Header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79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)  FAST  TRIGGER 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x FAST TRIGGER INPUT :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Input B1) passed straight onto a dual rotary-selector switch or header/jumper selector SW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Input B1) passed also onto the PCB-1 Header as 1x Diff. LVDS output 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/10/12x  FAST TRIGGER OUTPUTS : 1) 8/10/12x Diff. LVDS outputs ( on HDMI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d from the output of the selector SW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either the Input A or from Inpu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the PCB-1 Header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)  CONTROL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 3x EXT. TRIGGER IN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[ 1x Diff. LVDS ( 1x PJ-45 ) ??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 2x EXT. START IN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) 2x EXT. AUX-1 IN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) 2x EXT. AUX-2 IN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ach set of Inputs c1+c2+c3, d1+d2, e1+e2, f1+f2 are OR-ed toge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ing single-ended signals c12, d12, f12. f12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ach line c12, d12, e12, f12 ends with rotary-selector switch or header/jumper selector SW-2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ach line c12, d12, e12, f12 passed also onto the PCB-1 Header as single-ended outputs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/10/12x  CONTROL OUTPUTS :  1) 8/10/12x Diff. LVDS outputs ( on HDMI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produced from the output of the selector SW-2 from either the four inputs c12, d12, e12, f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 from single Input CONTROL-P on the  PCB-1 Header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04920"/>
            <a:ext cx="9144000" cy="70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)  BUSY FEEDBACK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/10/12x  BUSY FEEDBACK INPUTS :  1) 8/10/12x Diff. LVDS ( on HDMI eac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All 8/10/12x inputs sent to the PCB-1 Header ( see below ), as well as being all OR-ed with the single output B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to a switch-selector or header/jumper SW-3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x BUSY OUTPUTS : 1) 1x Diff. LVDS ( 2x SM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1x NIM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1x o/collector TTL ( 1x Lemo 0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BUSY OUTPUTs produced from the output of the selector SW-3 from either the single BUSY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 from single input BUSY-P on the PCB-1 Header ( see below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ingle CPLD to take in all CONTROLS and BUSY signals to allow for masking etc. ( Thank you, Bart ! )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CB-1 HEADER 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tandard 0.1" dual PCB Header to provide connections to a control/ODR P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possible processing of signals on FP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CB-1 Header carries the following lin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e pair Diff. LVDS line CLK-OU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e pair Diff. LVDS line A Fast Trigger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e pair Diff. LVDS line AP Fast Trigger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four c12, d12, e12, f12 single-ended CONTROL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e single-ended CONTROL-P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8/10/12 single-ended BUSY-N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one single-ended BUSY-P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WER 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t is proposed to have an external P/S, connected to the C&amp;C PCB by a DC power 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39800" y="393120"/>
            <a:ext cx="6532560" cy="358560"/>
          </a:xfrm>
          <a:prstGeom prst="rect">
            <a:avLst/>
          </a:pr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D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320" y="1774800"/>
          <a:ext cx="48546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1774800"/>
                    <a:ext cx="48546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029200" y="2657520"/>
          <a:ext cx="3889440" cy="204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657520"/>
                    <a:ext cx="38894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22160" y="979200"/>
            <a:ext cx="86076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DA-DIF Cable and Conn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632448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urice Goodrick and Bart Hommels, University of Cam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6:06:34Z</dcterms:created>
  <dc:creator>mp</dc:creator>
  <dc:description/>
  <dc:language>en-US</dc:language>
  <cp:lastModifiedBy>mp</cp:lastModifiedBy>
  <dcterms:modified xsi:type="dcterms:W3CDTF">2007-10-29T10:52:53Z</dcterms:modified>
  <cp:revision>34</cp:revision>
  <dc:subject/>
  <dc:title>Slide 1</dc:title>
</cp:coreProperties>
</file>