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C607-34F5-4BCA-AD48-BAEBC9771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8E55-CDFE-4C9C-B4B8-E60F22D1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0555-4761-4494-96D9-C26963A8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49F5-5078-40C5-BD3B-C76137B59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69B7-45E9-419A-AD39-83C6A16D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26C4-FE69-4E02-988A-57D425C0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5E27-3C16-46E9-8D09-33F92542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9FD1-60D3-4E4A-AFA8-7D65E6D0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BBB4-2C00-46A7-8023-8151420B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CA3E-E77E-4654-9AB3-8769D93F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F472-1B6B-4DE5-A6E1-B3B3A314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514C-8755-47C6-A9B2-245BAFC4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4BEC-8837-48D4-873B-A769C763E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0000001" descr=""/>
          <p:cNvPicPr/>
          <p:nvPr/>
        </p:nvPicPr>
        <p:blipFill>
          <a:blip r:embed="rId1"/>
          <a:stretch/>
        </p:blipFill>
        <p:spPr>
          <a:xfrm>
            <a:off x="4495680" y="304920"/>
            <a:ext cx="3951360" cy="6019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3520" y="380880"/>
            <a:ext cx="3429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SUGGESTED DESIGN OF THE ATLAS - SCT BACK-OF-RACK OPTICAL CABLE R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57913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MP-UCL, 04-01-03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4:03:23Z</dcterms:created>
  <dc:creator>mp</dc:creator>
  <dc:description/>
  <dc:language>en-US</dc:language>
  <cp:lastModifiedBy>mp</cp:lastModifiedBy>
  <dcterms:modified xsi:type="dcterms:W3CDTF">2003-01-16T14:18:37Z</dcterms:modified>
  <cp:revision>1</cp:revision>
  <dc:subject/>
  <dc:title>No Slide Title</dc:title>
</cp:coreProperties>
</file>