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81EF1-2E3B-41EE-8D02-D71F6422A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52395-D149-47D2-B572-2C2C1CA6A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8F7DC-1943-470D-8B26-BF58A4D69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9E25A-96A2-473B-ADBE-A54E3925D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8F940-75A9-4EE6-92B8-1ECDA70AD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C2515-F843-4991-891D-02671EBD1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CC5D5-6DFA-4457-986E-A9F5103B5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FDB7E-A1FC-43B7-A1A7-94168C45E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7C791-1ADF-4460-95A8-48689AC54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A3FB3-57E2-444C-87AC-890E2CC8B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BDBEA-C894-464E-AB03-6DFB97782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D92B7-F306-4238-B6B9-A166FD083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3F6B8-8A7B-4ADB-9575-A8E0124FC6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73152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ff0066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99ff"/>
                </a:solidFill>
                <a:latin typeface="Times New Roman"/>
              </a:rPr>
              <a:t>Telecomm cable practic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ff0066"/>
                </a:solidFill>
                <a:latin typeface="Times New Roman"/>
              </a:rPr>
              <a:t>in Beiru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5791320"/>
            <a:ext cx="77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cli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459200" y="6400800"/>
            <a:ext cx="168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© by DI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42080" y="277920"/>
            <a:ext cx="2978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99ff"/>
                </a:solidFill>
                <a:latin typeface="Times New Roman"/>
              </a:rPr>
              <a:t>Telecomm cable pract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0066"/>
                </a:solidFill>
                <a:latin typeface="Times New Roman"/>
              </a:rPr>
              <a:t>in Beir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A0000003" descr=""/>
          <p:cNvPicPr/>
          <p:nvPr/>
        </p:nvPicPr>
        <p:blipFill>
          <a:blip r:embed="rId1"/>
          <a:stretch/>
        </p:blipFill>
        <p:spPr>
          <a:xfrm>
            <a:off x="1828800" y="1905120"/>
            <a:ext cx="7042320" cy="46972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948840" y="380880"/>
            <a:ext cx="4617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imple and transparent cable rout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nable speed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network prov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880" y="5791320"/>
            <a:ext cx="111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LI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A0000002" descr=""/>
          <p:cNvPicPr/>
          <p:nvPr/>
        </p:nvPicPr>
        <p:blipFill>
          <a:blip r:embed="rId1"/>
          <a:stretch/>
        </p:blipFill>
        <p:spPr>
          <a:xfrm>
            <a:off x="4267080" y="255600"/>
            <a:ext cx="4335480" cy="66024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-4680" y="1905120"/>
            <a:ext cx="4316760" cy="385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recise documentation of each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e ensures fast access t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connect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ubstantial construction of th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oss-connexion housing prevent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ference with  th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sitive technolog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80" y="5791320"/>
            <a:ext cx="111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LI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42080" y="277920"/>
            <a:ext cx="2978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99ff"/>
                </a:solidFill>
                <a:latin typeface="Times New Roman"/>
              </a:rPr>
              <a:t>Telecomm cable pract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0066"/>
                </a:solidFill>
                <a:latin typeface="Times New Roman"/>
              </a:rPr>
              <a:t>in Beir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30040" y="228600"/>
            <a:ext cx="3408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Fortbildungsmaßnahm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ff"/>
                </a:solidFill>
                <a:latin typeface="Times New Roman"/>
              </a:rPr>
              <a:t>Schalttechni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ff"/>
                </a:solidFill>
                <a:latin typeface="Times New Roman"/>
              </a:rPr>
              <a:t>leicht gemac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in Beir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A0000001" descr=""/>
          <p:cNvPicPr/>
          <p:nvPr/>
        </p:nvPicPr>
        <p:blipFill>
          <a:blip r:embed="rId1"/>
          <a:stretch/>
        </p:blipFill>
        <p:spPr>
          <a:xfrm>
            <a:off x="4191120" y="304920"/>
            <a:ext cx="4302000" cy="65530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1080" y="2384280"/>
            <a:ext cx="4042440" cy="344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Tight jumper wire guidance ma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appear  exaggerated,  it is howeve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for the ease of acces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indispensable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Because of this clarity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a hand always remains free fo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a cigarette !!!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600" y="5791320"/>
            <a:ext cx="207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LICK  EN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288880" y="6400800"/>
            <a:ext cx="168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© by DI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15T18:45:59Z</dcterms:created>
  <dc:creator>EinGeschätzterMicrosoftKunde</dc:creator>
  <dc:description/>
  <dc:language>en-US</dc:language>
  <cp:lastModifiedBy>Roderick R Evans</cp:lastModifiedBy>
  <dcterms:modified xsi:type="dcterms:W3CDTF">2002-09-16T08:43:43Z</dcterms:modified>
  <cp:revision>4</cp:revision>
  <dc:subject/>
  <dc:title>Kein Folientitel</dc:title>
</cp:coreProperties>
</file>