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42C9-593B-4BC1-91E9-DC1CF18D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772-8555-4859-871C-1E3995DD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D0B-453B-4BFE-A216-B60988DB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4964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000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928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4964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000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1E5-1F8C-4E8B-94F6-616B21A8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D73-76DE-49BF-A48A-F2F3D523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151-4BCA-4C89-B166-B1357C03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D1B-8C42-400D-AB05-EDAAE9F2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B13-63E0-4441-82D9-9895BB1E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4920" y="-229680"/>
            <a:ext cx="7078680" cy="50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7644-7792-4D2B-BE10-537A2288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07A-89EF-4CC1-ADFB-38EBB317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A9F-2E95-4B79-BEA9-53F89589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93F-9157-4DF8-9841-3440A0F0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6485040"/>
            <a:ext cx="84963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476280"/>
            <a:ext cx="878544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Century Schoolbook"/>
              </a:rPr>
              <a:t>Click to edit the title text format</a:t>
            </a: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77840" y="6371640"/>
            <a:ext cx="1293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18 December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550600" y="6522120"/>
            <a:ext cx="320364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Schoolbook"/>
              </a:rPr>
              <a:t>ATLAS-SCT Hardware Insta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084720" y="6487920"/>
            <a:ext cx="93528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E194-C60F-4377-BFDA-E7519266683B}" type="slidenum"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720280" y="6343560"/>
            <a:ext cx="315720" cy="385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 txBox="1"/>
          <p:nvPr/>
        </p:nvSpPr>
        <p:spPr>
          <a:xfrm>
            <a:off x="8310600" y="6561000"/>
            <a:ext cx="390600" cy="13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5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P</a:t>
            </a:r>
            <a:endParaRPr b="1" lang="en-US" sz="12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"/>
          <p:cNvSpPr/>
          <p:nvPr/>
        </p:nvSpPr>
        <p:spPr>
          <a:xfrm>
            <a:off x="179280" y="6742080"/>
            <a:ext cx="88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143160" y="2997360"/>
            <a:ext cx="26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Schoolbook"/>
              </a:rPr>
              <a:t>18</a:t>
            </a:r>
            <a:r>
              <a:rPr b="1" lang="en-GB" sz="20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Century Schoolbook"/>
              </a:rPr>
              <a:t> December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780000" y="620640"/>
          <a:ext cx="142056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620640"/>
                    <a:ext cx="14205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236000" y="189000"/>
            <a:ext cx="165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5725440"/>
            <a:ext cx="6912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3333cc"/>
                </a:solidFill>
                <a:latin typeface="Century Schoolbook"/>
              </a:rPr>
              <a:t>Martin Postranecky, Matthew Warren, Janet Fra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6381720"/>
            <a:ext cx="9036000" cy="47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2565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Schoolbook"/>
              </a:rPr>
              <a:t>Status of ATLAS–SCT Hardware Installation at C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933720"/>
            <a:ext cx="7993080" cy="1089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cc3300"/>
                </a:solidFill>
                <a:uFillTx/>
                <a:latin typeface="Century Schoolbook"/>
              </a:rPr>
              <a:t>NOTE : This slide presentation is too big to store here. Please go directly to this link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cc3300"/>
                </a:solidFill>
                <a:uFillTx/>
                <a:latin typeface="Century Schoolbook"/>
              </a:rPr>
              <a:t>~/public_html/MP-TALK_ATLAS-HARDWARE-INSTALLATION.ppt</a:t>
            </a:r>
            <a:r>
              <a:rPr b="1" i="1" lang="en-GB" sz="1400" spc="-1" strike="noStrike" u="sng">
                <a:solidFill>
                  <a:srgbClr val="cc3300"/>
                </a:solidFill>
                <a:uFillTx/>
                <a:latin typeface="Century School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gger Board CDR - Matthew Warren  U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729F-59AD-4CAD-A887-BDE162BA05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Oct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09:44:13Z</dcterms:created>
  <dc:creator>Matthew Warren</dc:creator>
  <dc:description/>
  <dc:language>en-US</dc:language>
  <cp:lastModifiedBy>mp</cp:lastModifiedBy>
  <cp:lastPrinted>2003-09-22T10:12:27Z</cp:lastPrinted>
  <dcterms:modified xsi:type="dcterms:W3CDTF">2006-12-18T16:17:21Z</dcterms:modified>
  <cp:revision>124</cp:revision>
  <dc:subject/>
  <dc:title>C+C for the SCT</dc:title>
</cp:coreProperties>
</file>