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78C-555D-4BB3-AC20-6FE9D31F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6DB-CB7F-441C-A960-0E0944F8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75F-77D4-4F1A-A25D-5C81322A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F2B-5C97-4C08-B5BA-43CAA949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079-EE2E-4FB3-9AC7-AA4C28E7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B2E-BEB8-442B-9DED-C8EFF69F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DF4-8F77-420D-9180-1D2AE7A3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EB4-CA1B-4946-B834-DF49627F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5E7-9D35-45D2-ABC7-EE84C5E8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EC3-4010-4072-971F-EABFB2D6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EFC-371B-4CBB-B4D9-F7148EE1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2A2-10A9-48B2-BAC1-14460164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0CD2-EB05-4450-94C8-80F3309E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9912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TIM T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ME Interface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32 tested, but not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ck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Jitter, Fail-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plane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ast Signals, Serial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TC Interfa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TCrq, TT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-alone Signal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, Front-panel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in the fiel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ambridge, CTB, MDT (Nikh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6 TIMs Ready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nough for SCT/Pixe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foresee any problems with remaining TI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mware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Ready for shipping with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77564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IM Cro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6000" y="907560"/>
            <a:ext cx="8748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TTCrq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waiting production version from 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fully tested TTC-&gt;(DAQ)-&gt;ROD f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hand: ROD is at UCL, SBC is now booting, TDAQ is being installed, Alan is working on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‘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ew’ TIM function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(additional to original requiremen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xed Frequency Ve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toing too many random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work is still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y Modu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clear if TIM has room for entire featur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attempt to add these when needs become clea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xed-Frequency Veto 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performing as per TonyW’s Monte Ca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or of &gt;1000 wor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clear if Monte Carlo or TIM is to blame (started reviewing source code &lt;24 hou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ew diagnostic tools in firmware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gger-history FIFO logs period of EVERY trigger - but needs SBC for full 75kHz rea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ous counters to log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ttle more time and the problem should be understood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509760"/>
          <a:ext cx="8229600" cy="53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09760"/>
                    <a:ext cx="8229600" cy="53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6:30:52Z</dcterms:created>
  <dc:creator>Matthew Warren</dc:creator>
  <dc:description/>
  <dc:language>en-US</dc:language>
  <cp:lastModifiedBy>mp</cp:lastModifiedBy>
  <dcterms:modified xsi:type="dcterms:W3CDTF">2005-09-10T16:59:02Z</dcterms:modified>
  <cp:revision>9</cp:revision>
  <dc:subject/>
  <dc:title>Slide 1</dc:title>
</cp:coreProperties>
</file>