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95D0-EEFD-4750-BFFB-8F4BB9EB9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4920" y="-129240"/>
            <a:ext cx="70786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5C74-CC26-4C1A-B4E5-C45F0FA9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4920" y="-129240"/>
            <a:ext cx="70786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A719-4DFE-471F-82F5-3248C670B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4920" y="-129240"/>
            <a:ext cx="70786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2A5E-6A50-4944-A8AC-E4DCCA8B4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-129240"/>
            <a:ext cx="70786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A2CC-EA74-4B58-8C41-65E12363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4920" y="-129240"/>
            <a:ext cx="70786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6FD6-4D7C-4976-83A1-84B94B42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4920" y="-129240"/>
            <a:ext cx="70786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D1C4-7514-468B-BE0E-EE038ED3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4920" y="-129240"/>
            <a:ext cx="70786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21A9-87D2-4542-8AFA-D277097D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4920" y="-129240"/>
            <a:ext cx="7078680" cy="55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8940-DC76-4700-BF60-5D878BC5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-129240"/>
            <a:ext cx="70786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796D-27CC-44BD-AEEA-33616EF0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-129240"/>
            <a:ext cx="70786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B14B-69F1-40BD-8C9D-D50D0607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-129240"/>
            <a:ext cx="70786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BA98-4C0B-47D8-9C54-C1A99222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0920" y="6453360"/>
            <a:ext cx="8281800" cy="0"/>
          </a:xfrm>
          <a:prstGeom prst="line">
            <a:avLst/>
          </a:prstGeom>
          <a:ln w="44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44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4920" y="-129240"/>
            <a:ext cx="70786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Century Schoolbook"/>
              </a:rPr>
              <a:t>Click to edit the title text format</a:t>
            </a: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250560" y="6450840"/>
            <a:ext cx="1631880" cy="30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ID Week: Sept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031920" y="6450840"/>
            <a:ext cx="17190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TIM: FFTV Stat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300360" y="6421680"/>
            <a:ext cx="1297080" cy="336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0DE0-16AF-43AD-8410-017F530954D5}" type="slidenum"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604360" y="6381720"/>
            <a:ext cx="315720" cy="3859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 txBox="1"/>
          <p:nvPr/>
        </p:nvSpPr>
        <p:spPr>
          <a:xfrm>
            <a:off x="7956720" y="6524640"/>
            <a:ext cx="576000" cy="17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57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HEP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entury School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entury Schoolbook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26920" y="3357720"/>
            <a:ext cx="745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Century Schoolbook"/>
              </a:rPr>
              <a:t>TIM Frequency Trigger Veto Sta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35280" y="2594520"/>
            <a:ext cx="5400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3333cc"/>
                </a:solidFill>
                <a:latin typeface="Century Schoolbook"/>
              </a:rPr>
              <a:t>HEP Electronics</a:t>
            </a:r>
            <a:endParaRPr b="1" i="1" lang="en-US" sz="2000" spc="-1" strike="noStrike">
              <a:solidFill>
                <a:srgbClr val="3333cc"/>
              </a:solidFill>
              <a:latin typeface="Century Schoolbook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780000" y="836640"/>
          <a:ext cx="1420560" cy="17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836640"/>
                    <a:ext cx="142056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7236000" y="189000"/>
            <a:ext cx="16570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5585400"/>
            <a:ext cx="6912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3333cc"/>
                </a:solidFill>
                <a:latin typeface="Century Schoolbook"/>
              </a:rPr>
              <a:t>Matthew Warren             Martin Postranec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44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8000" y="6381720"/>
            <a:ext cx="903600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gger Board CDR - Matthew Warren  UC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3D7F-117F-45A0-A885-00127CFE18E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Oct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316800"/>
            <a:ext cx="6221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cc"/>
                </a:solidFill>
                <a:latin typeface="Century Schoolbook"/>
              </a:rPr>
              <a:t>TIM Fixed Frequency Veto Status</a:t>
            </a:r>
            <a:endParaRPr b="1" i="1" lang="en-US" sz="28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066680"/>
            <a:ext cx="7924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765000"/>
            <a:ext cx="864216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esting showed TIM performance much worse than software model predi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o isolate the 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IM firmware equipped with Trigger-Period-History logging and Veto and Vetoed-Trigger coun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Randomness of hardware triggers checked (problems were found, now using TTCvi random trigg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Software re-worked by hardware engineer as check against original (after some hiccips, all O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Software tuned to replicate hardware more closely ( e.g. no trigs at &lt;7clk perio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Much longer hardware test runs (20-100M triggers) to reduce statistical err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Overall results show TIM &lt;10x less efficient that software model predicts BUT with acceptable Veto r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-531720"/>
            <a:ext cx="82296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gger Board CDR - Matthew Warren  UC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172D-4135-4F8F-B299-920B05A7CBD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Oct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145080"/>
            <a:ext cx="6396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3333cc"/>
                </a:solidFill>
                <a:latin typeface="Century Schoolbook"/>
              </a:rPr>
              <a:t>Probability of a False Veto</a:t>
            </a: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59" name=""/>
          <p:cNvSpPr/>
          <p:nvPr/>
        </p:nvSpPr>
        <p:spPr>
          <a:xfrm>
            <a:off x="66600" y="5445000"/>
            <a:ext cx="8806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Note: Non-linearity/missing points due to insufficien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With a match setting at 8, only 3 false vetos (of 1ms) expected per ho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71640" y="836640"/>
          <a:ext cx="710244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836640"/>
                    <a:ext cx="71024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gger Board CDR - Matthew Warren  UC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188A-AC85-4A8D-831B-92A72DBC779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Oct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09:44:13Z</dcterms:created>
  <dc:creator>Matthew Warren</dc:creator>
  <dc:description/>
  <dc:language>en-US</dc:language>
  <cp:lastModifiedBy>Matthew Warren</cp:lastModifiedBy>
  <cp:lastPrinted>2002-10-10T13:15:28Z</cp:lastPrinted>
  <dcterms:modified xsi:type="dcterms:W3CDTF">2005-09-26T16:23:27Z</dcterms:modified>
  <cp:revision>87</cp:revision>
  <dc:subject/>
  <dc:title>C+C for the SCT</dc:title>
</cp:coreProperties>
</file>