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9FC-5028-438D-B11D-A43FEF58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C3C-0DD5-42C9-B752-CB0EBFB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E8A-4F9C-48EE-9FE7-F6836BF5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2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3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2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2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3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80B-1311-4C75-B9E1-40B4B757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23E-60EC-4DBE-BD3D-124A92D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695-853E-4E0F-8640-0D4D7219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753-EB48-43BE-835F-4E148A6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340-5100-4182-8F51-DFF204C6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696080" cy="19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BC6-DF29-48F9-80AF-209592D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D4E-1C28-4891-97B2-EB6C036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4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E7C-E992-4F6F-BBCF-3BB8BA7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4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E44-1DD7-4D59-A017-EC044EB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41920" y="104760"/>
            <a:ext cx="1839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836640"/>
            <a:ext cx="8785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94200" y="257040"/>
            <a:ext cx="183960" cy="4273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1920" y="988920"/>
            <a:ext cx="878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47712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9608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8400" y="6315120"/>
            <a:ext cx="16840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8 June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1142640" y="6462720"/>
            <a:ext cx="74674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 SCT/Pixel TIM FDR/PRR   Martin Postranecky  TIM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848360" y="6462720"/>
            <a:ext cx="68580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6E6-530A-4A1A-8B2D-4586F4114209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cc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33cc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27160" y="4653000"/>
            <a:ext cx="4891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entury Schoolbook"/>
              </a:rPr>
              <a:t>ATLAS  SCT/Pixel  TIM  FDR/P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28 Jun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2626560"/>
            <a:ext cx="3746520" cy="4870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Physics &amp; Astronomy</a:t>
            </a:r>
            <a:br>
              <a:rPr sz="1600"/>
            </a:br>
            <a:r>
              <a:rPr b="0" lang="en-US" sz="1600" spc="-1" strike="noStrike">
                <a:solidFill>
                  <a:srgbClr val="0033cc"/>
                </a:solidFill>
                <a:latin typeface="Arial Black"/>
              </a:rPr>
              <a:t>HEP Electr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648760"/>
            <a:ext cx="6912000" cy="52020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 Black"/>
              </a:rPr>
              <a:t>Martin Postranecky</a:t>
            </a:r>
            <a:br>
              <a:rPr sz="1400"/>
            </a:br>
            <a:r>
              <a:rPr b="0" i="1" lang="en-US" sz="1400" spc="-1" strike="noStrike">
                <a:solidFill>
                  <a:srgbClr val="0033cc"/>
                </a:solidFill>
                <a:latin typeface="Arial Black"/>
              </a:rPr>
              <a:t>John Lane, Matthew War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24480"/>
            <a:ext cx="9144000" cy="47628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357336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TLAS - SCT  TIM 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14205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29D-F07B-4DFE-9B8C-C784587899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09480"/>
            <a:ext cx="838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TC ( Timing, Trigger and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   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	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  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lock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   Bunch Crossing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st Comm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1A   Level-1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R  Event Counter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R  Bunch Counter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  Calibrat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  Front End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vent 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1ID  24-bit Level-1 trigger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CID 12-bit Bunch Crossing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TID  8-bit Trigge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245-26E2-425E-B4C0-098B57A04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87692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TIM CONTEXT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transmits the clock, fast commands and event ID from the TTC system to the RODs. The clock is sent via the back-of-crate (BOC) opto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passes the Busy from the RODs via a Busy module to the CTP in order to stop it sending tri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can send stand-alone clock, fast commands and event ID to the RODs under control of the lo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 is configured by the local processor setting up its registers. These can be inspected by the loca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f 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~jbl/SCT/TIM_overview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atlas/sct/tim/TIM_essential_model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http://www.hep.ucl.ac.uk/atlas/sct/tim/TIM_context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www.hep.ucl.ac.uk/atlas/sct/tim/TIM-1_LEB-2001_paper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062-BF7C-4E90-9680-1564668B0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41008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SCT TIM Essential Model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00" y="765000"/>
            <a:ext cx="8513640" cy="5402520"/>
            <a:chOff x="324000" y="765000"/>
            <a:chExt cx="8513640" cy="5402520"/>
          </a:xfrm>
        </p:grpSpPr>
        <p:sp>
          <p:nvSpPr>
            <p:cNvPr id="62" name=""/>
            <p:cNvSpPr/>
            <p:nvPr/>
          </p:nvSpPr>
          <p:spPr>
            <a:xfrm flipV="1">
              <a:off x="1996920" y="1414080"/>
              <a:ext cx="1800" cy="1067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43120" y="4728960"/>
              <a:ext cx="0" cy="7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60560" y="472572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253280" y="1414080"/>
              <a:ext cx="0" cy="78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180200" y="4725720"/>
              <a:ext cx="18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200" y="2133360"/>
              <a:ext cx="8353440" cy="25923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TC Interface Module (TI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0200" y="4286160"/>
              <a:ext cx="464652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ackplane Driv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04920" y="2638080"/>
              <a:ext cx="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65640" y="270972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08920" y="1414080"/>
              <a:ext cx="0" cy="72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397640" y="40777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89640" y="4295520"/>
              <a:ext cx="198144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ackplane Recei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65640" y="343044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397640" y="285408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05280" y="270972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88120" y="765000"/>
              <a:ext cx="1828800" cy="649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OD Crate Control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6200" y="1630080"/>
              <a:ext cx="93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95840" y="1552320"/>
              <a:ext cx="1411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figuration &amp;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" y="1339560"/>
              <a:ext cx="0" cy="7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7280" y="35035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1480" y="5448240"/>
              <a:ext cx="5184720" cy="5760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ad Out Drivers (RO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24200" y="4944960"/>
              <a:ext cx="68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32200" y="4873320"/>
              <a:ext cx="15112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st Commands &amp; Even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32560" y="4944960"/>
              <a:ext cx="53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4560" y="5520960"/>
              <a:ext cx="5182920" cy="5731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ad Out Drivers (RO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8560" y="3430440"/>
              <a:ext cx="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36560" y="3286080"/>
              <a:ext cx="274320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tandalone Clock +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4560" y="2638080"/>
              <a:ext cx="0" cy="16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1280" y="40068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88920" y="3790800"/>
              <a:ext cx="1584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Event ID FIF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8560" y="2566800"/>
              <a:ext cx="76212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TC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7280" y="765000"/>
              <a:ext cx="1603440" cy="649080"/>
            </a:xfrm>
            <a:prstGeom prst="rect">
              <a:avLst/>
            </a:prstGeom>
            <a:solidFill>
              <a:srgbClr val="ff99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TC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6000" y="1552320"/>
              <a:ext cx="792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tical Sign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60560" y="2566800"/>
              <a:ext cx="475308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ME Slave 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592128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W/JBL v1.1 20-04-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9640" y="3286080"/>
              <a:ext cx="12189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equen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00920" y="3790800"/>
              <a:ext cx="25905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Busy OR, Mask &amp; Moni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68560" y="1630080"/>
              <a:ext cx="53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116-8551-4E69-B277-84A8C9A1D8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5720" y="255600"/>
            <a:ext cx="368316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Arial Black"/>
              </a:rPr>
              <a:t>SCT TTC System</a:t>
            </a: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0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CT has been allocated 4 partitions, each capable of running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TCvi module receives global ATLAS Level-1 signals such as the LHC clock and Level-1 Accept triggers. It can be programmed to generate SCT specific signals like Front-End Reset and Calibrate, and to run stand-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only two ROD crates per partition, we use TTC VME Transmitter (TTCvx) modules instead of a TTC transmitter c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TCex Encoder/Transmitter module delivers the optimum optical sig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D Busy signals are combined into a Busy signal per partition, and then into the SCT Busy to the CTP in order to stop it sending triggers. Note that a partition Busy signal is input to both the SCT Busy and the Local Trigger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ef 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www.hep.ucl.ac.uk/atlas/sct/tim/SCT_Partitions_TTC_Busy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ttc.web.cern.ch/TTC/intr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http://www.cern.ch/TTC/LECC0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604-F787-4DC5-B328-87BCE4D1C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629400" cy="42696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 Black"/>
              </a:rPr>
              <a:t>SCT Partitions of TTC and Busy</a:t>
            </a:r>
            <a:endParaRPr b="0" i="1" lang="en-US" sz="28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1657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BL/(MRMW) v2.0 20-04-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762120"/>
            <a:ext cx="2016360" cy="64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833400"/>
            <a:ext cx="201636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56360" y="905040"/>
            <a:ext cx="201600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544400" y="4865400"/>
            <a:ext cx="144144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562200" y="4865400"/>
            <a:ext cx="144144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04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7480" y="428940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04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148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312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548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8912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28940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7941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1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5840" y="428940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492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984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428940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092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4289400"/>
            <a:ext cx="21564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2560" y="4289400"/>
            <a:ext cx="216000" cy="144144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040" y="4289400"/>
            <a:ext cx="4035600" cy="144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720" y="479412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796000" y="4865760"/>
            <a:ext cx="144000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812000" y="4865760"/>
            <a:ext cx="1440000" cy="28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428940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4000" y="47941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1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4898880"/>
            <a:ext cx="11523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5640" y="428940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0872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072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128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4289400"/>
            <a:ext cx="21564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4289400"/>
            <a:ext cx="216000" cy="1440000"/>
          </a:xfrm>
          <a:prstGeom prst="rect">
            <a:avLst/>
          </a:prstGeom>
          <a:solidFill>
            <a:srgbClr val="eaeaea"/>
          </a:soli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4289400"/>
            <a:ext cx="4032360" cy="1441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720" y="479412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s 9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6091200"/>
            <a:ext cx="4249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266920" y="5730480"/>
            <a:ext cx="144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16720" y="5730480"/>
            <a:ext cx="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731640" y="2487960"/>
            <a:ext cx="115092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274920" y="20566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995640" y="205668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282200" y="2056680"/>
            <a:ext cx="28764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2000" y="205668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859280" y="2056680"/>
            <a:ext cx="28728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vi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580000" y="205668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867280" y="205668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156360" y="205668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3640" y="2056680"/>
            <a:ext cx="287280" cy="11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7020720" y="2487960"/>
            <a:ext cx="1150920" cy="289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88000" y="3209400"/>
            <a:ext cx="0" cy="107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078160" y="3427560"/>
            <a:ext cx="1439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380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493800" y="3427560"/>
            <a:ext cx="1439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49416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07852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816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348000" y="3211200"/>
            <a:ext cx="0" cy="71892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21080" y="3211200"/>
            <a:ext cx="0" cy="71892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834920" y="162576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1625760"/>
            <a:ext cx="144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795640" y="1841400"/>
            <a:ext cx="144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660720" y="342756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44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084720" y="1841400"/>
            <a:ext cx="144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372000" y="18414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1338120"/>
            <a:ext cx="100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P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30872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61080" y="32115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421080" y="3930480"/>
            <a:ext cx="3022560" cy="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68000" y="3930480"/>
            <a:ext cx="1079640" cy="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6920" y="3930480"/>
            <a:ext cx="1440" cy="358920"/>
          </a:xfrm>
          <a:prstGeom prst="line">
            <a:avLst/>
          </a:prstGeom>
          <a:ln w="1908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3930480"/>
            <a:ext cx="0" cy="358920"/>
          </a:xfrm>
          <a:prstGeom prst="line">
            <a:avLst/>
          </a:prstGeom>
          <a:ln w="19080">
            <a:solidFill>
              <a:srgbClr val="33cc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1049400"/>
            <a:ext cx="0" cy="100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977760"/>
            <a:ext cx="2016000" cy="646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5370480"/>
            <a:ext cx="3888000" cy="274680"/>
          </a:xfrm>
          <a:prstGeom prst="rect">
            <a:avLst/>
          </a:prstGeom>
          <a:solidFill>
            <a:srgbClr val="ffff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371484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sy Parti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802480"/>
            <a:ext cx="5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193760"/>
            <a:ext cx="1440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ATLAS Signals &amp; SCT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989440" y="20566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700360" y="20566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413080" y="20566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Cex 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87640" y="205740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9600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472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72360" y="184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626560" y="2056680"/>
            <a:ext cx="142920" cy="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204360" y="2056680"/>
            <a:ext cx="142920" cy="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2057400"/>
            <a:ext cx="5329440" cy="115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70480"/>
            <a:ext cx="3887640" cy="274680"/>
          </a:xfrm>
          <a:prstGeom prst="rect">
            <a:avLst/>
          </a:prstGeom>
          <a:solidFill>
            <a:srgbClr val="ffffd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a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95D-92D1-423C-AC2A-022FF1FF9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4:15:25Z</dcterms:created>
  <dc:creator>mp</dc:creator>
  <dc:description/>
  <dc:language>en-US</dc:language>
  <cp:lastModifiedBy>tjh</cp:lastModifiedBy>
  <dcterms:modified xsi:type="dcterms:W3CDTF">2005-06-01T13:45:26Z</dcterms:modified>
  <cp:revision>29</cp:revision>
  <dc:subject/>
  <dc:title>ATLAS-SCT  TIM  OVERVIEW</dc:title>
</cp:coreProperties>
</file>