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508-E689-4DF4-AF08-D4C1E6C8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BAA-37C3-487A-94EB-305E92A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5E1-8D56-4319-9438-67C6A1CA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2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2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F81-0A6D-46C8-9F3D-7B4FEB0B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F5BA-D086-4226-8462-1F022D9A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204-545F-40DF-9048-37D9384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9E73-E667-4151-A6B7-20E57BB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804-CBBE-49D5-B8E7-AE29C3E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C80B-3899-4A42-BBE9-01F1C12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69608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4F4-1B3A-4F34-B405-04E3BDF0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880-A9DA-478A-A658-AC5C15C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B7A-662F-40E9-B786-2239546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939-69C3-43C1-9992-C8B9421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9393-8360-4224-B986-06B973E4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1BA-D58D-4142-9D24-81DECF7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5E7-8793-46C0-AEED-DA32CF14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22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22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5C21-E085-4CA0-8ADC-1C52E73B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91B-41D1-4FFB-AD3C-E1596E9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F3E-551D-4323-8D89-45BCA8B7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D8A-00A4-492B-826E-C189FAA3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69608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E5D-F669-4550-B348-FC78A4B9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750-09E6-49DF-805B-8E3E8D6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BF3-4422-40AC-90CE-405FCBE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471-06EE-4D4C-B41F-57EDD7D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8400" y="6315120"/>
            <a:ext cx="16840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4674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 SCT/Pixel TIM FDR/PRR   Martin Postranecky  TIM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14BA-EE95-4D27-956D-F742D22494DC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169200"/>
            <a:ext cx="3728880" cy="9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77480" y="6346800"/>
            <a:ext cx="148572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550960" y="6279840"/>
            <a:ext cx="27813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 TIM FDR/P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084720" y="6487920"/>
            <a:ext cx="935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0E8B-1BEC-462C-9157-C24385E01474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27160" y="465300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S 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5840" y="2626560"/>
            <a:ext cx="3746520" cy="487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Physics &amp; Astronom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HEP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755320"/>
            <a:ext cx="6912000" cy="307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 Black"/>
              </a:rPr>
              <a:t>John Lane, Martin Postranecky, Matthew War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632448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57336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TLAS - SCT  TIM 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681-7A20-474C-937F-5C2126FCC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609480"/>
            <a:ext cx="838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C ( Timing, Trigger and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   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	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  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lock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   Bunch Crossing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st Comm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1A   Level-1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  Event Counter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R  Bunch Counter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  Calibrat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  Front End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vent 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1ID  24-bit Level-1 trigger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ID 12-bit Bunch Crossing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TID  8-bit Trigge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F98-897C-45B6-94B0-ED2FFE7DE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87692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TIM CONTEXT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transmits the clock, fast commands and event ID from the TTC system to the RODs. The clock is sent via the back-of-crate (BOC) opto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passes the Busy from the RODs via a Busy module to the CTP in order to stop it sending 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can send stand-alone clock, fast commands and event ID to the RODs under control of the lo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is configured by the local processor setting up its registers. These can be inspected by the lo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f 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~jbl/SCT/TIM_overview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atlas/sct/tim/TIM_essential_model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atlas/sct/tim/TIM_context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www.hep.ucl.ac.uk/atlas/sct/tim/TIM-1_LEB-2001_pape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3F1-5AEF-40B1-BEA1-2476E0769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54200" y="444024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164360" y="1125360"/>
            <a:ext cx="0" cy="78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75640" y="443700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844640"/>
            <a:ext cx="8353440" cy="2592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TC Interface Module (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997440"/>
            <a:ext cx="464652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plane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34936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112536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308720" y="378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006800"/>
            <a:ext cx="198144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plane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1417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0872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99200" y="476280"/>
            <a:ext cx="1828800" cy="649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D Crat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7280" y="1341360"/>
            <a:ext cx="9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1263600"/>
            <a:ext cx="14115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guration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1050840"/>
            <a:ext cx="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3214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5159520"/>
            <a:ext cx="5184720" cy="5760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Out Drivers (R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46562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4584600"/>
            <a:ext cx="15112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mmands &amp; Ev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656240"/>
            <a:ext cx="5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5232240"/>
            <a:ext cx="5182920" cy="5731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Out Drivers (R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31417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997360"/>
            <a:ext cx="27432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lone Clock +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34936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718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502080"/>
            <a:ext cx="158436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t ID FI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278080"/>
            <a:ext cx="76212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TC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76280"/>
            <a:ext cx="1603440" cy="6490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T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1263600"/>
            <a:ext cx="792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ca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3440" y="6170040"/>
            <a:ext cx="4686840" cy="41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0" rIns="720000" tIns="25200" bIns="252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T TIM Essenti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2278080"/>
            <a:ext cx="475308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ME Slave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89160" cy="45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7812000" y="6381720"/>
            <a:ext cx="576360" cy="17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2" name=""/>
          <p:cNvSpPr/>
          <p:nvPr/>
        </p:nvSpPr>
        <p:spPr>
          <a:xfrm>
            <a:off x="235080" y="642132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W/JBL v1.1 20-04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997360"/>
            <a:ext cx="121896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3502080"/>
            <a:ext cx="259056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y OR, Mask &amp;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941-F860-42F9-9284-BDE33DF14C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H="1">
            <a:off x="4282920" y="907920"/>
            <a:ext cx="13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1120" y="3932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5840" y="3932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2200" y="400356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3480" y="2133720"/>
            <a:ext cx="5543640" cy="1942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TC Interface Module (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9480" y="3355920"/>
            <a:ext cx="151128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t ID FI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9480" y="2637000"/>
            <a:ext cx="15112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TC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2637000"/>
            <a:ext cx="15112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ME Slave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49840" y="2638440"/>
            <a:ext cx="1512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lone Clock &amp;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3120" y="1411200"/>
            <a:ext cx="14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49840" y="3355920"/>
            <a:ext cx="151128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sked Busy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49840" y="620640"/>
            <a:ext cx="172872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D Crat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1627200"/>
            <a:ext cx="851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369120" y="1411200"/>
            <a:ext cx="14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4920" y="1555920"/>
            <a:ext cx="1332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guration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0400" y="620640"/>
            <a:ext cx="2522520" cy="79056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ing Trigger &amp;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129120" y="14112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698480"/>
            <a:ext cx="140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ca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6560" y="141120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22560" y="141120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221000"/>
            <a:ext cx="54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97120" y="4221000"/>
            <a:ext cx="1509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mmands &amp; Ev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68760" y="407664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1840" y="4221000"/>
            <a:ext cx="46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760" y="4795920"/>
            <a:ext cx="3429000" cy="7207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-Out Drivers (R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2760" y="4795920"/>
            <a:ext cx="1584360" cy="720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9840" y="3355920"/>
            <a:ext cx="1512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ing &amp; Control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1840" y="4869000"/>
            <a:ext cx="3429000" cy="7189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-Out Drivers (R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3120" y="4940280"/>
            <a:ext cx="3429000" cy="7207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-Out Drivers (R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8200" y="4363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4200" y="4363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47560"/>
            <a:ext cx="863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ATLAS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9480" y="4145040"/>
            <a:ext cx="1871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 Crate Bu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24760" y="4869000"/>
            <a:ext cx="720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7480" y="979560"/>
            <a:ext cx="50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7120" y="5229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4560" y="474840"/>
            <a:ext cx="1332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SC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6170040"/>
            <a:ext cx="5545080" cy="41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0" rIns="720000" tIns="25200" bIns="252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T TIM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89160" cy="459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7812000" y="6381720"/>
            <a:ext cx="576360" cy="17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4245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BL/(MRMW) v2.0 20-04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353-8695-45F4-95A8-F8921DDF3C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45720" y="255600"/>
            <a:ext cx="36831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SCT TTC System</a:t>
            </a: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CT has been allocated 4 partitions, each capable of running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TCvi module receives global ATLAS Level-1 signals such as the LHC clock and Level-1 Accept triggers. It can be programmed to generate SCT specific signals like Front-End Reset and Calibrate, and to run stand-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nly two ROD crates per partition, we use TTC VME Transmitter (TTCvx) modules instead of a TTC transmitter c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TCex Encoder/Transmitter module delivers the optimum optical sig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D Busy signals are combined into a Busy signal per partition, and then into the SCT Busy to the CTP in order to stop it sending triggers. Note that a partition Busy signal is input to both the SCT Busy and the Local Trigger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ef 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www.hep.ucl.ac.uk/atlas/sct/tim/SCT_Partitions_TTC_Bus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ttc.web.cern.ch/TTC/intr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944-D95D-4202-AEBC-21225B851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724360" y="404640"/>
            <a:ext cx="2016360" cy="646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476280"/>
            <a:ext cx="2016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547560"/>
            <a:ext cx="201600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544400" y="4508280"/>
            <a:ext cx="14414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3562200" y="4508280"/>
            <a:ext cx="144144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04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7480" y="393228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04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148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312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48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8912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393228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43700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1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5840" y="393228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492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0984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393228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06920" y="393228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2560" y="393228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040" y="3932280"/>
            <a:ext cx="4035600" cy="144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720" y="44370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796000" y="4508640"/>
            <a:ext cx="1440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7812000" y="4508640"/>
            <a:ext cx="14400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393228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2436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036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636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4000" y="443700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1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59640" y="4541760"/>
            <a:ext cx="1152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393228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2472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0872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4072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128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393228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72360" y="393228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3932280"/>
            <a:ext cx="4032360" cy="14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720" y="44370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6920" y="5589720"/>
            <a:ext cx="424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66920" y="5373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516720" y="5373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410560" y="1699560"/>
            <a:ext cx="28764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6731640" y="2130840"/>
            <a:ext cx="11509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698920" y="169956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987640" y="169956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274920" y="169956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995640" y="169956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282200" y="1699560"/>
            <a:ext cx="28764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572000" y="169956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859280" y="169956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580000" y="169956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867280" y="169956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156360" y="169956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443640" y="169956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020720" y="2130840"/>
            <a:ext cx="115092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700280"/>
            <a:ext cx="5327640" cy="115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588000" y="285228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078160" y="307008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3800" y="28544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493800" y="307008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494160" y="2854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078520" y="2854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8160" y="28544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6000" y="148428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48000" y="285408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21080" y="285408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834920" y="126828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1268280"/>
            <a:ext cx="144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148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95640" y="148428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660720" y="307008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84720" y="148428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29440" y="148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084720" y="1484280"/>
            <a:ext cx="144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372360" y="148428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1484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372000" y="14842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981000"/>
            <a:ext cx="100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308720" y="2854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28544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1080" y="3573360"/>
            <a:ext cx="302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268000" y="35733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66920" y="3573360"/>
            <a:ext cx="14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692280"/>
            <a:ext cx="0" cy="100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620640"/>
            <a:ext cx="2016000" cy="646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8000" y="5661000"/>
            <a:ext cx="93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7800" y="5661000"/>
            <a:ext cx="93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335772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y Parti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558972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836640"/>
            <a:ext cx="1440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ATLAS Signals &amp; SCT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8520" y="6170040"/>
            <a:ext cx="5447160" cy="41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0" rIns="720000" tIns="25200" bIns="252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T Partitions of TTC and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459640" y="6165720"/>
            <a:ext cx="389160" cy="459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8600" y="641340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BL/(MRMW) v2.0 20-04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812000" y="6381720"/>
            <a:ext cx="576360" cy="17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HEP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6AE-EAD5-4058-80F8-57E9C851C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5:25Z</dcterms:created>
  <dc:creator>mp</dc:creator>
  <dc:description/>
  <dc:language>en-US</dc:language>
  <cp:lastModifiedBy>mp</cp:lastModifiedBy>
  <dcterms:modified xsi:type="dcterms:W3CDTF">2004-06-22T08:56:21Z</dcterms:modified>
  <cp:revision>26</cp:revision>
  <dc:subject/>
  <dc:title>ATLAS-SCT  TIM  OVERVIEW</dc:title>
</cp:coreProperties>
</file>