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07B-B9B4-4B66-A9A4-E30583CB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BB7-5180-4B74-83D0-C258F7C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C1E-7579-454B-AD3D-DD61F5C7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DE8-F03B-477E-B3EF-573F8A9F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58C-B6BD-49EC-96C1-314E3C74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632-6406-4BE6-9B1B-A455F7D2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D98-A47D-432F-8B72-1D49C26D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AFF-00E7-4AF5-BDBD-A0CC0B7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-228240"/>
            <a:ext cx="7696080" cy="62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704-B8A2-4A2F-86AD-01EAD6A5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BF1-BD6D-4960-9135-DE845EE0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2CB-DE65-4FE0-92C7-2F87550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40F-BC44-4E35-BFF4-C572A653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41920" y="104760"/>
            <a:ext cx="18396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836640"/>
            <a:ext cx="8785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94200" y="257040"/>
            <a:ext cx="183960" cy="4273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1920" y="988920"/>
            <a:ext cx="878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47712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-360" y="6315120"/>
            <a:ext cx="16844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1142640" y="6462720"/>
            <a:ext cx="70102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ATLAS SCT/Pixel TIM FDR/PRR     Martin Postranecky :  TIM  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848360" y="6462720"/>
            <a:ext cx="68580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C2C7-456A-4F1F-93A3-307676208671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27160" y="4495680"/>
            <a:ext cx="4891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ATLA S SCT/Pixel  TIM  FDR/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28 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2443320"/>
            <a:ext cx="3746520" cy="853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ysics &amp; Astronom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P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497560"/>
            <a:ext cx="6912000" cy="8254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Postraneck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Lane, Matthew Wa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5733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IM  PCB 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142056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961-5CAD-4C8B-9633-E6D778F83B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U : 400 mm x 367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mm thick / 1.6mm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layers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x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x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x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 and PECL clocks : Differential matched 100R impedance tracks of equ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L clocks : split ter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x on-board vert. stiff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ttal Front Panels and Injector/Extractor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3962160" cy="54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IM  PC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EA3-9B30-49E9-AEDB-D5834BA41A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62040"/>
            <a:ext cx="7980120" cy="573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8960" y="1044720"/>
            <a:ext cx="1092240" cy="21564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5680" y="900000"/>
            <a:ext cx="132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ME 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89960" y="1692360"/>
            <a:ext cx="1758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D Backplane Mapping &amp; PECL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2400" y="1620720"/>
            <a:ext cx="15602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PGA1         XC2S200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VME Interf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8760" y="3924360"/>
            <a:ext cx="118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IM/ECL Signals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8960" y="1908000"/>
            <a:ext cx="1092240" cy="14472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973480" y="4140360"/>
            <a:ext cx="2104920" cy="93636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31000" y="4140360"/>
            <a:ext cx="1247760" cy="115236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640" y="3852720"/>
            <a:ext cx="806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TCrm  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068720"/>
            <a:ext cx="2962440" cy="57636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622920" y="1485720"/>
            <a:ext cx="1067040" cy="49500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4880" y="75564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3 Backplane ROD Signal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6597360" y="755640"/>
            <a:ext cx="825480" cy="7632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0" y="4572000"/>
            <a:ext cx="118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TC Fibre-optic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2400" y="4789440"/>
            <a:ext cx="3120840" cy="71928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0" y="2935440"/>
            <a:ext cx="156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PGA2 XC2S600E     (TIM Fun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682640" y="2844360"/>
            <a:ext cx="2106720" cy="7164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2160"/>
            <a:ext cx="6477120" cy="54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IM-3A BOARD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5D3-A2DA-495B-9FFA-ECFC9F3423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99440" cy="5878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-15120"/>
            <a:ext cx="3809880" cy="67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OP  S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A1D-B870-4795-B5E3-5233FFB771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598320"/>
            <a:ext cx="8299440" cy="5878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5486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OP  PCB 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B96-7A2D-4304-BC74-2008C9043C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98360"/>
            <a:ext cx="480060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emperatur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d in ATLAS-SCT ROD crate, with fans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speed, all TTC(n) commands runn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bient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5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ns temp 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8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emp. sensitive labels on ICs and PCB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0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d outside crate on extender, with fa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ked, all TTC(n) commands run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bient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5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emp. sensitive labels on ICs and PCB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0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099-4313-454C-8B56-021C7F54AE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1:13:33Z</dcterms:created>
  <dc:creator>mp</dc:creator>
  <dc:description/>
  <dc:language>en-US</dc:language>
  <cp:lastModifiedBy>mp</cp:lastModifiedBy>
  <dcterms:modified xsi:type="dcterms:W3CDTF">2004-06-22T12:20:58Z</dcterms:modified>
  <cp:revision>26</cp:revision>
  <dc:subject/>
  <dc:title>TIM  PCB  LAYOUT</dc:title>
</cp:coreProperties>
</file>