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5FC-1DE8-46FD-8E43-74D1C39C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D6A-9BD5-4462-958C-9456F9CF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D04-04F4-4958-84A8-01D0A2D6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E30-27C9-46A5-983B-465ACE3B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285-8543-4EB4-8440-55AAE3E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C4F-D8AB-49C3-A605-1D26DF6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193-FF6E-460C-91F2-7BAF5DA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8A7-AC5B-459F-89D0-2786BE0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-228240"/>
            <a:ext cx="7696080" cy="62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698-CD35-4EA5-A22A-942A3FE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A7C-800D-4A77-A8B1-A7D5F01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17C-7E7A-4A94-BF9C-EAA70B3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EC8-2C43-4252-82F2-47DC479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28240"/>
            <a:ext cx="7696080" cy="13410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-360" y="6315120"/>
            <a:ext cx="16844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010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/Pixel TIM FDR/PRR     Martin Postranecky :  TIM  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75D-295D-4792-BB6A-3C7C176076D9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65300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 S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443320"/>
            <a:ext cx="3746520" cy="8535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&amp; Astronom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P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680440"/>
            <a:ext cx="6912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Lane, Martin Postranecky, Matthew W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  PCB 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278-CDDE-451E-A88A-34CA597C36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U : 400 mm x 36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mm thick / 1.6mm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layers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x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 and PECL clocks : Differential matched 100R impedance tracks of equ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clocks : split ter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 on-board vert. stiff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ttal Front Panels and Injector/Extractor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396216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IM  PC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923-B7A3-4A52-8BA6-E0E0548CB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980120" cy="573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8960" y="1044720"/>
            <a:ext cx="1092240" cy="21564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680" y="900000"/>
            <a:ext cx="132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ME 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89960" y="1692360"/>
            <a:ext cx="1758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D Backplane Mapping &amp; PECL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2400" y="1620720"/>
            <a:ext cx="1560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1         XC2S200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VME Interf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8760" y="3924360"/>
            <a:ext cx="118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IM/ECL Signals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1908000"/>
            <a:ext cx="1092240" cy="14472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973480" y="4140360"/>
            <a:ext cx="2104920" cy="936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1000" y="4140360"/>
            <a:ext cx="1247760" cy="1152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640" y="3852720"/>
            <a:ext cx="806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rm  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068720"/>
            <a:ext cx="2962440" cy="57636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622920" y="1485720"/>
            <a:ext cx="1067040" cy="495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4880" y="75564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3 Backplane ROD Signal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597360" y="755640"/>
            <a:ext cx="825480" cy="7632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0" y="4572000"/>
            <a:ext cx="118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TC Fibre-optic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2400" y="4789440"/>
            <a:ext cx="3120840" cy="71928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0" y="2935440"/>
            <a:ext cx="15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PGA2 XC2S600E     (TIM Fun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82640" y="2844360"/>
            <a:ext cx="2106720" cy="71640"/>
          </a:xfrm>
          <a:prstGeom prst="line">
            <a:avLst/>
          </a:prstGeom>
          <a:ln w="28440">
            <a:solidFill>
              <a:srgbClr val="33cc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2160"/>
            <a:ext cx="647712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IM-3A BOARD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AD2-3190-4D30-B28A-446DAD20E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99440" cy="5878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-15120"/>
            <a:ext cx="3809880" cy="67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OP  S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B8C-8A21-48B0-A97E-DB37B2DF2E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598320"/>
            <a:ext cx="8299440" cy="5878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5486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OP  PCB 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9BC-EF1D-46FC-AC6E-46F277C7CC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98360"/>
            <a:ext cx="4800600" cy="549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Temperatur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d in ATLAS-SCT ROD crate, with fan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speed, all TTC(n) commands runn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en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s temp 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8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emp. sensitive labels on ICs and PCB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0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d outside crate on extender, with fa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ed, all TTC(n) commands run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en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emp. sensitive labels on ICs and PCB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0 deg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D79-DD2B-458D-BE04-86D76DDCF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1:13:33Z</dcterms:created>
  <dc:creator>mp</dc:creator>
  <dc:description/>
  <dc:language>en-US</dc:language>
  <cp:lastModifiedBy>mp</cp:lastModifiedBy>
  <dcterms:modified xsi:type="dcterms:W3CDTF">2004-06-22T09:00:55Z</dcterms:modified>
  <cp:revision>24</cp:revision>
  <dc:subject/>
  <dc:title>TIM  PCB  LAYOUT</dc:title>
</cp:coreProperties>
</file>