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732588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42D19-FB59-4D1C-AF00-31F720A0B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-228240"/>
            <a:ext cx="7696080" cy="134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9280" y="836280"/>
            <a:ext cx="87854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79280" y="3732840"/>
            <a:ext cx="87854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5419E-3F93-440C-A14C-9B4A2CB09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-228240"/>
            <a:ext cx="7696080" cy="134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79280" y="836280"/>
            <a:ext cx="42872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81440" y="836280"/>
            <a:ext cx="42872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79280" y="3732840"/>
            <a:ext cx="42872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81440" y="3732840"/>
            <a:ext cx="42872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201F8-4E71-40CB-B52F-43789CE7F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-228240"/>
            <a:ext cx="7696080" cy="134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79280" y="836280"/>
            <a:ext cx="282852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149640" y="836280"/>
            <a:ext cx="282852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120000" y="836280"/>
            <a:ext cx="282852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79280" y="3732840"/>
            <a:ext cx="282852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149640" y="3732840"/>
            <a:ext cx="282852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120000" y="3732840"/>
            <a:ext cx="282852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7EA68-8391-4776-B5E1-5CD3DD674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-228240"/>
            <a:ext cx="7696080" cy="134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79280" y="836280"/>
            <a:ext cx="878544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4627C-F4B5-4298-A39C-A6AA62626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-228240"/>
            <a:ext cx="7696080" cy="134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79280" y="836280"/>
            <a:ext cx="878544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F22FC-2C03-44AD-A3EE-76693EAE3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-228240"/>
            <a:ext cx="7696080" cy="134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79280" y="836280"/>
            <a:ext cx="428724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1440" y="836280"/>
            <a:ext cx="428724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11348-6D02-4DE1-AD02-A0C7FDE5B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-228240"/>
            <a:ext cx="7696080" cy="134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F7FED-4F11-49EE-975C-FB4191061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-228240"/>
            <a:ext cx="7696080" cy="62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A65CD-1BA7-4BD0-AAAB-D68FCDCB2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-228240"/>
            <a:ext cx="7696080" cy="134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9280" y="836280"/>
            <a:ext cx="42872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836280"/>
            <a:ext cx="428724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9280" y="3732840"/>
            <a:ext cx="42872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929A9-D6CE-44CB-8F32-99B512DBD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-228240"/>
            <a:ext cx="7696080" cy="134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9280" y="836280"/>
            <a:ext cx="428724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1440" y="836280"/>
            <a:ext cx="42872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81440" y="3732840"/>
            <a:ext cx="42872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7EFC8-A752-4C0F-94E6-29889D430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-228240"/>
            <a:ext cx="7696080" cy="134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79280" y="836280"/>
            <a:ext cx="42872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1440" y="836280"/>
            <a:ext cx="42872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79280" y="3732840"/>
            <a:ext cx="87854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252FE-9E29-4353-A6BF-97E917BD7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41920" y="104760"/>
            <a:ext cx="183960" cy="426960"/>
          </a:xfrm>
          <a:prstGeom prst="rect">
            <a:avLst/>
          </a:prstGeom>
          <a:solidFill>
            <a:srgbClr val="fff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79280" y="836640"/>
            <a:ext cx="8785440" cy="55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994200" y="257040"/>
            <a:ext cx="183960" cy="427320"/>
          </a:xfrm>
          <a:prstGeom prst="rect">
            <a:avLst/>
          </a:prstGeom>
          <a:solidFill>
            <a:srgbClr val="fff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31920" y="988920"/>
            <a:ext cx="8785080" cy="55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79280" y="6477120"/>
            <a:ext cx="8496360" cy="0"/>
          </a:xfrm>
          <a:prstGeom prst="line">
            <a:avLst/>
          </a:prstGeom>
          <a:ln w="4428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79280" y="476280"/>
            <a:ext cx="8785440" cy="0"/>
          </a:xfrm>
          <a:prstGeom prst="line">
            <a:avLst/>
          </a:prstGeom>
          <a:ln w="4428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-228240"/>
            <a:ext cx="7696080" cy="1341000"/>
          </a:xfrm>
          <a:prstGeom prst="rect">
            <a:avLst/>
          </a:prstGeom>
          <a:solidFill>
            <a:srgbClr val="ffffd9"/>
          </a:solidFill>
          <a:ln w="0">
            <a:noFill/>
          </a:ln>
        </p:spPr>
        <p:txBody>
          <a:bodyPr lIns="90000" rIns="9000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-76680" y="6315120"/>
            <a:ext cx="1684440" cy="39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Schoolbook"/>
              </a:rPr>
              <a:t>&lt;date/time&gt;</a:t>
            </a:r>
            <a:r>
              <a:rPr b="0" lang="en-US" sz="1200" spc="-1" strike="noStrike">
                <a:solidFill>
                  <a:srgbClr val="000000"/>
                </a:solidFill>
                <a:latin typeface="Century Schoolbook"/>
              </a:rPr>
              <a:t>28 June 200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990720" y="6462720"/>
            <a:ext cx="7315200" cy="2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400" spc="-1" strike="noStrike">
                <a:solidFill>
                  <a:srgbClr val="000000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entury Schoolbook"/>
              </a:rPr>
              <a:t>&lt;footer&gt;</a:t>
            </a:r>
            <a:r>
              <a:rPr b="1" lang="en-GB" sz="1400" spc="-1" strike="noStrike">
                <a:solidFill>
                  <a:srgbClr val="000000"/>
                </a:solidFill>
                <a:latin typeface="Century Schoolbook"/>
              </a:rPr>
              <a:t>ATLAS  SCT/Pixel TIM FDR/PRR  Martin Postranecky: TTCrm/TTCrq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" descr=""/>
          <p:cNvPicPr/>
          <p:nvPr/>
        </p:nvPicPr>
        <p:blipFill>
          <a:blip r:embed="rId2"/>
          <a:stretch/>
        </p:blipFill>
        <p:spPr>
          <a:xfrm>
            <a:off x="8720280" y="6343560"/>
            <a:ext cx="315720" cy="385920"/>
          </a:xfrm>
          <a:prstGeom prst="rect">
            <a:avLst/>
          </a:prstGeom>
          <a:ln w="0">
            <a:noFill/>
          </a:ln>
        </p:spPr>
      </p:pic>
      <p:sp>
        <p:nvSpPr>
          <p:cNvPr id="10" name=""/>
          <p:cNvSpPr txBox="1"/>
          <p:nvPr/>
        </p:nvSpPr>
        <p:spPr>
          <a:xfrm>
            <a:off x="8310600" y="6561000"/>
            <a:ext cx="390600" cy="13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4549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33cccc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HEP</a:t>
            </a:r>
            <a:endParaRPr b="1" lang="en-US" sz="12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33cccc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body"/>
          </p:nvPr>
        </p:nvSpPr>
        <p:spPr>
          <a:xfrm>
            <a:off x="179280" y="836280"/>
            <a:ext cx="878544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7848360" y="6462720"/>
            <a:ext cx="685800" cy="2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C37F9-40E0-4FBF-A139-673EFF4939C6}" type="slidenum">
              <a:rPr b="0" lang="en-US" sz="1400" spc="-1" strike="noStrike">
                <a:solidFill>
                  <a:srgbClr val="000000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027160" y="4653000"/>
            <a:ext cx="48913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Century Schoolbook"/>
              </a:rPr>
              <a:t>ATLAS  SCT/Pixel  TIM  FDR/PR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entury Schoolbook"/>
              </a:rPr>
              <a:t>28 June 20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625840" y="2443320"/>
            <a:ext cx="3746520" cy="853560"/>
          </a:xfrm>
          <a:prstGeom prst="rect">
            <a:avLst/>
          </a:prstGeom>
          <a:solidFill>
            <a:srgbClr val="fff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hysics &amp; Astronomy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EP Electron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236000" y="189000"/>
            <a:ext cx="1657080" cy="17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042920" y="5679000"/>
            <a:ext cx="6912000" cy="459720"/>
          </a:xfrm>
          <a:prstGeom prst="rect">
            <a:avLst/>
          </a:prstGeom>
          <a:solidFill>
            <a:srgbClr val="fff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hn Lane, Martin Postranecky, Matthew War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0920" y="6308640"/>
            <a:ext cx="8642160" cy="0"/>
          </a:xfrm>
          <a:prstGeom prst="line">
            <a:avLst/>
          </a:prstGeom>
          <a:ln w="4428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08000" y="6324480"/>
            <a:ext cx="9036000" cy="476280"/>
          </a:xfrm>
          <a:prstGeom prst="rect">
            <a:avLst/>
          </a:prstGeom>
          <a:solidFill>
            <a:srgbClr val="fff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39640" y="3573360"/>
            <a:ext cx="792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TTCrm  versus  TTCrq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780000" y="620640"/>
            <a:ext cx="1420560" cy="1728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80D2B-66B4-40A0-89BE-C44D0E8ED09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153280" cy="487800"/>
          </a:xfrm>
          <a:prstGeom prst="rect">
            <a:avLst/>
          </a:prstGeom>
          <a:solidFill>
            <a:srgbClr val="ffffd9"/>
          </a:solidFill>
          <a:ln w="0">
            <a:noFill/>
          </a:ln>
        </p:spPr>
        <p:txBody>
          <a:bodyPr lIns="90000" rIns="9000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Arial Black"/>
              </a:rPr>
              <a:t>TTCrq CLOCK JITTER OBSERVED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33520" y="914400"/>
            <a:ext cx="797400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 to 200 ps peak-to-peak on CLOCK40DES1 output pin ( with QPLL selected and locked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en running with continuous L1A triggers, the QPLL looses lock repeatedly ( about once every 15 triggers received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NOTE :</a:t>
            </a:r>
            <a:r>
              <a:rPr b="1" i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The TTCrq module used in these tests was an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untested sample on loan to UC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Our clock runs at 40.08 MHz, which should be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inside the locking range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F8AE1-4BEC-46CE-9258-8FD00311B75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212760"/>
            <a:ext cx="4876560" cy="549360"/>
          </a:xfrm>
          <a:prstGeom prst="rect">
            <a:avLst/>
          </a:prstGeom>
          <a:solidFill>
            <a:srgbClr val="ffffd9"/>
          </a:solidFill>
          <a:ln w="0">
            <a:noFill/>
          </a:ln>
        </p:spPr>
        <p:txBody>
          <a:bodyPr lIns="90000" rIns="9000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ff"/>
                </a:solidFill>
                <a:latin typeface="Arial Black"/>
              </a:rPr>
              <a:t>TTCrq Clock Jit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685800" y="914400"/>
            <a:ext cx="6095880" cy="45720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6934320" y="3200400"/>
            <a:ext cx="1981080" cy="18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CLOCK40DES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500pS/di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Delay 10uSe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Jitter ~ 200pS p-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B443B-7168-426A-AF60-F989645D53A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7696080" cy="487800"/>
          </a:xfrm>
          <a:prstGeom prst="rect">
            <a:avLst/>
          </a:prstGeom>
          <a:solidFill>
            <a:srgbClr val="ffffd9"/>
          </a:solidFill>
          <a:ln w="0">
            <a:noFill/>
          </a:ln>
        </p:spPr>
        <p:txBody>
          <a:bodyPr lIns="90000" rIns="9000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ff"/>
                </a:solidFill>
                <a:latin typeface="Arial Black"/>
              </a:rPr>
              <a:t>TTCrq – Jitter on Backpla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609480" y="914400"/>
            <a:ext cx="6096240" cy="45720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6858000" y="2830680"/>
            <a:ext cx="2057400" cy="18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cccc"/>
                </a:solidFill>
                <a:latin typeface="Arial"/>
              </a:rPr>
              <a:t>PCLKB out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500pS/di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Delay = 10uSe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Jitter ~ 300pS p-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75F5C-AB50-4CB2-B6BC-0FF3028DB4F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68120"/>
            <a:ext cx="7696080" cy="549360"/>
          </a:xfrm>
          <a:prstGeom prst="rect">
            <a:avLst/>
          </a:prstGeom>
          <a:solidFill>
            <a:srgbClr val="ffffd9"/>
          </a:solidFill>
          <a:ln w="0">
            <a:noFill/>
          </a:ln>
        </p:spPr>
        <p:txBody>
          <a:bodyPr lIns="90000" rIns="9000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ff"/>
                </a:solidFill>
                <a:latin typeface="Arial Black"/>
              </a:rPr>
              <a:t>Clock Del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685800" y="1066680"/>
            <a:ext cx="6095880" cy="45720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6935760" y="2844720"/>
            <a:ext cx="16560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CLOCK40DES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cccc"/>
                </a:solidFill>
                <a:latin typeface="Arial"/>
              </a:rPr>
              <a:t>PCLK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936840" y="4937040"/>
            <a:ext cx="132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Delay ~ 8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DA65B-F908-42FD-9582-25D0D291AFA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8080" y="168120"/>
            <a:ext cx="4724640" cy="549360"/>
          </a:xfrm>
          <a:prstGeom prst="rect">
            <a:avLst/>
          </a:prstGeom>
          <a:solidFill>
            <a:srgbClr val="ffffd9"/>
          </a:solidFill>
          <a:ln w="0">
            <a:noFill/>
          </a:ln>
        </p:spPr>
        <p:txBody>
          <a:bodyPr lIns="90000" rIns="9000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ff"/>
                </a:solidFill>
                <a:latin typeface="Arial Black"/>
              </a:rPr>
              <a:t>CONCLUSION 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988560"/>
            <a:ext cx="8202600" cy="48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M-3B modified so that it will accept and run with either TTCrm or TTCrq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dditional inputs and outputs on TTCrq connector J3 are connected to FPGA-2 to allow control and use of QPLL if requi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tra 7mm tall spacers required on all TTCrq connector pins for backward compatibility to TTC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4BE85-FB0C-4185-A9C6-7FD60E4BF01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68120"/>
            <a:ext cx="3733920" cy="549360"/>
          </a:xfrm>
          <a:prstGeom prst="rect">
            <a:avLst/>
          </a:prstGeom>
          <a:solidFill>
            <a:srgbClr val="ffffd9"/>
          </a:solidFill>
          <a:ln w="0">
            <a:noFill/>
          </a:ln>
        </p:spPr>
        <p:txBody>
          <a:bodyPr lIns="90000" rIns="9000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ff"/>
                </a:solidFill>
                <a:latin typeface="Arial Black"/>
              </a:rPr>
              <a:t>TTCr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1760" y="914040"/>
            <a:ext cx="7543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iginally selected as the TTCrx mezzanine board to be used on TIM-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ses 2 connectors J1 and J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ust fits on single-width bo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ff"/>
                </a:solidFill>
                <a:uFillTx/>
                <a:latin typeface="Arial"/>
              </a:rPr>
              <a:t>But last year reported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tential Phase Shift of the clock output of up to 400 ps, depending on the activity on the commands channel 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tential increased clock jitter up to</a:t>
            </a:r>
            <a:r>
              <a:rPr b="1" lang="en-US" sz="2800" spc="-1" strike="noStrike">
                <a:solidFill>
                  <a:srgbClr val="ff505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50-200ps RMS on the TTCrm clock outpu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83BFA-1D72-4C74-9E5B-78E00218D47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7720" y="168120"/>
            <a:ext cx="3048120" cy="549360"/>
          </a:xfrm>
          <a:prstGeom prst="rect">
            <a:avLst/>
          </a:prstGeom>
          <a:solidFill>
            <a:srgbClr val="ffffd9"/>
          </a:solidFill>
          <a:ln w="0">
            <a:noFill/>
          </a:ln>
        </p:spPr>
        <p:txBody>
          <a:bodyPr lIns="90000" rIns="9000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ff"/>
                </a:solidFill>
                <a:latin typeface="Arial Black"/>
              </a:rPr>
              <a:t>TTCrq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3520" y="914400"/>
            <a:ext cx="79740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itional QPLL reduces this potential jitter from TTCrx chip to about  50 ps peak-to-p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PLL has narrow locking range of 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+/- 3.7 kHz around 40.0786 MHz ( &lt; +/-100 ppm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TCrq board requires one additional connector J3 for the QPLL inputs/outputs ( in addition to the J1 &amp; J2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mm tall spacers on all connectors required for backward compatibility with TTCr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 u="sng">
                <a:solidFill>
                  <a:srgbClr val="0000ff"/>
                </a:solidFill>
                <a:uFillTx/>
                <a:latin typeface="Arial"/>
              </a:rPr>
              <a:t>Ref :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 http://ttc.web.cern.ch/TTC/TTCrqSpec.p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         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http://proj-qpll.web.cern.ch/proj-qpll/images/manualTTCrq.p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A0DDC-6FDB-45EE-96D7-377827546E4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5334120" y="1319040"/>
            <a:ext cx="3217680" cy="40150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762120" y="1201680"/>
            <a:ext cx="4003560" cy="390384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838080" y="5927760"/>
            <a:ext cx="396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 Black"/>
              </a:rPr>
              <a:t>TTC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410080" y="5562720"/>
            <a:ext cx="2971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410080" y="592776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 Black"/>
              </a:rPr>
              <a:t>TTCr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838080" y="5302080"/>
            <a:ext cx="388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J1 ( below )</a:t>
            </a: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       J2 ( below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029200" y="5302080"/>
            <a:ext cx="388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J2 ( top )            </a:t>
            </a: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       J1 ( top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791320" y="6541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J3 ( top 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038480" y="49528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 flipV="1">
            <a:off x="4114440" y="3962520"/>
            <a:ext cx="228600" cy="137160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5486400" y="4114440"/>
            <a:ext cx="152280" cy="114300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 flipV="1">
            <a:off x="8229240" y="4114440"/>
            <a:ext cx="152280" cy="114300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1219320" y="4038120"/>
            <a:ext cx="228600" cy="121932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781680" y="990720"/>
            <a:ext cx="152640" cy="53316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160" y="105480"/>
            <a:ext cx="5800680" cy="670680"/>
          </a:xfrm>
          <a:prstGeom prst="rect">
            <a:avLst/>
          </a:prstGeom>
          <a:solidFill>
            <a:srgbClr val="ffffd9"/>
          </a:solidFill>
          <a:ln w="0">
            <a:noFill/>
          </a:ln>
        </p:spPr>
        <p:txBody>
          <a:bodyPr lIns="90000" rIns="9000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ff"/>
                </a:solidFill>
                <a:latin typeface="Arial Black"/>
              </a:rPr>
              <a:t>TTCrm  versus  TTCrq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5D882-00B0-4E0E-B445-74E98B4704D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41360" y="105480"/>
            <a:ext cx="5927760" cy="670680"/>
          </a:xfrm>
          <a:prstGeom prst="rect">
            <a:avLst/>
          </a:prstGeom>
          <a:solidFill>
            <a:srgbClr val="ffffd9"/>
          </a:solidFill>
          <a:ln w="0">
            <a:noFill/>
          </a:ln>
        </p:spPr>
        <p:txBody>
          <a:bodyPr lIns="90000" rIns="9000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TCrm  versus  TTCrq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 rot="5400000">
            <a:off x="1798560" y="-1874880"/>
            <a:ext cx="7559640" cy="10699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36B55-748B-49F9-BA54-DFF26326A8A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483840" y="836640"/>
            <a:ext cx="8202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 to 400 ps peak-to-peak on CLOCK40DES1 output pin J1 pin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ase shift of clock seen when running with continuous L1A trigg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ff"/>
                </a:solidFill>
                <a:uFillTx/>
                <a:latin typeface="Arial"/>
              </a:rPr>
              <a:t>NOTE :</a:t>
            </a: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Jitter on CLOCK40DES1 on J1 pin 2,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triggering on the raising edge of clock,  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at about +1V trigger threshold, and about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10 usec  (  = 400 clocks ) from trigger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Scope set to infinite persist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title"/>
          </p:nvPr>
        </p:nvSpPr>
        <p:spPr>
          <a:xfrm>
            <a:off x="380880" y="198360"/>
            <a:ext cx="8305920" cy="487800"/>
          </a:xfrm>
          <a:prstGeom prst="rect">
            <a:avLst/>
          </a:prstGeom>
          <a:solidFill>
            <a:srgbClr val="ffffd9"/>
          </a:solidFill>
          <a:ln w="0">
            <a:noFill/>
          </a:ln>
        </p:spPr>
        <p:txBody>
          <a:bodyPr lIns="90000" rIns="9000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Arial Black"/>
              </a:rPr>
              <a:t>TTCrm  CLOCK JITTER OBSERVED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79BEB-7CC4-441C-9B14-2ED5E7063E5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5334120" cy="549360"/>
          </a:xfrm>
          <a:prstGeom prst="rect">
            <a:avLst/>
          </a:prstGeom>
          <a:solidFill>
            <a:srgbClr val="ffffd9"/>
          </a:solidFill>
          <a:ln w="0">
            <a:noFill/>
          </a:ln>
        </p:spPr>
        <p:txBody>
          <a:bodyPr lIns="90000" rIns="9000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ff"/>
                </a:solidFill>
                <a:latin typeface="Arial Black"/>
              </a:rPr>
              <a:t>TTCrm  Clock Jit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380880" y="1143000"/>
            <a:ext cx="6096240" cy="45720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6704280" y="3195720"/>
            <a:ext cx="201564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CLOCK40DES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ig. not ru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200pS/di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Delay 10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Jitter ~ 400pS p-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D5253-266D-4CD3-846E-AC8311646C2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85800" y="228600"/>
            <a:ext cx="5334120" cy="549000"/>
          </a:xfrm>
          <a:prstGeom prst="rect">
            <a:avLst/>
          </a:prstGeom>
          <a:solidFill>
            <a:srgbClr val="fff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ff"/>
                </a:solidFill>
                <a:latin typeface="Arial Black"/>
              </a:rPr>
              <a:t>TTCrm  Clock Jit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380880" y="1019160"/>
            <a:ext cx="6096240" cy="4572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6709680" y="3195720"/>
            <a:ext cx="189216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CLOCK40DES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igger ru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4.0nS/di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Delay 10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Clock Phase Shi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34230-860B-4CA8-9328-C5EA08BAB4A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68120"/>
            <a:ext cx="7696080" cy="549360"/>
          </a:xfrm>
          <a:prstGeom prst="rect">
            <a:avLst/>
          </a:prstGeom>
          <a:solidFill>
            <a:srgbClr val="ffffd9"/>
          </a:solidFill>
          <a:ln w="0">
            <a:noFill/>
          </a:ln>
        </p:spPr>
        <p:txBody>
          <a:bodyPr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ff"/>
                </a:solidFill>
                <a:latin typeface="Arial Black"/>
              </a:rPr>
              <a:t>TTCrm  Clock Jit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709680" y="3195720"/>
            <a:ext cx="1892160" cy="23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CLOCK40DES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igger ru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200pS/di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Delay 10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Jitter ~400pS p-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Clock Phase Shi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380880" y="1322280"/>
            <a:ext cx="6096240" cy="4572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937D9-01B2-451F-8100-E25E88708B1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7T11:44:35Z</dcterms:created>
  <dc:creator>mp</dc:creator>
  <dc:description/>
  <dc:language>en-US</dc:language>
  <cp:lastModifiedBy>mp</cp:lastModifiedBy>
  <dcterms:modified xsi:type="dcterms:W3CDTF">2004-06-22T08:54:45Z</dcterms:modified>
  <cp:revision>30</cp:revision>
  <dc:subject/>
  <dc:title>TTCrm versus TTCrq</dc:title>
</cp:coreProperties>
</file>